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3016250" cy="45640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310A-2D03-4824-90CD-98A2C76B0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9F52-5C58-409B-8E28-3FAC741F0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4E5C-67EE-459B-897E-2D4C89038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0806-685D-4162-8485-A44809F8F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BEDA-979C-4F35-8FD2-1AE811553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181E-AC06-49CE-98DC-04FE1B071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10DA-43E5-4EB3-A688-4CD9F0F1C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F54C-08AF-4643-B9C1-E7D85530B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8120-AF4D-492C-A5D8-95DCFDF29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5DBC-00D5-4656-9EA4-480979E7E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A705-0010-49DC-9EA7-1BBA8E4E7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448C-4B5C-40A2-B858-DEF9FFAA1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04EF9-2E3E-4C7A-B015-2F15B2D8DD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5.xml"/><Relationship Id="rId7" Type="http://schemas.openxmlformats.org/officeDocument/2006/relationships/slide" Target="slide5.xml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image" Target="../media/image1.png"/><Relationship Id="rId28" Type="http://schemas.openxmlformats.org/officeDocument/2006/relationships/image" Target="../media/image1.png"/><Relationship Id="rId29" Type="http://schemas.openxmlformats.org/officeDocument/2006/relationships/image" Target="../media/image1.png"/><Relationship Id="rId30" Type="http://schemas.openxmlformats.org/officeDocument/2006/relationships/image" Target="../media/image1.png"/><Relationship Id="rId31" Type="http://schemas.openxmlformats.org/officeDocument/2006/relationships/image" Target="../media/image1.png"/><Relationship Id="rId32" Type="http://schemas.openxmlformats.org/officeDocument/2006/relationships/image" Target="../media/image1.png"/><Relationship Id="rId33" Type="http://schemas.openxmlformats.org/officeDocument/2006/relationships/image" Target="../media/image1.png"/><Relationship Id="rId34" Type="http://schemas.openxmlformats.org/officeDocument/2006/relationships/image" Target="../media/image1.png"/><Relationship Id="rId35" Type="http://schemas.openxmlformats.org/officeDocument/2006/relationships/image" Target="../media/image1.png"/><Relationship Id="rId36" Type="http://schemas.openxmlformats.org/officeDocument/2006/relationships/image" Target="../media/image1.png"/><Relationship Id="rId37" Type="http://schemas.openxmlformats.org/officeDocument/2006/relationships/image" Target="../media/image1.png"/><Relationship Id="rId38" Type="http://schemas.openxmlformats.org/officeDocument/2006/relationships/image" Target="../media/image1.png"/><Relationship Id="rId39" Type="http://schemas.openxmlformats.org/officeDocument/2006/relationships/image" Target="../media/image1.png"/><Relationship Id="rId40" Type="http://schemas.openxmlformats.org/officeDocument/2006/relationships/image" Target="../media/image1.png"/><Relationship Id="rId41" Type="http://schemas.openxmlformats.org/officeDocument/2006/relationships/image" Target="../media/image1.png"/><Relationship Id="rId42" Type="http://schemas.openxmlformats.org/officeDocument/2006/relationships/image" Target="../media/image1.png"/><Relationship Id="rId43" Type="http://schemas.openxmlformats.org/officeDocument/2006/relationships/image" Target="../media/image1.png"/><Relationship Id="rId44" Type="http://schemas.openxmlformats.org/officeDocument/2006/relationships/image" Target="../media/image1.png"/><Relationship Id="rId45" Type="http://schemas.openxmlformats.org/officeDocument/2006/relationships/image" Target="../media/image1.png"/><Relationship Id="rId46" Type="http://schemas.openxmlformats.org/officeDocument/2006/relationships/image" Target="../media/image1.png"/><Relationship Id="rId47" Type="http://schemas.openxmlformats.org/officeDocument/2006/relationships/image" Target="../media/image1.png"/><Relationship Id="rId48" Type="http://schemas.openxmlformats.org/officeDocument/2006/relationships/image" Target="../media/image1.png"/><Relationship Id="rId49" Type="http://schemas.openxmlformats.org/officeDocument/2006/relationships/image" Target="../media/image1.png"/><Relationship Id="rId50" Type="http://schemas.openxmlformats.org/officeDocument/2006/relationships/image" Target="../media/image1.png"/><Relationship Id="rId51" Type="http://schemas.openxmlformats.org/officeDocument/2006/relationships/image" Target="../media/image1.png"/><Relationship Id="rId52" Type="http://schemas.openxmlformats.org/officeDocument/2006/relationships/image" Target="../media/image1.png"/><Relationship Id="rId5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20840" y="2467080"/>
            <a:ext cx="8280360" cy="2336040"/>
          </a:xfrm>
          <a:prstGeom prst="rect">
            <a:avLst/>
          </a:prstGeom>
          <a:noFill/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a50021"/>
                </a:solidFill>
                <a:latin typeface="Book Antiqua"/>
              </a:rPr>
              <a:t>СТАТИЧЕСКИ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a50021"/>
                </a:solidFill>
                <a:latin typeface="Book Antiqua"/>
              </a:rPr>
              <a:t>НЕОПРЕДЕЛИМЫЕ СИСТЕМ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9680" y="260280"/>
            <a:ext cx="8280360" cy="24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1" lang="ru-RU" sz="5400" spc="-1" strike="noStrike">
                <a:solidFill>
                  <a:srgbClr val="333399"/>
                </a:solidFill>
                <a:latin typeface="New_Zelek"/>
              </a:rPr>
              <a:t>С</a:t>
            </a:r>
            <a:r>
              <a:rPr b="1" lang="ru-RU" sz="4400" spc="-1" strike="noStrike">
                <a:solidFill>
                  <a:srgbClr val="333399"/>
                </a:solidFill>
                <a:latin typeface="New_Zelek"/>
              </a:rPr>
              <a:t>ТРОИТЕЛЬНАЯ МЕХА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New_Zelek"/>
              </a:rPr>
              <a:t>Ч</a:t>
            </a:r>
            <a:r>
              <a:rPr b="1" lang="ru-RU" sz="4400" spc="-1" strike="noStrike">
                <a:solidFill>
                  <a:srgbClr val="333399"/>
                </a:solidFill>
                <a:latin typeface="New_Zelek"/>
              </a:rPr>
              <a:t>асть </a:t>
            </a:r>
            <a:r>
              <a:rPr b="1" lang="en-US" sz="5400" spc="-1" strike="noStrike">
                <a:solidFill>
                  <a:srgbClr val="333399"/>
                </a:solidFill>
                <a:latin typeface="New_Zelek"/>
              </a:rPr>
              <a:t>i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 rot="5400000">
            <a:off x="417240" y="176040"/>
            <a:ext cx="405000" cy="668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c4b596"/>
                  </a:solidFill>
                  <a:miter/>
                </a:ln>
                <a:solidFill>
                  <a:srgbClr val="993366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С</a:t>
            </a:r>
            <a:endParaRPr b="1" lang="en-US" sz="1800" spc="1" strike="noStrike">
              <a:ln w="12600">
                <a:solidFill>
                  <a:srgbClr val="c4b596"/>
                </a:solidFill>
                <a:miter/>
              </a:ln>
              <a:solidFill>
                <a:srgbClr val="993366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39640" y="371520"/>
            <a:ext cx="287280" cy="2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ВГ</a:t>
            </a:r>
            <a:endParaRPr b="1" lang="en-US" sz="1800" spc="1" strike="noStrike">
              <a:ln w="936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7600" y="4869000"/>
            <a:ext cx="828036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1" lang="en-US" sz="4800" spc="-1" strike="noStrike">
                <a:solidFill>
                  <a:srgbClr val="333399"/>
                </a:solidFill>
                <a:latin typeface="Book Antiqua"/>
              </a:rPr>
              <a:t>Расчёт СНС методом си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211640" y="5873760"/>
            <a:ext cx="719280" cy="71928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72120" y="5832360"/>
            <a:ext cx="93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">
            <a:hlinkClick r:id="" action="ppaction://hlinkshowjump?jump=nextslide"/>
          </p:cNvPr>
          <p:cNvSpPr/>
          <p:nvPr/>
        </p:nvSpPr>
        <p:spPr>
          <a:xfrm>
            <a:off x="324000" y="260280"/>
            <a:ext cx="8497800" cy="5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 Black"/>
              </a:rPr>
              <a:t>ИСПОЛЬЗОВАНИЕ ГРУППОВЫХ ОСНОВНЫХ НЕИЗВЕСТ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 Black"/>
              </a:rPr>
              <a:t>В РАСЧЁТАХ СИММЕТРИЧНЫХ СН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900000" y="2173320"/>
            <a:ext cx="273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684360" y="2173320"/>
            <a:ext cx="35856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1020600" y="222408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900000" y="2401920"/>
            <a:ext cx="252360" cy="73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903240" y="240192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990720" y="2362320"/>
            <a:ext cx="712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982800" y="2185920"/>
            <a:ext cx="7128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3429000" y="22114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3308400" y="2389320"/>
            <a:ext cx="252360" cy="72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3311640" y="238932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3398760" y="2349360"/>
            <a:ext cx="7164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3390840" y="217332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3492360" y="2173320"/>
            <a:ext cx="35892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 flipV="1">
            <a:off x="5335560" y="219204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 flipV="1">
            <a:off x="7740720" y="217656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7715160" y="2440080"/>
            <a:ext cx="457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5326200" y="2392200"/>
            <a:ext cx="460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4356000" y="808200"/>
            <a:ext cx="431964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Основная система с исходными основными неизвестными 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ru-RU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ru-RU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]</a:t>
            </a:r>
            <a:r>
              <a:rPr b="1" lang="ru-RU" sz="1600" spc="-1" strike="noStrike" baseline="30000">
                <a:solidFill>
                  <a:srgbClr val="000000"/>
                </a:solidFill>
                <a:latin typeface="Times New Roman"/>
              </a:rPr>
              <a:t>т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250920" y="2997360"/>
            <a:ext cx="432108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Связь между исходными неизвестными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и  новыми (групповыми) неизвестными    </a:t>
            </a: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3" name=""/>
              <p:cNvSpPr txBox="1"/>
              <p:nvPr/>
            </p:nvSpPr>
            <p:spPr>
              <a:xfrm>
                <a:off x="4087800" y="3235320"/>
                <a:ext cx="29988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4" name=""/>
              <p:cNvSpPr txBox="1"/>
              <p:nvPr/>
            </p:nvSpPr>
            <p:spPr>
              <a:xfrm>
                <a:off x="1042920" y="5462640"/>
                <a:ext cx="265284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η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i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η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k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η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ki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η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kk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s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-1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0,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   0,5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0,5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,5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35" name=""/>
          <p:cNvSpPr/>
          <p:nvPr/>
        </p:nvSpPr>
        <p:spPr>
          <a:xfrm>
            <a:off x="395280" y="4570560"/>
            <a:ext cx="403236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Матрицы линейного преобразования неизвестных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4500720" y="3017880"/>
            <a:ext cx="395892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Arial Narrow"/>
              </a:rPr>
              <a:t>Новые (групповые) основные неизвестны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8" name=""/>
              <p:cNvSpPr txBox="1"/>
              <p:nvPr/>
            </p:nvSpPr>
            <p:spPr>
              <a:xfrm>
                <a:off x="5186520" y="3332160"/>
                <a:ext cx="41724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9" name=""/>
              <p:cNvSpPr txBox="1"/>
              <p:nvPr/>
            </p:nvSpPr>
            <p:spPr>
              <a:xfrm>
                <a:off x="5154480" y="4487760"/>
                <a:ext cx="441360" cy="4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0" name=""/>
              <p:cNvSpPr txBox="1"/>
              <p:nvPr/>
            </p:nvSpPr>
            <p:spPr>
              <a:xfrm>
                <a:off x="1066680" y="4836960"/>
                <a:ext cx="23655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η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~"/>
                                    </m:accPr>
                                    <m:e>
                                      <m:r>
                                        <m:t xml:space="preserve">η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i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acc>
                                    <m:accPr>
                                      <m:chr m:val="~"/>
                                    </m:accPr>
                                    <m:e>
                                      <m:r>
                                        <m:t xml:space="preserve">η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k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~"/>
                                    </m:accPr>
                                    <m:e>
                                      <m:r>
                                        <m:t xml:space="preserve">η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ki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acc>
                                    <m:accPr>
                                      <m:chr m:val="~"/>
                                    </m:accPr>
                                    <m:e>
                                      <m:r>
                                        <m:t xml:space="preserve">η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kk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 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    1 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 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 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η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1" name=""/>
              <p:cNvSpPr txBox="1"/>
              <p:nvPr/>
            </p:nvSpPr>
            <p:spPr>
              <a:xfrm>
                <a:off x="946080" y="3971880"/>
                <a:ext cx="2782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η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η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η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η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k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42" name=""/>
          <p:cNvSpPr/>
          <p:nvPr/>
        </p:nvSpPr>
        <p:spPr>
          <a:xfrm flipH="1" rot="10838400">
            <a:off x="1979280" y="5381280"/>
            <a:ext cx="719280" cy="206280"/>
          </a:xfrm>
          <a:prstGeom prst="triangle">
            <a:avLst>
              <a:gd name="adj" fmla="val 50000"/>
            </a:avLst>
          </a:prstGeom>
          <a:solidFill>
            <a:srgbClr val="8fcc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1619280" y="3614760"/>
            <a:ext cx="1249200" cy="360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1809720" y="6145200"/>
            <a:ext cx="1224000" cy="37944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5" name=""/>
              <p:cNvSpPr txBox="1"/>
              <p:nvPr/>
            </p:nvSpPr>
            <p:spPr>
              <a:xfrm>
                <a:off x="1835280" y="6197760"/>
                <a:ext cx="115092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η </m:t>
                    </m:r>
                    <m:r>
                      <m:t xml:space="preserve">)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6" name=""/>
              <p:cNvSpPr txBox="1"/>
              <p:nvPr/>
            </p:nvSpPr>
            <p:spPr>
              <a:xfrm>
                <a:off x="1692360" y="3603600"/>
                <a:ext cx="105408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η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14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1662120" y="1787400"/>
            <a:ext cx="0" cy="93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2843280" y="1812960"/>
            <a:ext cx="0" cy="93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1663560" y="159876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2843280" y="159876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1663560" y="268776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2843280" y="270828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2233440" y="1454040"/>
            <a:ext cx="0" cy="144000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2181240" y="1389240"/>
            <a:ext cx="108000" cy="252360"/>
          </a:xfrm>
          <a:custGeom>
            <a:avLst/>
            <a:gdLst/>
            <a:ahLst/>
            <a:rect l="l" t="t" r="r" b="b"/>
            <a:pathLst>
              <a:path w="91" h="136">
                <a:moveTo>
                  <a:pt x="0" y="136"/>
                </a:moveTo>
                <a:lnTo>
                  <a:pt x="46" y="0"/>
                </a:lnTo>
                <a:lnTo>
                  <a:pt x="91" y="13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2050920" y="132732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5221440" y="2173320"/>
            <a:ext cx="273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5005440" y="2173320"/>
            <a:ext cx="35856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5342040" y="222408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5221440" y="2401920"/>
            <a:ext cx="252360" cy="73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5224320" y="2401920"/>
            <a:ext cx="252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5311800" y="2362320"/>
            <a:ext cx="712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5303880" y="2185920"/>
            <a:ext cx="7128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7750080" y="22114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7629480" y="2389320"/>
            <a:ext cx="252360" cy="72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7632720" y="238932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7719840" y="2349360"/>
            <a:ext cx="7164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7711920" y="217332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7813800" y="2173320"/>
            <a:ext cx="35856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5983200" y="1787400"/>
            <a:ext cx="0" cy="93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7164360" y="1812960"/>
            <a:ext cx="0" cy="93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5985000" y="159876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7164360" y="159876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5985000" y="268776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7164360" y="270828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6554880" y="1454040"/>
            <a:ext cx="0" cy="144000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6502320" y="1389240"/>
            <a:ext cx="108000" cy="252360"/>
          </a:xfrm>
          <a:custGeom>
            <a:avLst/>
            <a:gdLst/>
            <a:ahLst/>
            <a:rect l="l" t="t" r="r" b="b"/>
            <a:pathLst>
              <a:path w="91" h="136">
                <a:moveTo>
                  <a:pt x="0" y="136"/>
                </a:moveTo>
                <a:lnTo>
                  <a:pt x="46" y="0"/>
                </a:lnTo>
                <a:lnTo>
                  <a:pt x="91" y="13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6372360" y="132732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 flipV="1">
            <a:off x="5334120" y="3686040"/>
            <a:ext cx="0" cy="4320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 flipV="1">
            <a:off x="7738920" y="3682800"/>
            <a:ext cx="1800" cy="4330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5219640" y="4130640"/>
            <a:ext cx="273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5003640" y="4130640"/>
            <a:ext cx="35892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7812000" y="4130640"/>
            <a:ext cx="35892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5981760" y="3745080"/>
            <a:ext cx="0" cy="93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7162920" y="3770280"/>
            <a:ext cx="0" cy="93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5983200" y="355608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7162920" y="355608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5983200" y="464508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7162920" y="46656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6553080" y="3411360"/>
            <a:ext cx="0" cy="144000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6500880" y="3346560"/>
            <a:ext cx="108000" cy="252360"/>
          </a:xfrm>
          <a:custGeom>
            <a:avLst/>
            <a:gdLst/>
            <a:ahLst/>
            <a:rect l="l" t="t" r="r" b="b"/>
            <a:pathLst>
              <a:path w="91" h="136">
                <a:moveTo>
                  <a:pt x="0" y="136"/>
                </a:moveTo>
                <a:lnTo>
                  <a:pt x="46" y="0"/>
                </a:lnTo>
                <a:lnTo>
                  <a:pt x="91" y="13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6370560" y="328464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 flipV="1">
            <a:off x="5332320" y="4149360"/>
            <a:ext cx="0" cy="358920"/>
          </a:xfrm>
          <a:prstGeom prst="line">
            <a:avLst/>
          </a:prstGeom>
          <a:ln w="38160">
            <a:solidFill>
              <a:srgbClr val="66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7740720" y="4148280"/>
            <a:ext cx="0" cy="360360"/>
          </a:xfrm>
          <a:prstGeom prst="line">
            <a:avLst/>
          </a:prstGeom>
          <a:ln w="38160">
            <a:solidFill>
              <a:srgbClr val="66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8" name=""/>
              <p:cNvSpPr txBox="1"/>
              <p:nvPr/>
            </p:nvSpPr>
            <p:spPr>
              <a:xfrm>
                <a:off x="7597800" y="3325680"/>
                <a:ext cx="41760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9" name=""/>
              <p:cNvSpPr txBox="1"/>
              <p:nvPr/>
            </p:nvSpPr>
            <p:spPr>
              <a:xfrm>
                <a:off x="7561440" y="4489560"/>
                <a:ext cx="44100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2" dur="indefinite" restart="never" nodeType="tmRoot">
          <p:childTnLst>
            <p:seq>
              <p:cTn id="3843" dur="indefinite" nodeType="mainSeq">
                <p:childTnLst>
                  <p:par>
                    <p:cTn id="3844" fill="hold">
                      <p:stCondLst>
                        <p:cond delay="indefinite"/>
                      </p:stCondLst>
                      <p:childTnLst>
                        <p:par>
                          <p:cTn id="3845" fill="hold">
                            <p:stCondLst>
                              <p:cond delay="0"/>
                            </p:stCondLst>
                            <p:childTnLst>
                              <p:par>
                                <p:cTn id="38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47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50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53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56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59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62" dur="5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65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68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71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74" dur="5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6" fill="hold">
                      <p:stCondLst>
                        <p:cond delay="indefinite"/>
                      </p:stCondLst>
                      <p:childTnLst>
                        <p:par>
                          <p:cTn id="3877" fill="hold">
                            <p:stCondLst>
                              <p:cond delay="0"/>
                            </p:stCondLst>
                            <p:childTnLst>
                              <p:par>
                                <p:cTn id="38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0" dur="10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1" dur="10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2" dur="9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6" dur="10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7" dur="10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8" dur="9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2" dur="10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3" dur="10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4" dur="9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8" dur="10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9" dur="10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0" dur="9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2" fill="hold">
                      <p:stCondLst>
                        <p:cond delay="indefinite"/>
                      </p:stCondLst>
                      <p:childTnLst>
                        <p:par>
                          <p:cTn id="3903" fill="hold">
                            <p:stCondLst>
                              <p:cond delay="0"/>
                            </p:stCondLst>
                            <p:childTnLst>
                              <p:par>
                                <p:cTn id="39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6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9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2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5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8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1" dur="5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4" dur="5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7" dur="5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0" dur="5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3" dur="5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6" dur="5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9" dur="5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2" dur="5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3" fill="hold">
                      <p:stCondLst>
                        <p:cond delay="indefinite"/>
                      </p:stCondLst>
                      <p:childTnLst>
                        <p:par>
                          <p:cTn id="3944" fill="hold">
                            <p:stCondLst>
                              <p:cond delay="0"/>
                            </p:stCondLst>
                            <p:childTnLst>
                              <p:par>
                                <p:cTn id="39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7" dur="10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8" dur="10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9" dur="9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3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4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5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9" dur="10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0" dur="10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1" dur="9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5" dur="10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6" dur="10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7" dur="9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9" fill="hold">
                      <p:stCondLst>
                        <p:cond delay="indefinite"/>
                      </p:stCondLst>
                      <p:childTnLst>
                        <p:par>
                          <p:cTn id="3970" fill="hold">
                            <p:stCondLst>
                              <p:cond delay="0"/>
                            </p:stCondLst>
                            <p:childTnLst>
                              <p:par>
                                <p:cTn id="39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3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6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9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2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3" fill="hold">
                      <p:stCondLst>
                        <p:cond delay="indefinite"/>
                      </p:stCondLst>
                      <p:childTnLst>
                        <p:par>
                          <p:cTn id="3984" fill="hold">
                            <p:stCondLst>
                              <p:cond delay="0"/>
                            </p:stCondLst>
                            <p:childTnLst>
                              <p:par>
                                <p:cTn id="39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7" dur="10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8" dur="10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9" dur="10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2" dur="10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3" dur="10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4" dur="10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7" dur="10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8" dur="10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9" dur="10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2" dur="10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3" dur="10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4" dur="10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5" fill="hold">
                      <p:stCondLst>
                        <p:cond delay="indefinite"/>
                      </p:stCondLst>
                      <p:childTnLst>
                        <p:par>
                          <p:cTn id="4006" fill="hold">
                            <p:stCondLst>
                              <p:cond delay="0"/>
                            </p:stCondLst>
                            <p:childTnLst>
                              <p:par>
                                <p:cTn id="40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9" dur="10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0" dur="10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1" dur="9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3" fill="hold">
                      <p:stCondLst>
                        <p:cond delay="indefinite"/>
                      </p:stCondLst>
                      <p:childTnLst>
                        <p:par>
                          <p:cTn id="4014" fill="hold">
                            <p:stCondLst>
                              <p:cond delay="0"/>
                            </p:stCondLst>
                            <p:childTnLst>
                              <p:par>
                                <p:cTn id="40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7" dur="10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8" dur="10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9" dur="10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2" dur="10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3" dur="10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4" dur="10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5" fill="hold">
                      <p:stCondLst>
                        <p:cond delay="indefinite"/>
                      </p:stCondLst>
                      <p:childTnLst>
                        <p:par>
                          <p:cTn id="4026" fill="hold">
                            <p:stCondLst>
                              <p:cond delay="0"/>
                            </p:stCondLst>
                            <p:childTnLst>
                              <p:par>
                                <p:cTn id="40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9" dur="10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0" dur="10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1" dur="10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4" dur="10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5" dur="10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6" dur="10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7" fill="hold">
                      <p:stCondLst>
                        <p:cond delay="indefinite"/>
                      </p:stCondLst>
                      <p:childTnLst>
                        <p:par>
                          <p:cTn id="4038" fill="hold">
                            <p:stCondLst>
                              <p:cond delay="0"/>
                            </p:stCondLst>
                            <p:childTnLst>
                              <p:par>
                                <p:cTn id="40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1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4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">
            <a:hlinkClick r:id="" action="ppaction://hlinkshowjump?jump=nextslide"/>
          </p:cNvPr>
          <p:cNvSpPr/>
          <p:nvPr/>
        </p:nvSpPr>
        <p:spPr>
          <a:xfrm>
            <a:off x="324000" y="260280"/>
            <a:ext cx="8497800" cy="5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 Black"/>
              </a:rPr>
              <a:t>ИСПОЛЬЗОВАНИЕ ГРУППОВЫХ ОСНОВНЫХ НЕИЗВЕСТ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 Black"/>
              </a:rPr>
              <a:t>В РАСЧЁТАХ СИММЕТРИЧНЫХ СН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900000" y="2173320"/>
            <a:ext cx="273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684360" y="2173320"/>
            <a:ext cx="35856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1020600" y="222408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900000" y="2401920"/>
            <a:ext cx="252360" cy="73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903240" y="240192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990720" y="2362320"/>
            <a:ext cx="712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982800" y="2185920"/>
            <a:ext cx="7128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3429000" y="22114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3308400" y="2389320"/>
            <a:ext cx="252360" cy="72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3311640" y="238932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3398760" y="2349360"/>
            <a:ext cx="7164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3390840" y="217332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3492360" y="2173320"/>
            <a:ext cx="35892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250920" y="2997360"/>
            <a:ext cx="432108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Связь между исходными неизвестными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и  новыми (групповыми) неизвестными    </a:t>
            </a: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6" name=""/>
              <p:cNvSpPr txBox="1"/>
              <p:nvPr/>
            </p:nvSpPr>
            <p:spPr>
              <a:xfrm>
                <a:off x="4087800" y="3235320"/>
                <a:ext cx="29988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7" name=""/>
              <p:cNvSpPr txBox="1"/>
              <p:nvPr/>
            </p:nvSpPr>
            <p:spPr>
              <a:xfrm>
                <a:off x="1076400" y="5478480"/>
                <a:ext cx="25858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η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i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η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k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η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ki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η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kk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s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0,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   0,5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0,5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,5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18" name=""/>
          <p:cNvSpPr/>
          <p:nvPr/>
        </p:nvSpPr>
        <p:spPr>
          <a:xfrm>
            <a:off x="395280" y="4570560"/>
            <a:ext cx="403236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Матрицы линейного преобразования неизвестных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4500720" y="836640"/>
            <a:ext cx="395892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Arial Narrow"/>
              </a:rPr>
              <a:t>Новые (групповые) основные неизвестны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1" name=""/>
              <p:cNvSpPr txBox="1"/>
              <p:nvPr/>
            </p:nvSpPr>
            <p:spPr>
              <a:xfrm>
                <a:off x="5186520" y="1150920"/>
                <a:ext cx="41724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2" name=""/>
              <p:cNvSpPr txBox="1"/>
              <p:nvPr/>
            </p:nvSpPr>
            <p:spPr>
              <a:xfrm>
                <a:off x="5154480" y="2306520"/>
                <a:ext cx="441360" cy="4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3" name=""/>
              <p:cNvSpPr txBox="1"/>
              <p:nvPr/>
            </p:nvSpPr>
            <p:spPr>
              <a:xfrm>
                <a:off x="1066680" y="4836960"/>
                <a:ext cx="23655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η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~"/>
                                    </m:accPr>
                                    <m:e>
                                      <m:r>
                                        <m:t xml:space="preserve">η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i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acc>
                                    <m:accPr>
                                      <m:chr m:val="~"/>
                                    </m:accPr>
                                    <m:e>
                                      <m:r>
                                        <m:t xml:space="preserve">η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k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~"/>
                                    </m:accPr>
                                    <m:e>
                                      <m:r>
                                        <m:t xml:space="preserve">η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ki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acc>
                                    <m:accPr>
                                      <m:chr m:val="~"/>
                                    </m:accPr>
                                    <m:e>
                                      <m:r>
                                        <m:t xml:space="preserve">η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kk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 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    1 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 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 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η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4" name=""/>
              <p:cNvSpPr txBox="1"/>
              <p:nvPr/>
            </p:nvSpPr>
            <p:spPr>
              <a:xfrm>
                <a:off x="946080" y="3971880"/>
                <a:ext cx="2782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η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η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η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η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k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25" name=""/>
          <p:cNvSpPr/>
          <p:nvPr/>
        </p:nvSpPr>
        <p:spPr>
          <a:xfrm flipH="1" rot="10838400">
            <a:off x="1979280" y="5381280"/>
            <a:ext cx="719280" cy="206280"/>
          </a:xfrm>
          <a:prstGeom prst="triangle">
            <a:avLst>
              <a:gd name="adj" fmla="val 50000"/>
            </a:avLst>
          </a:prstGeom>
          <a:solidFill>
            <a:srgbClr val="8fcc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1619280" y="3614760"/>
            <a:ext cx="1249200" cy="360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1809720" y="6145200"/>
            <a:ext cx="1224000" cy="37944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8" name=""/>
              <p:cNvSpPr txBox="1"/>
              <p:nvPr/>
            </p:nvSpPr>
            <p:spPr>
              <a:xfrm>
                <a:off x="1835280" y="6197760"/>
                <a:ext cx="115092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η </m:t>
                    </m:r>
                    <m:r>
                      <m:t xml:space="preserve">)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9" name=""/>
              <p:cNvSpPr txBox="1"/>
              <p:nvPr/>
            </p:nvSpPr>
            <p:spPr>
              <a:xfrm>
                <a:off x="1692360" y="3603600"/>
                <a:ext cx="105408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η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23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1662120" y="1787400"/>
            <a:ext cx="0" cy="93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2843280" y="1812960"/>
            <a:ext cx="0" cy="93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1663560" y="159876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2843280" y="159876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1663560" y="268776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2843280" y="270828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2233440" y="1454040"/>
            <a:ext cx="0" cy="144000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2181240" y="1389240"/>
            <a:ext cx="108000" cy="252360"/>
          </a:xfrm>
          <a:custGeom>
            <a:avLst/>
            <a:gdLst/>
            <a:ahLst/>
            <a:rect l="l" t="t" r="r" b="b"/>
            <a:pathLst>
              <a:path w="91" h="136">
                <a:moveTo>
                  <a:pt x="0" y="136"/>
                </a:moveTo>
                <a:lnTo>
                  <a:pt x="46" y="0"/>
                </a:lnTo>
                <a:lnTo>
                  <a:pt x="91" y="13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2050920" y="132732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 flipV="1">
            <a:off x="5334120" y="1504800"/>
            <a:ext cx="0" cy="4320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 flipV="1">
            <a:off x="7738920" y="1501560"/>
            <a:ext cx="1800" cy="4330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5219640" y="1949400"/>
            <a:ext cx="273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5003640" y="1949400"/>
            <a:ext cx="35892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7812000" y="1949400"/>
            <a:ext cx="35892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5981760" y="1563840"/>
            <a:ext cx="0" cy="93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7162920" y="1589040"/>
            <a:ext cx="0" cy="93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5983200" y="13748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7162920" y="13748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5983200" y="24638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7162920" y="248436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6553080" y="1230480"/>
            <a:ext cx="0" cy="143964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6500880" y="1165320"/>
            <a:ext cx="108000" cy="252360"/>
          </a:xfrm>
          <a:custGeom>
            <a:avLst/>
            <a:gdLst/>
            <a:ahLst/>
            <a:rect l="l" t="t" r="r" b="b"/>
            <a:pathLst>
              <a:path w="91" h="136">
                <a:moveTo>
                  <a:pt x="0" y="136"/>
                </a:moveTo>
                <a:lnTo>
                  <a:pt x="46" y="0"/>
                </a:lnTo>
                <a:lnTo>
                  <a:pt x="91" y="13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6370560" y="110340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 flipV="1">
            <a:off x="5332320" y="1968120"/>
            <a:ext cx="0" cy="358920"/>
          </a:xfrm>
          <a:prstGeom prst="line">
            <a:avLst/>
          </a:prstGeom>
          <a:ln w="38160">
            <a:solidFill>
              <a:srgbClr val="66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7740720" y="1967040"/>
            <a:ext cx="0" cy="360360"/>
          </a:xfrm>
          <a:prstGeom prst="line">
            <a:avLst/>
          </a:prstGeom>
          <a:ln w="38160">
            <a:solidFill>
              <a:srgbClr val="66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9" name=""/>
              <p:cNvSpPr txBox="1"/>
              <p:nvPr/>
            </p:nvSpPr>
            <p:spPr>
              <a:xfrm>
                <a:off x="7597800" y="1144440"/>
                <a:ext cx="41760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0" name=""/>
              <p:cNvSpPr txBox="1"/>
              <p:nvPr/>
            </p:nvSpPr>
            <p:spPr>
              <a:xfrm>
                <a:off x="7561440" y="2308320"/>
                <a:ext cx="44100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61" name=""/>
          <p:cNvSpPr/>
          <p:nvPr/>
        </p:nvSpPr>
        <p:spPr>
          <a:xfrm>
            <a:off x="4500720" y="281304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Канонические уравнени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2" name=""/>
              <p:cNvSpPr txBox="1"/>
              <p:nvPr/>
            </p:nvSpPr>
            <p:spPr>
              <a:xfrm>
                <a:off x="7074000" y="2768760"/>
                <a:ext cx="1657080" cy="43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δ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+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Δ</m:t>
                            </m:r>
                          </m:e>
                        </m:acc>
                      </m:e>
                      <m:sub>
                        <m:r>
                          <m:t xml:space="preserve">Σ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3" name=""/>
          <p:cNvSpPr/>
          <p:nvPr/>
        </p:nvSpPr>
        <p:spPr>
          <a:xfrm>
            <a:off x="5221440" y="3181320"/>
            <a:ext cx="151128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Век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основ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неизвестных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5" name=""/>
              <p:cNvSpPr txBox="1"/>
              <p:nvPr/>
            </p:nvSpPr>
            <p:spPr>
              <a:xfrm>
                <a:off x="6589800" y="3154320"/>
                <a:ext cx="129528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im</m:t>
                                </m:r>
                              </m:sub>
                            </m:sSub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66" name=""/>
          <p:cNvSpPr/>
          <p:nvPr/>
        </p:nvSpPr>
        <p:spPr>
          <a:xfrm flipH="1" rot="10838400">
            <a:off x="6153120" y="3884040"/>
            <a:ext cx="1008360" cy="206280"/>
          </a:xfrm>
          <a:prstGeom prst="triangle">
            <a:avLst>
              <a:gd name="adj" fmla="val 50000"/>
            </a:avLst>
          </a:prstGeom>
          <a:solidFill>
            <a:srgbClr val="8fcc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7" name=""/>
              <p:cNvSpPr txBox="1"/>
              <p:nvPr/>
            </p:nvSpPr>
            <p:spPr>
              <a:xfrm>
                <a:off x="5075280" y="4059360"/>
                <a:ext cx="194472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δ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~"/>
                                    </m:accPr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s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acc>
                                    <m:accPr>
                                      <m:chr m:val="~"/>
                                    </m:accPr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,as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 </m:t>
                              </m:r>
                              <m:sSub>
                                <m:e>
                                  <m:acc>
                                    <m:accPr>
                                      <m:chr m:val="~"/>
                                    </m:accPr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s,s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 </m:t>
                              </m:r>
                              <m:sSub>
                                <m:e>
                                  <m:acc>
                                    <m:accPr>
                                      <m:chr m:val="~"/>
                                    </m:accPr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s,as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8" name=""/>
              <p:cNvSpPr txBox="1"/>
              <p:nvPr/>
            </p:nvSpPr>
            <p:spPr>
              <a:xfrm>
                <a:off x="7164360" y="4068720"/>
                <a:ext cx="151308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Δ</m:t>
                            </m:r>
                          </m:e>
                        </m:acc>
                      </m:e>
                      <m:sub>
                        <m:r>
                          <m:t xml:space="preserve">Σ</m:t>
                        </m:r>
                      </m:sub>
                    </m:sSub>
                    <m:r>
                      <m:t xml:space="preserve">=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Δ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Σ</m:t>
                                </m:r>
                              </m:sub>
                            </m:sSub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9" name=""/>
              <p:cNvSpPr txBox="1"/>
              <p:nvPr/>
            </p:nvSpPr>
            <p:spPr>
              <a:xfrm>
                <a:off x="5584680" y="4967280"/>
                <a:ext cx="165600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δ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,as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δ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s,s</m:t>
                        </m:r>
                      </m:sub>
                      <m:sup>
                        <m:r>
                          <m:t xml:space="preserve">т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0" name=""/>
          <p:cNvSpPr/>
          <p:nvPr/>
        </p:nvSpPr>
        <p:spPr>
          <a:xfrm rot="13172400">
            <a:off x="5292720" y="5299920"/>
            <a:ext cx="287280" cy="477720"/>
          </a:xfrm>
          <a:prstGeom prst="upArrow">
            <a:avLst>
              <a:gd name="adj1" fmla="val 37157"/>
              <a:gd name="adj2" fmla="val 78202"/>
            </a:avLst>
          </a:prstGeom>
          <a:solidFill>
            <a:srgbClr val="6699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 rot="3861600">
            <a:off x="5930280" y="5572440"/>
            <a:ext cx="208080" cy="477720"/>
          </a:xfrm>
          <a:prstGeom prst="upArrow">
            <a:avLst>
              <a:gd name="adj1" fmla="val 49870"/>
              <a:gd name="adj2" fmla="val 96276"/>
            </a:avLst>
          </a:prstGeom>
          <a:solidFill>
            <a:srgbClr val="6699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 rot="6568200">
            <a:off x="5943600" y="5900400"/>
            <a:ext cx="207720" cy="478080"/>
          </a:xfrm>
          <a:prstGeom prst="upArrow">
            <a:avLst>
              <a:gd name="adj1" fmla="val 49870"/>
              <a:gd name="adj2" fmla="val 96516"/>
            </a:avLst>
          </a:prstGeom>
          <a:solidFill>
            <a:srgbClr val="6699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4105440" y="5772240"/>
            <a:ext cx="1690560" cy="431640"/>
          </a:xfrm>
          <a:prstGeom prst="rect">
            <a:avLst/>
          </a:prstGeom>
          <a:solidFill>
            <a:srgbClr val="d2ec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4" name=""/>
              <p:cNvSpPr txBox="1"/>
              <p:nvPr/>
            </p:nvSpPr>
            <p:spPr>
              <a:xfrm>
                <a:off x="4140360" y="5780160"/>
                <a:ext cx="1657080" cy="43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δ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+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Δ</m:t>
                            </m:r>
                          </m:e>
                        </m:acc>
                      </m:e>
                      <m:sub>
                        <m:r>
                          <m:t xml:space="preserve">Σ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5" name=""/>
          <p:cNvSpPr/>
          <p:nvPr/>
        </p:nvSpPr>
        <p:spPr>
          <a:xfrm>
            <a:off x="6324480" y="5491080"/>
            <a:ext cx="2495520" cy="459000"/>
          </a:xfrm>
          <a:prstGeom prst="rect">
            <a:avLst/>
          </a:prstGeom>
          <a:solidFill>
            <a:srgbClr val="f1ad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6326280" y="5994360"/>
            <a:ext cx="2493720" cy="459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7" name=""/>
              <p:cNvSpPr txBox="1"/>
              <p:nvPr/>
            </p:nvSpPr>
            <p:spPr>
              <a:xfrm>
                <a:off x="6562800" y="5483160"/>
                <a:ext cx="206208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δ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im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Δ</m:t>
                            </m:r>
                          </m:e>
                        </m:acc>
                      </m:e>
                      <m:sub>
                        <m:r>
                          <m:t xml:space="preserve">sΣ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8" name=""/>
              <p:cNvSpPr txBox="1"/>
              <p:nvPr/>
            </p:nvSpPr>
            <p:spPr>
              <a:xfrm>
                <a:off x="6323040" y="5987880"/>
                <a:ext cx="25192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δ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s,as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sim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Δ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s,</m:t>
                        </m:r>
                        <m:r>
                          <m:t xml:space="preserve">Σ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5" dur="indefinite" restart="never" nodeType="tmRoot">
          <p:childTnLst>
            <p:seq>
              <p:cTn id="4046" dur="indefinite" nodeType="mainSeq">
                <p:childTnLst>
                  <p:par>
                    <p:cTn id="4047" fill="hold">
                      <p:stCondLst>
                        <p:cond delay="indefinite"/>
                      </p:stCondLst>
                      <p:childTnLst>
                        <p:par>
                          <p:cTn id="4048" fill="hold">
                            <p:stCondLst>
                              <p:cond delay="0"/>
                            </p:stCondLst>
                            <p:childTnLst>
                              <p:par>
                                <p:cTn id="40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1" dur="10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2" dur="10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3" dur="9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7" dur="10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8" dur="10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9" dur="9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3" dur="10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4" dur="10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5" dur="9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9" dur="10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0" dur="10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1" dur="9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5" dur="10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6" dur="1000" fill="hold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7" dur="900" fill="hold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1" dur="10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2" dur="1000" fill="hold"/>
                                        <p:tgtEl>
                                          <p:spTgt spid="1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3" dur="900" fill="hold"/>
                                        <p:tgtEl>
                                          <p:spTgt spid="1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7" dur="10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8" dur="10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9" dur="9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3" dur="10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4" dur="1000" fill="hold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5" dur="900" fill="hold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9" dur="10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0" dur="10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1" dur="9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5" dur="10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6" dur="1000" fill="hold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7" dur="900" fill="hold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1" dur="10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2" dur="10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3" dur="9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7" dur="10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8" dur="10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9" dur="9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3" dur="10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4" dur="10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5" dur="9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9" dur="10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0" dur="10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1" dur="9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5" dur="10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6" dur="1000" fill="hold"/>
                                        <p:tgtEl>
                                          <p:spTgt spid="1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7" dur="900" fill="hold"/>
                                        <p:tgtEl>
                                          <p:spTgt spid="1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1" dur="10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2" dur="10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3" dur="9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7" dur="10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8" dur="10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9" dur="9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3" dur="10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4" dur="10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5" dur="9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9" dur="10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0" dur="10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1" dur="9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5" dur="10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6" dur="10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7" dur="9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1" dur="10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2" dur="10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3" dur="9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5" fill="hold">
                      <p:stCondLst>
                        <p:cond delay="indefinite"/>
                      </p:stCondLst>
                      <p:childTnLst>
                        <p:par>
                          <p:cTn id="4176" fill="hold">
                            <p:stCondLst>
                              <p:cond delay="0"/>
                            </p:stCondLst>
                            <p:childTnLst>
                              <p:par>
                                <p:cTn id="41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9" dur="10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0" dur="10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1" dur="10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4" dur="10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5" dur="10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6" dur="10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7" fill="hold">
                      <p:stCondLst>
                        <p:cond delay="indefinite"/>
                      </p:stCondLst>
                      <p:childTnLst>
                        <p:par>
                          <p:cTn id="4188" fill="hold">
                            <p:stCondLst>
                              <p:cond delay="0"/>
                            </p:stCondLst>
                            <p:childTnLst>
                              <p:par>
                                <p:cTn id="4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91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94" dur="5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5" fill="hold">
                      <p:stCondLst>
                        <p:cond delay="indefinite"/>
                      </p:stCondLst>
                      <p:childTnLst>
                        <p:par>
                          <p:cTn id="4196" fill="hold">
                            <p:stCondLst>
                              <p:cond delay="0"/>
                            </p:stCondLst>
                            <p:childTnLst>
                              <p:par>
                                <p:cTn id="41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9" dur="10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0" dur="10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1" dur="10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4" dur="10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5" dur="10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6" dur="10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9" dur="10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0" dur="10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1" dur="10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2" fill="hold">
                      <p:stCondLst>
                        <p:cond delay="indefinite"/>
                      </p:stCondLst>
                      <p:childTnLst>
                        <p:par>
                          <p:cTn id="4213" fill="hold">
                            <p:stCondLst>
                              <p:cond delay="0"/>
                            </p:stCondLst>
                            <p:childTnLst>
                              <p:par>
                                <p:cTn id="42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6" dur="10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7" dur="10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8" dur="10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1" dur="10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2" dur="1000" fill="hold"/>
                                        <p:tgtEl>
                                          <p:spTgt spid="1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3" dur="1000" fill="hold"/>
                                        <p:tgtEl>
                                          <p:spTgt spid="1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6" dur="10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7" dur="1000" fill="hold"/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8" dur="1000" fill="hold"/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1" dur="10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2" dur="100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3" dur="100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4" fill="hold">
                      <p:stCondLst>
                        <p:cond delay="indefinite"/>
                      </p:stCondLst>
                      <p:childTnLst>
                        <p:par>
                          <p:cTn id="4235" fill="hold">
                            <p:stCondLst>
                              <p:cond delay="0"/>
                            </p:stCondLst>
                            <p:childTnLst>
                              <p:par>
                                <p:cTn id="42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8" dur="10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9" dur="10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0" dur="10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3" dur="1000" fill="hold"/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4" dur="1000" fill="hold"/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5" dur="10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6" fill="hold">
                      <p:stCondLst>
                        <p:cond delay="indefinite"/>
                      </p:stCondLst>
                      <p:childTnLst>
                        <p:par>
                          <p:cTn id="4247" fill="hold">
                            <p:stCondLst>
                              <p:cond delay="0"/>
                            </p:stCondLst>
                            <p:childTnLst>
                              <p:par>
                                <p:cTn id="42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0" dur="10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1" dur="10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2" dur="1000"/>
                                        <p:tgtEl>
                                          <p:spTgt spid="1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5" dur="10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6" dur="10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7" dur="10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0" dur="10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1" dur="10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2" dur="10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5" dur="1000" fill="hold"/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6" dur="1000" fill="hold"/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7" dur="10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">
            <a:hlinkClick r:id="" action="ppaction://hlinkshowjump?jump=nextslide"/>
          </p:cNvPr>
          <p:cNvSpPr/>
          <p:nvPr/>
        </p:nvSpPr>
        <p:spPr>
          <a:xfrm>
            <a:off x="324000" y="260280"/>
            <a:ext cx="8497800" cy="5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 Black"/>
              </a:rPr>
              <a:t>ИСПОЛЬЗОВАНИЕ ГРУППОВЫХ ОСНОВНЫХ НЕИЗВЕСТ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 Black"/>
              </a:rPr>
              <a:t>В РАСЧЁТАХ СИММЕТРИЧНЫХ СН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900000" y="2173320"/>
            <a:ext cx="273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684360" y="2173320"/>
            <a:ext cx="35856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1020600" y="222408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900000" y="2401920"/>
            <a:ext cx="252360" cy="73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903240" y="240192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990720" y="2362320"/>
            <a:ext cx="712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982800" y="2185920"/>
            <a:ext cx="7128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3429000" y="22114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3308400" y="2389320"/>
            <a:ext cx="252360" cy="72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3311640" y="238932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3398760" y="2349360"/>
            <a:ext cx="7164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3390840" y="217332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3492360" y="2173320"/>
            <a:ext cx="35892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250920" y="2997360"/>
            <a:ext cx="432108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Связь между исходными неизвестными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и  новыми (групповыми) неизвестными    </a:t>
            </a: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5" name=""/>
              <p:cNvSpPr txBox="1"/>
              <p:nvPr/>
            </p:nvSpPr>
            <p:spPr>
              <a:xfrm>
                <a:off x="4087800" y="3235320"/>
                <a:ext cx="29988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296" name=""/>
          <p:cNvSpPr/>
          <p:nvPr/>
        </p:nvSpPr>
        <p:spPr>
          <a:xfrm>
            <a:off x="4500720" y="836640"/>
            <a:ext cx="395892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Arial Narrow"/>
              </a:rPr>
              <a:t>Новые (групповые) основные неизвестны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8" name=""/>
              <p:cNvSpPr txBox="1"/>
              <p:nvPr/>
            </p:nvSpPr>
            <p:spPr>
              <a:xfrm>
                <a:off x="5186520" y="1150920"/>
                <a:ext cx="41724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9" name=""/>
              <p:cNvSpPr txBox="1"/>
              <p:nvPr/>
            </p:nvSpPr>
            <p:spPr>
              <a:xfrm>
                <a:off x="5154480" y="2306520"/>
                <a:ext cx="441360" cy="4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0" name=""/>
              <p:cNvSpPr txBox="1"/>
              <p:nvPr/>
            </p:nvSpPr>
            <p:spPr>
              <a:xfrm>
                <a:off x="946080" y="3971880"/>
                <a:ext cx="2782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η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η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η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η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k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01" name=""/>
          <p:cNvSpPr/>
          <p:nvPr/>
        </p:nvSpPr>
        <p:spPr>
          <a:xfrm>
            <a:off x="1619280" y="3614760"/>
            <a:ext cx="1249200" cy="360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2" name=""/>
              <p:cNvSpPr txBox="1"/>
              <p:nvPr/>
            </p:nvSpPr>
            <p:spPr>
              <a:xfrm>
                <a:off x="1692360" y="3603600"/>
                <a:ext cx="105408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η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30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1662120" y="1787400"/>
            <a:ext cx="0" cy="93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2843280" y="1812960"/>
            <a:ext cx="0" cy="93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1663560" y="159876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2843280" y="159876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1663560" y="268776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2843280" y="270828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2233440" y="1454040"/>
            <a:ext cx="0" cy="144000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2181240" y="1389240"/>
            <a:ext cx="108000" cy="252360"/>
          </a:xfrm>
          <a:custGeom>
            <a:avLst/>
            <a:gdLst/>
            <a:ahLst/>
            <a:rect l="l" t="t" r="r" b="b"/>
            <a:pathLst>
              <a:path w="91" h="136">
                <a:moveTo>
                  <a:pt x="0" y="136"/>
                </a:moveTo>
                <a:lnTo>
                  <a:pt x="46" y="0"/>
                </a:lnTo>
                <a:lnTo>
                  <a:pt x="91" y="13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2050920" y="132732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 flipV="1">
            <a:off x="5334120" y="1504800"/>
            <a:ext cx="0" cy="4320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 flipV="1">
            <a:off x="7738920" y="1501560"/>
            <a:ext cx="1800" cy="4330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5219640" y="1949400"/>
            <a:ext cx="273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5003640" y="1949400"/>
            <a:ext cx="35892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7812000" y="1949400"/>
            <a:ext cx="35892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5981760" y="1563840"/>
            <a:ext cx="0" cy="93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7162920" y="1589040"/>
            <a:ext cx="0" cy="93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5983200" y="13748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7162920" y="13748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5983200" y="24638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7162920" y="248436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6553080" y="1230480"/>
            <a:ext cx="0" cy="143964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6500880" y="1165320"/>
            <a:ext cx="108000" cy="252360"/>
          </a:xfrm>
          <a:custGeom>
            <a:avLst/>
            <a:gdLst/>
            <a:ahLst/>
            <a:rect l="l" t="t" r="r" b="b"/>
            <a:pathLst>
              <a:path w="91" h="136">
                <a:moveTo>
                  <a:pt x="0" y="136"/>
                </a:moveTo>
                <a:lnTo>
                  <a:pt x="46" y="0"/>
                </a:lnTo>
                <a:lnTo>
                  <a:pt x="91" y="13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6370560" y="110340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 flipV="1">
            <a:off x="5332320" y="1968120"/>
            <a:ext cx="0" cy="358920"/>
          </a:xfrm>
          <a:prstGeom prst="line">
            <a:avLst/>
          </a:prstGeom>
          <a:ln w="38160">
            <a:solidFill>
              <a:srgbClr val="66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7740720" y="1967040"/>
            <a:ext cx="0" cy="360360"/>
          </a:xfrm>
          <a:prstGeom prst="line">
            <a:avLst/>
          </a:prstGeom>
          <a:ln w="38160">
            <a:solidFill>
              <a:srgbClr val="66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2" name=""/>
              <p:cNvSpPr txBox="1"/>
              <p:nvPr/>
            </p:nvSpPr>
            <p:spPr>
              <a:xfrm>
                <a:off x="7597800" y="1144440"/>
                <a:ext cx="41760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3" name=""/>
              <p:cNvSpPr txBox="1"/>
              <p:nvPr/>
            </p:nvSpPr>
            <p:spPr>
              <a:xfrm>
                <a:off x="7561440" y="2308320"/>
                <a:ext cx="44100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34" name=""/>
          <p:cNvSpPr/>
          <p:nvPr/>
        </p:nvSpPr>
        <p:spPr>
          <a:xfrm>
            <a:off x="4500720" y="281304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Канонические уравнени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5" name=""/>
              <p:cNvSpPr txBox="1"/>
              <p:nvPr/>
            </p:nvSpPr>
            <p:spPr>
              <a:xfrm>
                <a:off x="7074000" y="2768760"/>
                <a:ext cx="1657080" cy="43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δ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+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Δ</m:t>
                            </m:r>
                          </m:e>
                        </m:acc>
                      </m:e>
                      <m:sub>
                        <m:r>
                          <m:t xml:space="preserve">Σ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6" name=""/>
          <p:cNvSpPr/>
          <p:nvPr/>
        </p:nvSpPr>
        <p:spPr>
          <a:xfrm>
            <a:off x="5221440" y="3181320"/>
            <a:ext cx="151128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Век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основ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неизвестных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8" name=""/>
              <p:cNvSpPr txBox="1"/>
              <p:nvPr/>
            </p:nvSpPr>
            <p:spPr>
              <a:xfrm>
                <a:off x="6589800" y="3154320"/>
                <a:ext cx="129528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im</m:t>
                                </m:r>
                              </m:sub>
                            </m:sSub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39" name=""/>
          <p:cNvSpPr/>
          <p:nvPr/>
        </p:nvSpPr>
        <p:spPr>
          <a:xfrm flipH="1" rot="10838400">
            <a:off x="6153120" y="3884040"/>
            <a:ext cx="1008360" cy="206280"/>
          </a:xfrm>
          <a:prstGeom prst="triangle">
            <a:avLst>
              <a:gd name="adj" fmla="val 50000"/>
            </a:avLst>
          </a:prstGeom>
          <a:solidFill>
            <a:srgbClr val="8fcc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0" name=""/>
              <p:cNvSpPr txBox="1"/>
              <p:nvPr/>
            </p:nvSpPr>
            <p:spPr>
              <a:xfrm>
                <a:off x="5075280" y="4059360"/>
                <a:ext cx="194472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δ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~"/>
                                    </m:accPr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s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acc>
                                    <m:accPr>
                                      <m:chr m:val="~"/>
                                    </m:accPr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,as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 </m:t>
                              </m:r>
                              <m:sSub>
                                <m:e>
                                  <m:acc>
                                    <m:accPr>
                                      <m:chr m:val="~"/>
                                    </m:accPr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s,s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 </m:t>
                              </m:r>
                              <m:sSub>
                                <m:e>
                                  <m:acc>
                                    <m:accPr>
                                      <m:chr m:val="~"/>
                                    </m:accPr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s,as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1" name=""/>
              <p:cNvSpPr txBox="1"/>
              <p:nvPr/>
            </p:nvSpPr>
            <p:spPr>
              <a:xfrm>
                <a:off x="7164360" y="4068720"/>
                <a:ext cx="151308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Δ</m:t>
                            </m:r>
                          </m:e>
                        </m:acc>
                      </m:e>
                      <m:sub>
                        <m:r>
                          <m:t xml:space="preserve">Σ</m:t>
                        </m:r>
                      </m:sub>
                    </m:sSub>
                    <m:r>
                      <m:t xml:space="preserve">=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Δ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Σ</m:t>
                                </m:r>
                              </m:sub>
                            </m:sSub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2" name=""/>
              <p:cNvSpPr txBox="1"/>
              <p:nvPr/>
            </p:nvSpPr>
            <p:spPr>
              <a:xfrm>
                <a:off x="5584680" y="4967280"/>
                <a:ext cx="165600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δ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,as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δ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s,s</m:t>
                        </m:r>
                      </m:sub>
                      <m:sup>
                        <m:r>
                          <m:t xml:space="preserve">т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3" name=""/>
          <p:cNvSpPr/>
          <p:nvPr/>
        </p:nvSpPr>
        <p:spPr>
          <a:xfrm rot="13172400">
            <a:off x="5292720" y="5299920"/>
            <a:ext cx="287280" cy="477720"/>
          </a:xfrm>
          <a:prstGeom prst="upArrow">
            <a:avLst>
              <a:gd name="adj1" fmla="val 37157"/>
              <a:gd name="adj2" fmla="val 78202"/>
            </a:avLst>
          </a:prstGeom>
          <a:solidFill>
            <a:srgbClr val="6699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 rot="3861600">
            <a:off x="5930280" y="5572440"/>
            <a:ext cx="208080" cy="477720"/>
          </a:xfrm>
          <a:prstGeom prst="upArrow">
            <a:avLst>
              <a:gd name="adj1" fmla="val 49870"/>
              <a:gd name="adj2" fmla="val 96276"/>
            </a:avLst>
          </a:prstGeom>
          <a:solidFill>
            <a:srgbClr val="6699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 rot="6568200">
            <a:off x="5943600" y="5900400"/>
            <a:ext cx="207720" cy="478080"/>
          </a:xfrm>
          <a:prstGeom prst="upArrow">
            <a:avLst>
              <a:gd name="adj1" fmla="val 49870"/>
              <a:gd name="adj2" fmla="val 96516"/>
            </a:avLst>
          </a:prstGeom>
          <a:solidFill>
            <a:srgbClr val="6699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4105440" y="5772240"/>
            <a:ext cx="1690560" cy="431640"/>
          </a:xfrm>
          <a:prstGeom prst="rect">
            <a:avLst/>
          </a:prstGeom>
          <a:solidFill>
            <a:srgbClr val="d2ec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7" name=""/>
              <p:cNvSpPr txBox="1"/>
              <p:nvPr/>
            </p:nvSpPr>
            <p:spPr>
              <a:xfrm>
                <a:off x="4140360" y="5780160"/>
                <a:ext cx="1657080" cy="43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δ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+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Δ</m:t>
                            </m:r>
                          </m:e>
                        </m:acc>
                      </m:e>
                      <m:sub>
                        <m:r>
                          <m:t xml:space="preserve">Σ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8" name=""/>
          <p:cNvSpPr/>
          <p:nvPr/>
        </p:nvSpPr>
        <p:spPr>
          <a:xfrm>
            <a:off x="6324480" y="5491080"/>
            <a:ext cx="2495520" cy="459000"/>
          </a:xfrm>
          <a:prstGeom prst="rect">
            <a:avLst/>
          </a:prstGeom>
          <a:solidFill>
            <a:srgbClr val="f1ad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6326280" y="5994360"/>
            <a:ext cx="2493720" cy="459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0" name=""/>
              <p:cNvSpPr txBox="1"/>
              <p:nvPr/>
            </p:nvSpPr>
            <p:spPr>
              <a:xfrm>
                <a:off x="6562800" y="5483160"/>
                <a:ext cx="206208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δ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im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Δ</m:t>
                            </m:r>
                          </m:e>
                        </m:acc>
                      </m:e>
                      <m:sub>
                        <m:r>
                          <m:t xml:space="preserve">sΣ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1" name=""/>
              <p:cNvSpPr txBox="1"/>
              <p:nvPr/>
            </p:nvSpPr>
            <p:spPr>
              <a:xfrm>
                <a:off x="6323040" y="5987880"/>
                <a:ext cx="25192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δ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s,as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sim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Δ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s,</m:t>
                        </m:r>
                        <m:r>
                          <m:t xml:space="preserve">Σ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52" name=""/>
          <p:cNvSpPr/>
          <p:nvPr/>
        </p:nvSpPr>
        <p:spPr>
          <a:xfrm>
            <a:off x="250920" y="4587840"/>
            <a:ext cx="3671640" cy="7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При симметричном воздейств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(нагрузке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250920" y="5459400"/>
            <a:ext cx="367164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При обратносимметричном (антисимметричном) воздейств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(нагрузке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5" name=""/>
              <p:cNvSpPr txBox="1"/>
              <p:nvPr/>
            </p:nvSpPr>
            <p:spPr>
              <a:xfrm>
                <a:off x="1332000" y="4941720"/>
                <a:ext cx="100800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Δ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s</m:t>
                        </m:r>
                        <m:r>
                          <m:rPr>
                            <m:lit/>
                            <m:nor/>
                          </m:rPr>
                          <m:t xml:space="preserve">,Σ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6" name=""/>
              <p:cNvSpPr txBox="1"/>
              <p:nvPr/>
            </p:nvSpPr>
            <p:spPr>
              <a:xfrm>
                <a:off x="1390680" y="6153120"/>
                <a:ext cx="85248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Δ</m:t>
                            </m:r>
                          </m:e>
                        </m:acc>
                      </m:e>
                      <m:sub>
                        <m:r>
                          <m:t xml:space="preserve">sΣ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57" name=""/>
          <p:cNvSpPr/>
          <p:nvPr/>
        </p:nvSpPr>
        <p:spPr>
          <a:xfrm rot="5400000">
            <a:off x="2487600" y="4941720"/>
            <a:ext cx="208080" cy="478080"/>
          </a:xfrm>
          <a:prstGeom prst="upArrow">
            <a:avLst>
              <a:gd name="adj1" fmla="val 49870"/>
              <a:gd name="adj2" fmla="val 96349"/>
            </a:avLst>
          </a:prstGeom>
          <a:solidFill>
            <a:srgbClr val="6699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 rot="5400000">
            <a:off x="2480760" y="6143400"/>
            <a:ext cx="208080" cy="477720"/>
          </a:xfrm>
          <a:prstGeom prst="upArrow">
            <a:avLst>
              <a:gd name="adj1" fmla="val 49870"/>
              <a:gd name="adj2" fmla="val 96276"/>
            </a:avLst>
          </a:prstGeom>
          <a:solidFill>
            <a:srgbClr val="6699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9" name=""/>
              <p:cNvSpPr txBox="1"/>
              <p:nvPr/>
            </p:nvSpPr>
            <p:spPr>
              <a:xfrm>
                <a:off x="2843280" y="6127920"/>
                <a:ext cx="108108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i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0" name=""/>
              <p:cNvSpPr txBox="1"/>
              <p:nvPr/>
            </p:nvSpPr>
            <p:spPr>
              <a:xfrm>
                <a:off x="2797200" y="4946760"/>
                <a:ext cx="115416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si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8" dur="indefinite" restart="never" nodeType="tmRoot">
          <p:childTnLst>
            <p:seq>
              <p:cTn id="4269" dur="indefinite" nodeType="mainSeq">
                <p:childTnLst>
                  <p:par>
                    <p:cTn id="4270" fill="hold">
                      <p:stCondLst>
                        <p:cond delay="indefinite"/>
                      </p:stCondLst>
                      <p:childTnLst>
                        <p:par>
                          <p:cTn id="4271" fill="hold">
                            <p:stCondLst>
                              <p:cond delay="0"/>
                            </p:stCondLst>
                            <p:childTnLst>
                              <p:par>
                                <p:cTn id="42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4" dur="1000" fill="hold"/>
                                        <p:tgtEl>
                                          <p:spTgt spid="1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5" dur="1000" fill="hold"/>
                                        <p:tgtEl>
                                          <p:spTgt spid="1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76" dur="10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9" dur="1000" fill="hold"/>
                                        <p:tgtEl>
                                          <p:spTgt spid="1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0" dur="1000" fill="hold"/>
                                        <p:tgtEl>
                                          <p:spTgt spid="1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81" dur="10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2" fill="hold">
                      <p:stCondLst>
                        <p:cond delay="indefinite"/>
                      </p:stCondLst>
                      <p:childTnLst>
                        <p:par>
                          <p:cTn id="4283" fill="hold">
                            <p:stCondLst>
                              <p:cond delay="0"/>
                            </p:stCondLst>
                            <p:childTnLst>
                              <p:par>
                                <p:cTn id="42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6" dur="1000" fill="hold"/>
                                        <p:tgtEl>
                                          <p:spTgt spid="1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7" dur="1000" fill="hold"/>
                                        <p:tgtEl>
                                          <p:spTgt spid="1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8" dur="10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1" dur="1000" fill="hold"/>
                                        <p:tgtEl>
                                          <p:spTgt spid="1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2" dur="1000" fill="hold"/>
                                        <p:tgtEl>
                                          <p:spTgt spid="1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3" dur="10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4" fill="hold">
                      <p:stCondLst>
                        <p:cond delay="indefinite"/>
                      </p:stCondLst>
                      <p:childTnLst>
                        <p:par>
                          <p:cTn id="4295" fill="hold">
                            <p:stCondLst>
                              <p:cond delay="0"/>
                            </p:stCondLst>
                            <p:childTnLst>
                              <p:par>
                                <p:cTn id="42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8" dur="1000" fill="hold"/>
                                        <p:tgtEl>
                                          <p:spTgt spid="1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9" dur="1000" fill="hold"/>
                                        <p:tgtEl>
                                          <p:spTgt spid="1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00" dur="10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3" dur="1000" fill="hold"/>
                                        <p:tgtEl>
                                          <p:spTgt spid="1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4" dur="1000" fill="hold"/>
                                        <p:tgtEl>
                                          <p:spTgt spid="1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05" dur="10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6" fill="hold">
                      <p:stCondLst>
                        <p:cond delay="indefinite"/>
                      </p:stCondLst>
                      <p:childTnLst>
                        <p:par>
                          <p:cTn id="4307" fill="hold">
                            <p:stCondLst>
                              <p:cond delay="0"/>
                            </p:stCondLst>
                            <p:childTnLst>
                              <p:par>
                                <p:cTn id="43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0" dur="1000" fill="hold"/>
                                        <p:tgtEl>
                                          <p:spTgt spid="1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1" dur="1000" fill="hold"/>
                                        <p:tgtEl>
                                          <p:spTgt spid="1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2" dur="10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5" dur="1000" fill="hold"/>
                                        <p:tgtEl>
                                          <p:spTgt spid="1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6" dur="1000" fill="hold"/>
                                        <p:tgtEl>
                                          <p:spTgt spid="1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7" dur="1000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">
            <a:hlinkClick r:id="" action="ppaction://hlinkshowjump?jump=nextslide"/>
          </p:cNvPr>
          <p:cNvSpPr/>
          <p:nvPr/>
        </p:nvSpPr>
        <p:spPr>
          <a:xfrm>
            <a:off x="324000" y="260280"/>
            <a:ext cx="8497800" cy="5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 Black"/>
              </a:rPr>
              <a:t>ИСПОЛЬЗОВАНИЕ ГРУППОВЫХ ОСНОВНЫХ НЕИЗВЕСТ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 Black"/>
              </a:rPr>
              <a:t>В РАСЧЁТАХ СИММЕТРИЧНЫХ СН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900000" y="2525760"/>
            <a:ext cx="273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876240" y="25383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755640" y="2716200"/>
            <a:ext cx="252360" cy="73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758880" y="271620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846000" y="267660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838080" y="2500200"/>
            <a:ext cx="7164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3657600" y="25257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3537000" y="2703600"/>
            <a:ext cx="252360" cy="73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3540240" y="270360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3627360" y="266400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3619440" y="248760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5003640" y="1197000"/>
            <a:ext cx="29530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Основная система с исходны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основными неизвестны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1619280" y="1836720"/>
            <a:ext cx="0" cy="144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2230560" y="1549440"/>
            <a:ext cx="0" cy="180036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2181240" y="1467000"/>
            <a:ext cx="108000" cy="252360"/>
          </a:xfrm>
          <a:custGeom>
            <a:avLst/>
            <a:gdLst/>
            <a:ahLst/>
            <a:rect l="l" t="t" r="r" b="b"/>
            <a:pathLst>
              <a:path w="91" h="136">
                <a:moveTo>
                  <a:pt x="0" y="136"/>
                </a:moveTo>
                <a:lnTo>
                  <a:pt x="46" y="0"/>
                </a:lnTo>
                <a:lnTo>
                  <a:pt x="91" y="13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2050920" y="140508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3492360" y="73008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П р и м е 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2843280" y="1836720"/>
            <a:ext cx="0" cy="144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1487520" y="3276720"/>
            <a:ext cx="252360" cy="73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1490760" y="327672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1577880" y="3236760"/>
            <a:ext cx="7164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2719440" y="3276720"/>
            <a:ext cx="252360" cy="73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2722680" y="327672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2809800" y="3236760"/>
            <a:ext cx="7164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1619280" y="183672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2197080" y="1803240"/>
            <a:ext cx="7128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5135400" y="2525760"/>
            <a:ext cx="273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5854680" y="1836720"/>
            <a:ext cx="0" cy="144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7078680" y="1836720"/>
            <a:ext cx="0" cy="144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5722920" y="3276720"/>
            <a:ext cx="252360" cy="730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5726160" y="327672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5813280" y="3236760"/>
            <a:ext cx="7164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6954840" y="3276720"/>
            <a:ext cx="252360" cy="730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6958080" y="327672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7045200" y="3236760"/>
            <a:ext cx="7164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5854680" y="183672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6432480" y="1803240"/>
            <a:ext cx="7164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6440400" y="2484360"/>
            <a:ext cx="7164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900000" y="5118120"/>
            <a:ext cx="273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1619280" y="4429080"/>
            <a:ext cx="0" cy="144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2843280" y="4429080"/>
            <a:ext cx="0" cy="144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1487520" y="5869080"/>
            <a:ext cx="252360" cy="730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1490760" y="586908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1577880" y="582948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2719440" y="5869080"/>
            <a:ext cx="252360" cy="730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2722680" y="586908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2809800" y="582948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1619280" y="442908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2197080" y="4395960"/>
            <a:ext cx="712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2205000" y="5076720"/>
            <a:ext cx="7164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826920" y="3789360"/>
            <a:ext cx="29530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Основная система с групповы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основными неизвестны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 flipV="1">
            <a:off x="912960" y="4670280"/>
            <a:ext cx="0" cy="4320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 flipV="1">
            <a:off x="3622680" y="4679640"/>
            <a:ext cx="0" cy="4316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 flipV="1">
            <a:off x="5148360" y="253188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 flipV="1">
            <a:off x="7872480" y="253188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3622680" y="5137200"/>
            <a:ext cx="0" cy="360360"/>
          </a:xfrm>
          <a:prstGeom prst="line">
            <a:avLst/>
          </a:prstGeom>
          <a:ln w="38160">
            <a:solidFill>
              <a:srgbClr val="66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 flipV="1">
            <a:off x="912960" y="5149440"/>
            <a:ext cx="0" cy="360360"/>
          </a:xfrm>
          <a:prstGeom prst="line">
            <a:avLst/>
          </a:prstGeom>
          <a:ln w="38160">
            <a:solidFill>
              <a:srgbClr val="66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 flipV="1" rot="20817000">
            <a:off x="6186240" y="2387880"/>
            <a:ext cx="231480" cy="254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080" y="76"/>
                </a:moveTo>
                <a:arcTo wR="10800" hR="10800" stAng="-4991495" swAng="9945654"/>
                <a:lnTo>
                  <a:pt x="10800" y="10800"/>
                </a:lnTo>
                <a:close/>
              </a:path>
              <a:path fill="none" w="21600" h="21600">
                <a:moveTo>
                  <a:pt x="12080" y="76"/>
                </a:moveTo>
                <a:arcTo wR="10800" hR="10800" stAng="-4991495" swAng="9945654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 flipH="1" flipV="1" rot="844200">
            <a:off x="6526800" y="2390040"/>
            <a:ext cx="244080" cy="254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080" y="76"/>
                </a:moveTo>
                <a:arcTo wR="10800" hR="10800" stAng="-4991495" swAng="9945654"/>
                <a:lnTo>
                  <a:pt x="10800" y="10800"/>
                </a:lnTo>
                <a:close/>
              </a:path>
              <a:path fill="none" w="21600" h="21600">
                <a:moveTo>
                  <a:pt x="12080" y="76"/>
                </a:moveTo>
                <a:arcTo wR="10800" hR="10800" stAng="-4991495" swAng="9945654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 flipV="1" rot="20817000">
            <a:off x="1952280" y="4972320"/>
            <a:ext cx="231480" cy="254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080" y="76"/>
                </a:moveTo>
                <a:arcTo wR="10800" hR="10800" stAng="-4991495" swAng="9945654"/>
                <a:lnTo>
                  <a:pt x="10800" y="10800"/>
                </a:lnTo>
                <a:close/>
              </a:path>
              <a:path fill="none" w="21600" h="21600">
                <a:moveTo>
                  <a:pt x="12080" y="76"/>
                </a:moveTo>
                <a:arcTo wR="10800" hR="10800" stAng="-4991495" swAng="9945654"/>
              </a:path>
            </a:pathLst>
          </a:custGeom>
          <a:noFill/>
          <a:ln w="28440">
            <a:solidFill>
              <a:srgbClr val="cc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 flipH="1" flipV="1" rot="844200">
            <a:off x="2288160" y="4974480"/>
            <a:ext cx="244080" cy="254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080" y="76"/>
                </a:moveTo>
                <a:arcTo wR="10800" hR="10800" stAng="-4991495" swAng="9945654"/>
                <a:lnTo>
                  <a:pt x="10800" y="10800"/>
                </a:lnTo>
                <a:close/>
              </a:path>
              <a:path fill="none" w="21600" h="21600">
                <a:moveTo>
                  <a:pt x="12080" y="76"/>
                </a:moveTo>
                <a:arcTo wR="10800" hR="10800" stAng="-4991495" swAng="9945654"/>
              </a:path>
            </a:pathLst>
          </a:custGeom>
          <a:noFill/>
          <a:ln w="28440">
            <a:solidFill>
              <a:srgbClr val="cc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5126040" y="2717640"/>
            <a:ext cx="460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7856640" y="2719440"/>
            <a:ext cx="460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6303960" y="2563920"/>
            <a:ext cx="460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5854680" y="2062080"/>
            <a:ext cx="460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7121520" y="2119320"/>
            <a:ext cx="460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5816520" y="2438280"/>
            <a:ext cx="7164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7047000" y="2438280"/>
            <a:ext cx="7128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1585800" y="5018040"/>
            <a:ext cx="7164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2797200" y="5018040"/>
            <a:ext cx="7128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 flipV="1" rot="10895400">
            <a:off x="5897880" y="2427840"/>
            <a:ext cx="231480" cy="254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080" y="76"/>
                </a:moveTo>
                <a:arcTo wR="10800" hR="10800" stAng="-4991495" swAng="9945654"/>
                <a:lnTo>
                  <a:pt x="10800" y="10800"/>
                </a:lnTo>
                <a:close/>
              </a:path>
              <a:path fill="none" w="21600" h="21600">
                <a:moveTo>
                  <a:pt x="12080" y="76"/>
                </a:moveTo>
                <a:arcTo wR="10800" hR="10800" stAng="-4991495" swAng="9945654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 flipH="1" flipV="1" rot="17482200">
            <a:off x="5701320" y="2163600"/>
            <a:ext cx="244080" cy="25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080" y="76"/>
                </a:moveTo>
                <a:arcTo wR="10800" hR="10800" stAng="-4991495" swAng="9945654"/>
                <a:lnTo>
                  <a:pt x="10800" y="10800"/>
                </a:lnTo>
                <a:close/>
              </a:path>
              <a:path fill="none" w="21600" h="21600">
                <a:moveTo>
                  <a:pt x="12080" y="76"/>
                </a:moveTo>
                <a:arcTo wR="10800" hR="10800" stAng="-4991495" swAng="9945654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 flipV="1" rot="10895400">
            <a:off x="7129800" y="2422080"/>
            <a:ext cx="231480" cy="25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080" y="76"/>
                </a:moveTo>
                <a:arcTo wR="10800" hR="10800" stAng="-4991495" swAng="9945654"/>
                <a:lnTo>
                  <a:pt x="10800" y="10800"/>
                </a:lnTo>
                <a:close/>
              </a:path>
              <a:path fill="none" w="21600" h="21600">
                <a:moveTo>
                  <a:pt x="12080" y="76"/>
                </a:moveTo>
                <a:arcTo wR="10800" hR="10800" stAng="-4991495" swAng="9945654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 flipH="1" flipV="1" rot="17482200">
            <a:off x="6927840" y="2160000"/>
            <a:ext cx="244080" cy="254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080" y="76"/>
                </a:moveTo>
                <a:arcTo wR="10800" hR="10800" stAng="-4991495" swAng="9945654"/>
                <a:lnTo>
                  <a:pt x="10800" y="10800"/>
                </a:lnTo>
                <a:close/>
              </a:path>
              <a:path fill="none" w="21600" h="21600">
                <a:moveTo>
                  <a:pt x="12080" y="76"/>
                </a:moveTo>
                <a:arcTo wR="10800" hR="10800" stAng="-4991495" swAng="9945654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 flipV="1" rot="10895400">
            <a:off x="1657800" y="5006520"/>
            <a:ext cx="231480" cy="25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080" y="76"/>
                </a:moveTo>
                <a:arcTo wR="10800" hR="10800" stAng="-4991495" swAng="9945654"/>
                <a:lnTo>
                  <a:pt x="10800" y="10800"/>
                </a:lnTo>
                <a:close/>
              </a:path>
              <a:path fill="none" w="21600" h="21600">
                <a:moveTo>
                  <a:pt x="12080" y="76"/>
                </a:moveTo>
                <a:arcTo wR="10800" hR="10800" stAng="-4991495" swAng="9945654"/>
              </a:path>
            </a:pathLst>
          </a:custGeom>
          <a:noFill/>
          <a:ln w="28440">
            <a:solidFill>
              <a:srgbClr val="66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 flipH="1" flipV="1" rot="17482200">
            <a:off x="1464120" y="4752720"/>
            <a:ext cx="244080" cy="25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080" y="76"/>
                </a:moveTo>
                <a:arcTo wR="10800" hR="10800" stAng="-4991495" swAng="9945654"/>
                <a:lnTo>
                  <a:pt x="10800" y="10800"/>
                </a:lnTo>
                <a:close/>
              </a:path>
              <a:path fill="none" w="21600" h="21600">
                <a:moveTo>
                  <a:pt x="12080" y="76"/>
                </a:moveTo>
                <a:arcTo wR="10800" hR="10800" stAng="-4991495" swAng="9945654"/>
              </a:path>
            </a:pathLst>
          </a:custGeom>
          <a:noFill/>
          <a:ln w="28440">
            <a:solidFill>
              <a:srgbClr val="66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 flipV="1" rot="10895400">
            <a:off x="2875320" y="5014440"/>
            <a:ext cx="231480" cy="25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080" y="76"/>
                </a:moveTo>
                <a:arcTo wR="10800" hR="10800" stAng="-4991495" swAng="9945654"/>
                <a:lnTo>
                  <a:pt x="10800" y="10800"/>
                </a:lnTo>
                <a:close/>
              </a:path>
              <a:path fill="none" w="21600" h="21600">
                <a:moveTo>
                  <a:pt x="12080" y="76"/>
                </a:moveTo>
                <a:arcTo wR="10800" hR="10800" stAng="-4991495" swAng="9945654"/>
              </a:path>
            </a:pathLst>
          </a:custGeom>
          <a:noFill/>
          <a:ln w="28440">
            <a:solidFill>
              <a:srgbClr val="66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 flipH="1" flipV="1" rot="17482200">
            <a:off x="2690640" y="4750200"/>
            <a:ext cx="243720" cy="253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080" y="76"/>
                </a:moveTo>
                <a:arcTo wR="10800" hR="10800" stAng="-4991495" swAng="9945654"/>
                <a:lnTo>
                  <a:pt x="10800" y="10800"/>
                </a:lnTo>
                <a:close/>
              </a:path>
              <a:path fill="none" w="21600" h="21600">
                <a:moveTo>
                  <a:pt x="12080" y="76"/>
                </a:moveTo>
                <a:arcTo wR="10800" hR="10800" stAng="-4991495" swAng="9945654"/>
              </a:path>
            </a:pathLst>
          </a:custGeom>
          <a:noFill/>
          <a:ln w="28440">
            <a:solidFill>
              <a:srgbClr val="66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 flipV="1" rot="9973200">
            <a:off x="1740600" y="5018760"/>
            <a:ext cx="231120" cy="25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080" y="76"/>
                </a:moveTo>
                <a:arcTo wR="10800" hR="10800" stAng="-4991495" swAng="9945654"/>
                <a:lnTo>
                  <a:pt x="10800" y="10800"/>
                </a:lnTo>
                <a:close/>
              </a:path>
              <a:path fill="none" w="21600" h="21600">
                <a:moveTo>
                  <a:pt x="12080" y="76"/>
                </a:moveTo>
                <a:arcTo wR="10800" hR="10800" stAng="-4991495" swAng="9945654"/>
              </a:path>
            </a:pathLst>
          </a:custGeom>
          <a:noFill/>
          <a:ln w="28440">
            <a:solidFill>
              <a:srgbClr val="cc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 flipH="1" flipV="1" rot="11688000">
            <a:off x="2539440" y="4983840"/>
            <a:ext cx="244080" cy="254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080" y="76"/>
                </a:moveTo>
                <a:arcTo wR="10800" hR="10800" stAng="-4991495" swAng="9945654"/>
                <a:lnTo>
                  <a:pt x="10800" y="10800"/>
                </a:lnTo>
                <a:close/>
              </a:path>
              <a:path fill="none" w="21600" h="21600">
                <a:moveTo>
                  <a:pt x="12080" y="76"/>
                </a:moveTo>
                <a:arcTo wR="10800" hR="10800" stAng="-4991495" swAng="9945654"/>
              </a:path>
            </a:pathLst>
          </a:custGeom>
          <a:noFill/>
          <a:ln w="28440">
            <a:solidFill>
              <a:srgbClr val="cc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 flipH="1" flipV="1" rot="17662200">
            <a:off x="1486080" y="4664520"/>
            <a:ext cx="244080" cy="253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080" y="76"/>
                </a:moveTo>
                <a:arcTo wR="10800" hR="10800" stAng="-4991495" swAng="9945654"/>
                <a:lnTo>
                  <a:pt x="10800" y="10800"/>
                </a:lnTo>
                <a:close/>
              </a:path>
              <a:path fill="none" w="21600" h="21600">
                <a:moveTo>
                  <a:pt x="12080" y="76"/>
                </a:moveTo>
                <a:arcTo wR="10800" hR="10800" stAng="-4991495" swAng="9945654"/>
              </a:path>
            </a:pathLst>
          </a:custGeom>
          <a:noFill/>
          <a:ln w="28440">
            <a:solidFill>
              <a:srgbClr val="cc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 flipV="1" rot="3058200">
            <a:off x="2730600" y="4700160"/>
            <a:ext cx="231480" cy="25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080" y="76"/>
                </a:moveTo>
                <a:arcTo wR="10800" hR="10800" stAng="-4991495" swAng="9945654"/>
                <a:lnTo>
                  <a:pt x="10800" y="10800"/>
                </a:lnTo>
                <a:close/>
              </a:path>
              <a:path fill="none" w="21600" h="21600">
                <a:moveTo>
                  <a:pt x="12080" y="76"/>
                </a:moveTo>
                <a:arcTo wR="10800" hR="10800" stAng="-4991495" swAng="9945654"/>
              </a:path>
            </a:pathLst>
          </a:custGeom>
          <a:noFill/>
          <a:ln w="28440">
            <a:solidFill>
              <a:srgbClr val="cc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0" name=""/>
              <p:cNvSpPr txBox="1"/>
              <p:nvPr/>
            </p:nvSpPr>
            <p:spPr>
              <a:xfrm>
                <a:off x="803160" y="4394160"/>
                <a:ext cx="33192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1" name=""/>
              <p:cNvSpPr txBox="1"/>
              <p:nvPr/>
            </p:nvSpPr>
            <p:spPr>
              <a:xfrm>
                <a:off x="3505320" y="4398840"/>
                <a:ext cx="33156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2" name=""/>
              <p:cNvSpPr txBox="1"/>
              <p:nvPr/>
            </p:nvSpPr>
            <p:spPr>
              <a:xfrm>
                <a:off x="2070000" y="4606920"/>
                <a:ext cx="35100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3" name=""/>
              <p:cNvSpPr txBox="1"/>
              <p:nvPr/>
            </p:nvSpPr>
            <p:spPr>
              <a:xfrm>
                <a:off x="558720" y="5221440"/>
                <a:ext cx="3510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4" name=""/>
              <p:cNvSpPr txBox="1"/>
              <p:nvPr/>
            </p:nvSpPr>
            <p:spPr>
              <a:xfrm>
                <a:off x="3645000" y="5221440"/>
                <a:ext cx="3506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5" name=""/>
              <p:cNvSpPr txBox="1"/>
              <p:nvPr/>
            </p:nvSpPr>
            <p:spPr>
              <a:xfrm>
                <a:off x="1278000" y="4451400"/>
                <a:ext cx="35064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6" name=""/>
              <p:cNvSpPr txBox="1"/>
              <p:nvPr/>
            </p:nvSpPr>
            <p:spPr>
              <a:xfrm>
                <a:off x="2862360" y="4481640"/>
                <a:ext cx="35064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7" name=""/>
              <p:cNvSpPr txBox="1"/>
              <p:nvPr/>
            </p:nvSpPr>
            <p:spPr>
              <a:xfrm>
                <a:off x="2411280" y="5148360"/>
                <a:ext cx="35100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8" name=""/>
              <p:cNvSpPr txBox="1"/>
              <p:nvPr/>
            </p:nvSpPr>
            <p:spPr>
              <a:xfrm>
                <a:off x="1801800" y="5140440"/>
                <a:ext cx="35100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59" name=""/>
          <p:cNvSpPr/>
          <p:nvPr/>
        </p:nvSpPr>
        <p:spPr>
          <a:xfrm flipH="1">
            <a:off x="1350720" y="4962600"/>
            <a:ext cx="144360" cy="358560"/>
          </a:xfrm>
          <a:prstGeom prst="line">
            <a:avLst/>
          </a:prstGeom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 flipV="1">
            <a:off x="1365120" y="5163840"/>
            <a:ext cx="289080" cy="144360"/>
          </a:xfrm>
          <a:prstGeom prst="line">
            <a:avLst/>
          </a:prstGeom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1" name=""/>
              <p:cNvSpPr txBox="1"/>
              <p:nvPr/>
            </p:nvSpPr>
            <p:spPr>
              <a:xfrm>
                <a:off x="1116000" y="5229360"/>
                <a:ext cx="3510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2" name=""/>
              <p:cNvSpPr txBox="1"/>
              <p:nvPr/>
            </p:nvSpPr>
            <p:spPr>
              <a:xfrm>
                <a:off x="2916360" y="5159520"/>
                <a:ext cx="3506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3" name=""/>
              <p:cNvSpPr txBox="1"/>
              <p:nvPr/>
            </p:nvSpPr>
            <p:spPr>
              <a:xfrm>
                <a:off x="2503440" y="4552920"/>
                <a:ext cx="3510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4" name=""/>
              <p:cNvSpPr txBox="1"/>
              <p:nvPr/>
            </p:nvSpPr>
            <p:spPr>
              <a:xfrm>
                <a:off x="3911760" y="3152880"/>
                <a:ext cx="1322280" cy="16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5" name=""/>
              <p:cNvSpPr txBox="1"/>
              <p:nvPr/>
            </p:nvSpPr>
            <p:spPr>
              <a:xfrm>
                <a:off x="5516640" y="3444840"/>
                <a:ext cx="187164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η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 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66" name=""/>
          <p:cNvSpPr/>
          <p:nvPr/>
        </p:nvSpPr>
        <p:spPr>
          <a:xfrm flipH="1" rot="5436600">
            <a:off x="4609800" y="3878640"/>
            <a:ext cx="1513080" cy="203040"/>
          </a:xfrm>
          <a:prstGeom prst="triangle">
            <a:avLst>
              <a:gd name="adj" fmla="val 50000"/>
            </a:avLst>
          </a:prstGeom>
          <a:solidFill>
            <a:srgbClr val="8fcc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7" name=""/>
              <p:cNvSpPr txBox="1"/>
              <p:nvPr/>
            </p:nvSpPr>
            <p:spPr>
              <a:xfrm>
                <a:off x="7591320" y="3009960"/>
                <a:ext cx="122400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im</m:t>
                        </m:r>
                      </m:sub>
                    </m:sSub>
                    <m:r>
                      <m:t xml:space="preserve">=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8" name=""/>
              <p:cNvSpPr txBox="1"/>
              <p:nvPr/>
            </p:nvSpPr>
            <p:spPr>
              <a:xfrm>
                <a:off x="7524720" y="4076640"/>
                <a:ext cx="130176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sim</m:t>
                        </m:r>
                      </m:sub>
                    </m:sSub>
                    <m:r>
                      <m:t xml:space="preserve">=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9" name=""/>
              <p:cNvSpPr txBox="1"/>
              <p:nvPr/>
            </p:nvSpPr>
            <p:spPr>
              <a:xfrm>
                <a:off x="5264280" y="4743360"/>
                <a:ext cx="33670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~"/>
                                    </m:accPr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acc>
                                    <m:accPr>
                                      <m:chr m:val="~"/>
                                    </m:accPr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acc>
                                    <m:accPr>
                                      <m:chr m:val="~"/>
                                    </m:accPr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~"/>
                                    </m:accPr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acc>
                                    <m:accPr>
                                      <m:chr m:val="~"/>
                                    </m:accPr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acc>
                                    <m:accPr>
                                      <m:chr m:val="~"/>
                                    </m:accPr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~"/>
                                    </m:accPr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acc>
                                    <m:accPr>
                                      <m:chr m:val="~"/>
                                    </m:accPr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acc>
                                    <m:accPr>
                                      <m:chr m:val="~"/>
                                    </m:accPr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4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⋅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0" name=""/>
              <p:cNvSpPr txBox="1"/>
              <p:nvPr/>
            </p:nvSpPr>
            <p:spPr>
              <a:xfrm>
                <a:off x="5780160" y="5859360"/>
                <a:ext cx="284472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~"/>
                                    </m:accPr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acc>
                                    <m:accPr>
                                      <m:chr m:val="~"/>
                                    </m:accPr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5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~"/>
                                    </m:accPr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5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acc>
                                    <m:accPr>
                                      <m:chr m:val="~"/>
                                    </m:accPr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55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⋅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71" name=""/>
          <p:cNvSpPr/>
          <p:nvPr/>
        </p:nvSpPr>
        <p:spPr>
          <a:xfrm>
            <a:off x="3132000" y="1849320"/>
            <a:ext cx="1152720" cy="712080"/>
          </a:xfrm>
          <a:prstGeom prst="rect">
            <a:avLst/>
          </a:prstGeom>
          <a:solidFill>
            <a:srgbClr val="f1ad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938160" y="5962680"/>
            <a:ext cx="25876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Искомые силовые фактор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в рассчитываемой СНС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3" name=""/>
              <p:cNvSpPr txBox="1"/>
              <p:nvPr/>
            </p:nvSpPr>
            <p:spPr>
              <a:xfrm>
                <a:off x="3525840" y="5996160"/>
                <a:ext cx="165564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 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Σ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8" dur="indefinite" restart="never" nodeType="tmRoot">
          <p:childTnLst>
            <p:seq>
              <p:cTn id="4319" dur="indefinite" nodeType="mainSeq">
                <p:childTnLst>
                  <p:par>
                    <p:cTn id="4320" fill="hold">
                      <p:stCondLst>
                        <p:cond delay="0"/>
                      </p:stCondLst>
                      <p:childTnLst>
                        <p:par>
                          <p:cTn id="4321" fill="hold">
                            <p:stCondLst>
                              <p:cond delay="0"/>
                            </p:stCondLst>
                            <p:childTnLst>
                              <p:par>
                                <p:cTn id="43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24" dur="80"/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25" dur="80"/>
                                        <p:tgtEl>
                                          <p:spTgt spid="13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26" dur="80"/>
                                        <p:tgtEl>
                                          <p:spTgt spid="13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7" fill="hold">
                      <p:stCondLst>
                        <p:cond delay="indefinite"/>
                      </p:stCondLst>
                      <p:childTnLst>
                        <p:par>
                          <p:cTn id="4328" fill="hold">
                            <p:stCondLst>
                              <p:cond delay="0"/>
                            </p:stCondLst>
                            <p:childTnLst>
                              <p:par>
                                <p:cTn id="43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1" dur="5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4" dur="5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7" dur="500"/>
                                        <p:tgtEl>
                                          <p:spTgt spid="1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0" dur="5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3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6" dur="5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9" dur="5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52" dur="5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55" dur="5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58" dur="5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1" dur="5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4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7" dur="5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70" dur="5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73" dur="5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76" dur="5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79" dur="5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2" dur="500"/>
                                        <p:tgtEl>
                                          <p:spTgt spid="1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5" dur="500"/>
                                        <p:tgtEl>
                                          <p:spTgt spid="1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8" dur="500"/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1" dur="5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4" dur="5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7" dur="5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0" dur="500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1" fill="hold">
                      <p:stCondLst>
                        <p:cond delay="indefinite"/>
                      </p:stCondLst>
                      <p:childTnLst>
                        <p:par>
                          <p:cTn id="4402" fill="hold">
                            <p:stCondLst>
                              <p:cond delay="0"/>
                            </p:stCondLst>
                            <p:childTnLst>
                              <p:par>
                                <p:cTn id="44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05" dur="5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6" fill="hold">
                      <p:stCondLst>
                        <p:cond delay="indefinite"/>
                      </p:stCondLst>
                      <p:childTnLst>
                        <p:par>
                          <p:cTn id="4407" fill="hold">
                            <p:stCondLst>
                              <p:cond delay="0"/>
                            </p:stCondLst>
                            <p:childTnLst>
                              <p:par>
                                <p:cTn id="44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0" dur="5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3" dur="5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6" dur="5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9" dur="5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2" dur="500"/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5" dur="5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8" dur="5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1" dur="5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4" dur="5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7" dur="5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0" dur="50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3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6" dur="5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9" dur="5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2" dur="5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5" dur="5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8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61" dur="500"/>
                                        <p:tgtEl>
                                          <p:spTgt spid="1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64" dur="500"/>
                                        <p:tgtEl>
                                          <p:spTgt spid="1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67" dur="500"/>
                                        <p:tgtEl>
                                          <p:spTgt spid="1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0" dur="500"/>
                                        <p:tgtEl>
                                          <p:spTgt spid="1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3" dur="500"/>
                                        <p:tgtEl>
                                          <p:spTgt spid="1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6" dur="5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9" dur="5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2" dur="5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5" dur="5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8" dur="5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1" dur="5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2" fill="hold">
                      <p:stCondLst>
                        <p:cond delay="indefinite"/>
                      </p:stCondLst>
                      <p:childTnLst>
                        <p:par>
                          <p:cTn id="4493" fill="hold">
                            <p:stCondLst>
                              <p:cond delay="0"/>
                            </p:stCondLst>
                            <p:childTnLst>
                              <p:par>
                                <p:cTn id="44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6" dur="5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9" dur="500"/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02" dur="5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05" dur="5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08" dur="5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11" dur="5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14" dur="50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17" dur="500"/>
                                        <p:tgtEl>
                                          <p:spTgt spid="1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0" dur="5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3" dur="500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6" dur="500"/>
                                        <p:tgtEl>
                                          <p:spTgt spid="1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9" dur="500"/>
                                        <p:tgtEl>
                                          <p:spTgt spid="1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32" dur="500"/>
                                        <p:tgtEl>
                                          <p:spTgt spid="1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35" dur="5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38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9" fill="hold">
                      <p:stCondLst>
                        <p:cond delay="indefinite"/>
                      </p:stCondLst>
                      <p:childTnLst>
                        <p:par>
                          <p:cTn id="4540" fill="hold">
                            <p:stCondLst>
                              <p:cond delay="0"/>
                            </p:stCondLst>
                            <p:childTnLst>
                              <p:par>
                                <p:cTn id="45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43" dur="5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46" dur="5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49" dur="5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2" dur="5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3" fill="hold">
                      <p:stCondLst>
                        <p:cond delay="indefinite"/>
                      </p:stCondLst>
                      <p:childTnLst>
                        <p:par>
                          <p:cTn id="4554" fill="hold">
                            <p:stCondLst>
                              <p:cond delay="0"/>
                            </p:stCondLst>
                            <p:childTnLst>
                              <p:par>
                                <p:cTn id="45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7" dur="5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0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3" dur="5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6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7" fill="hold">
                      <p:stCondLst>
                        <p:cond delay="indefinite"/>
                      </p:stCondLst>
                      <p:childTnLst>
                        <p:par>
                          <p:cTn id="4568" fill="hold">
                            <p:stCondLst>
                              <p:cond delay="0"/>
                            </p:stCondLst>
                            <p:childTnLst>
                              <p:par>
                                <p:cTn id="45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71" dur="5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74" dur="500"/>
                                        <p:tgtEl>
                                          <p:spTgt spid="1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77" dur="5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8" fill="hold">
                      <p:stCondLst>
                        <p:cond delay="indefinite"/>
                      </p:stCondLst>
                      <p:childTnLst>
                        <p:par>
                          <p:cTn id="4579" fill="hold">
                            <p:stCondLst>
                              <p:cond delay="0"/>
                            </p:stCondLst>
                            <p:childTnLst>
                              <p:par>
                                <p:cTn id="45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2" dur="5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5" dur="5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8" dur="5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1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4" dur="5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7" dur="5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0" dur="5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3" dur="5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4" fill="hold">
                      <p:stCondLst>
                        <p:cond delay="indefinite"/>
                      </p:stCondLst>
                      <p:childTnLst>
                        <p:par>
                          <p:cTn id="4605" fill="hold">
                            <p:stCondLst>
                              <p:cond delay="0"/>
                            </p:stCondLst>
                            <p:childTnLst>
                              <p:par>
                                <p:cTn id="46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8" dur="5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11" dur="5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14" dur="5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17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20" dur="5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23" dur="5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26" dur="5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29" dur="5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2" dur="5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3" fill="hold">
                      <p:stCondLst>
                        <p:cond delay="indefinite"/>
                      </p:stCondLst>
                      <p:childTnLst>
                        <p:par>
                          <p:cTn id="4634" fill="hold">
                            <p:stCondLst>
                              <p:cond delay="0"/>
                            </p:stCondLst>
                            <p:childTnLst>
                              <p:par>
                                <p:cTn id="46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7" dur="1000" fill="hold"/>
                                        <p:tgtEl>
                                          <p:spTgt spid="1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8" dur="1000" fill="hold"/>
                                        <p:tgtEl>
                                          <p:spTgt spid="1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9" dur="10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0" fill="hold">
                      <p:stCondLst>
                        <p:cond delay="indefinite"/>
                      </p:stCondLst>
                      <p:childTnLst>
                        <p:par>
                          <p:cTn id="4641" fill="hold">
                            <p:stCondLst>
                              <p:cond delay="0"/>
                            </p:stCondLst>
                            <p:childTnLst>
                              <p:par>
                                <p:cTn id="46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4" dur="1000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5" dur="1000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6" dur="10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9" dur="1000" fill="hold"/>
                                        <p:tgtEl>
                                          <p:spTgt spid="1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0" dur="1000" fill="hold"/>
                                        <p:tgtEl>
                                          <p:spTgt spid="1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1" dur="10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2" fill="hold">
                      <p:stCondLst>
                        <p:cond delay="indefinite"/>
                      </p:stCondLst>
                      <p:childTnLst>
                        <p:par>
                          <p:cTn id="4653" fill="hold">
                            <p:stCondLst>
                              <p:cond delay="0"/>
                            </p:stCondLst>
                            <p:childTnLst>
                              <p:par>
                                <p:cTn id="46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6" dur="10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7" dur="1000" fill="hold"/>
                                        <p:tgtEl>
                                          <p:spTgt spid="1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8" dur="1000" fill="hold"/>
                                        <p:tgtEl>
                                          <p:spTgt spid="1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9" fill="hold">
                      <p:stCondLst>
                        <p:cond delay="indefinite"/>
                      </p:stCondLst>
                      <p:childTnLst>
                        <p:par>
                          <p:cTn id="4660" fill="hold">
                            <p:stCondLst>
                              <p:cond delay="0"/>
                            </p:stCondLst>
                            <p:childTnLst>
                              <p:par>
                                <p:cTn id="46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3" dur="10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4" dur="1000" fill="hold"/>
                                        <p:tgtEl>
                                          <p:spTgt spid="1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5" dur="1000" fill="hold"/>
                                        <p:tgtEl>
                                          <p:spTgt spid="1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6" fill="hold">
                      <p:stCondLst>
                        <p:cond delay="indefinite"/>
                      </p:stCondLst>
                      <p:childTnLst>
                        <p:par>
                          <p:cTn id="4667" fill="hold">
                            <p:stCondLst>
                              <p:cond delay="0"/>
                            </p:stCondLst>
                            <p:childTnLst>
                              <p:par>
                                <p:cTn id="46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0" dur="10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1" dur="1000" fill="hold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2" dur="900" fill="hold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4" fill="hold">
                      <p:stCondLst>
                        <p:cond delay="indefinite"/>
                      </p:stCondLst>
                      <p:childTnLst>
                        <p:par>
                          <p:cTn id="4675" fill="hold">
                            <p:stCondLst>
                              <p:cond delay="0"/>
                            </p:stCondLst>
                            <p:childTnLst>
                              <p:par>
                                <p:cTn id="46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8" dur="10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9" dur="10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0" dur="9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2" fill="hold">
                      <p:stCondLst>
                        <p:cond delay="indefinite"/>
                      </p:stCondLst>
                      <p:childTnLst>
                        <p:par>
                          <p:cTn id="4683" fill="hold">
                            <p:stCondLst>
                              <p:cond delay="0"/>
                            </p:stCondLst>
                            <p:childTnLst>
                              <p:par>
                                <p:cTn id="46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6" dur="1000" fill="hold"/>
                                        <p:tgtEl>
                                          <p:spTgt spid="1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7" dur="1000" fill="hold"/>
                                        <p:tgtEl>
                                          <p:spTgt spid="1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88" dur="10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9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92" dur="20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">
            <a:hlinkClick r:id="" action="ppaction://hlinkshowjump?jump=nextslide"/>
          </p:cNvPr>
          <p:cNvSpPr/>
          <p:nvPr/>
        </p:nvSpPr>
        <p:spPr>
          <a:xfrm>
            <a:off x="324000" y="260280"/>
            <a:ext cx="849780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 Narrow"/>
              </a:rPr>
              <a:t>РАЗЛОЖЕНИЕ НАГРУЗКИ И РАЗДЕЛЕНИЕ СИСТЕМЫ ПО ОСИ СИММЕТ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3263760" y="1741320"/>
            <a:ext cx="273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3240000" y="17542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3119400" y="1932120"/>
            <a:ext cx="252360" cy="72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3122640" y="193212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3209760" y="1892160"/>
            <a:ext cx="7164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3201840" y="171612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6021360" y="17413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5900760" y="1919160"/>
            <a:ext cx="252360" cy="73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5904000" y="191916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5991120" y="1879560"/>
            <a:ext cx="7164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5983200" y="170352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3983040" y="1052640"/>
            <a:ext cx="0" cy="143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4594320" y="765000"/>
            <a:ext cx="0" cy="180036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4535640" y="682560"/>
            <a:ext cx="107640" cy="252360"/>
          </a:xfrm>
          <a:custGeom>
            <a:avLst/>
            <a:gdLst/>
            <a:ahLst/>
            <a:rect l="l" t="t" r="r" b="b"/>
            <a:pathLst>
              <a:path w="91" h="136">
                <a:moveTo>
                  <a:pt x="0" y="136"/>
                </a:moveTo>
                <a:lnTo>
                  <a:pt x="46" y="0"/>
                </a:lnTo>
                <a:lnTo>
                  <a:pt x="91" y="13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4414680" y="62064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5207040" y="1052640"/>
            <a:ext cx="0" cy="143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3851280" y="2492280"/>
            <a:ext cx="252360" cy="73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3854520" y="249228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3941640" y="245268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5083200" y="2492280"/>
            <a:ext cx="252360" cy="73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5086440" y="249228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5173560" y="245268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3983040" y="105264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4560840" y="101916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816120" y="3252960"/>
            <a:ext cx="273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792000" y="32655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671400" y="3443400"/>
            <a:ext cx="252360" cy="730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674640" y="344340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762120" y="3403440"/>
            <a:ext cx="7128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754200" y="3227400"/>
            <a:ext cx="712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3573360" y="325296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3452760" y="3430440"/>
            <a:ext cx="252360" cy="730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3456000" y="343044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3543480" y="3390840"/>
            <a:ext cx="7128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3535200" y="321480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1535040" y="2563920"/>
            <a:ext cx="0" cy="143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2146320" y="2071800"/>
            <a:ext cx="0" cy="180000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2097000" y="1989000"/>
            <a:ext cx="108000" cy="252720"/>
          </a:xfrm>
          <a:custGeom>
            <a:avLst/>
            <a:gdLst/>
            <a:ahLst/>
            <a:rect l="l" t="t" r="r" b="b"/>
            <a:pathLst>
              <a:path w="91" h="136">
                <a:moveTo>
                  <a:pt x="0" y="136"/>
                </a:moveTo>
                <a:lnTo>
                  <a:pt x="46" y="0"/>
                </a:lnTo>
                <a:lnTo>
                  <a:pt x="91" y="13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1967040" y="193356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2759040" y="2563920"/>
            <a:ext cx="0" cy="143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1403280" y="4003560"/>
            <a:ext cx="252360" cy="730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1406520" y="400356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>
            <a:off x="1494000" y="3963960"/>
            <a:ext cx="7128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2635200" y="4003560"/>
            <a:ext cx="252360" cy="730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2638440" y="400356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2725560" y="3963960"/>
            <a:ext cx="7164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1535040" y="256392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>
            <a:off x="2112840" y="2530440"/>
            <a:ext cx="7164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5567400" y="3252960"/>
            <a:ext cx="273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5543640" y="32655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5423040" y="3443400"/>
            <a:ext cx="252360" cy="730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5425920" y="3443400"/>
            <a:ext cx="252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5513400" y="3403440"/>
            <a:ext cx="7128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5505480" y="3227400"/>
            <a:ext cx="712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8325000" y="325296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8204040" y="3430440"/>
            <a:ext cx="252720" cy="730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8207280" y="343044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8294760" y="3390840"/>
            <a:ext cx="7128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8286840" y="3214800"/>
            <a:ext cx="712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6286680" y="2563920"/>
            <a:ext cx="0" cy="143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>
            <a:off x="6897600" y="2276640"/>
            <a:ext cx="0" cy="180000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6848640" y="2193840"/>
            <a:ext cx="107640" cy="252360"/>
          </a:xfrm>
          <a:custGeom>
            <a:avLst/>
            <a:gdLst/>
            <a:ahLst/>
            <a:rect l="l" t="t" r="r" b="b"/>
            <a:pathLst>
              <a:path w="91" h="136">
                <a:moveTo>
                  <a:pt x="0" y="136"/>
                </a:moveTo>
                <a:lnTo>
                  <a:pt x="46" y="0"/>
                </a:lnTo>
                <a:lnTo>
                  <a:pt x="91" y="13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6718320" y="213192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7510320" y="2563920"/>
            <a:ext cx="0" cy="143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>
            <a:off x="6154560" y="4003560"/>
            <a:ext cx="252720" cy="730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>
            <a:off x="6157800" y="400356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6245280" y="3963960"/>
            <a:ext cx="7128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7386480" y="4003560"/>
            <a:ext cx="252720" cy="7308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7389720" y="400356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7477200" y="3963960"/>
            <a:ext cx="7128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6286680" y="2563920"/>
            <a:ext cx="122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6864480" y="2530440"/>
            <a:ext cx="7128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3419640" y="1252440"/>
            <a:ext cx="542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 flipV="1" rot="13033800">
            <a:off x="3813120" y="2033640"/>
            <a:ext cx="326160" cy="327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554" y="3826"/>
                </a:moveTo>
                <a:arcTo wR="10800" hR="10800" stAng="-8386739" swAng="13340897"/>
                <a:lnTo>
                  <a:pt x="10800" y="10800"/>
                </a:lnTo>
                <a:close/>
              </a:path>
              <a:path fill="none" w="21600" h="21600">
                <a:moveTo>
                  <a:pt x="2554" y="3826"/>
                </a:moveTo>
                <a:arcTo wR="10800" hR="10800" stAng="-8386739" swAng="1334089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3349800" y="1557360"/>
            <a:ext cx="0" cy="179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3494160" y="1557360"/>
            <a:ext cx="0" cy="179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3637080" y="1557360"/>
            <a:ext cx="0" cy="179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>
            <a:off x="3781440" y="1557360"/>
            <a:ext cx="0" cy="179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>
            <a:off x="3349800" y="1557360"/>
            <a:ext cx="431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>
            <a:off x="3419640" y="9079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3433680" y="11984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"/>
          <p:cNvSpPr/>
          <p:nvPr/>
        </p:nvSpPr>
        <p:spPr>
          <a:xfrm>
            <a:off x="3505320" y="1838160"/>
            <a:ext cx="4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"/>
          <p:cNvSpPr/>
          <p:nvPr/>
        </p:nvSpPr>
        <p:spPr>
          <a:xfrm>
            <a:off x="1187280" y="2781360"/>
            <a:ext cx="32724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"/>
          <p:cNvSpPr/>
          <p:nvPr/>
        </p:nvSpPr>
        <p:spPr>
          <a:xfrm>
            <a:off x="5973840" y="2781360"/>
            <a:ext cx="326880" cy="0"/>
          </a:xfrm>
          <a:prstGeom prst="line">
            <a:avLst/>
          </a:prstGeom>
          <a:ln w="38160">
            <a:solidFill>
              <a:srgbClr val="66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"/>
          <p:cNvSpPr/>
          <p:nvPr/>
        </p:nvSpPr>
        <p:spPr>
          <a:xfrm>
            <a:off x="7162920" y="2781360"/>
            <a:ext cx="326880" cy="0"/>
          </a:xfrm>
          <a:prstGeom prst="line">
            <a:avLst/>
          </a:prstGeom>
          <a:ln w="38160">
            <a:solidFill>
              <a:srgbClr val="66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"/>
          <p:cNvSpPr/>
          <p:nvPr/>
        </p:nvSpPr>
        <p:spPr>
          <a:xfrm flipH="1">
            <a:off x="2771280" y="2781360"/>
            <a:ext cx="32076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"/>
          <p:cNvSpPr/>
          <p:nvPr/>
        </p:nvSpPr>
        <p:spPr>
          <a:xfrm flipV="1" rot="13033800">
            <a:off x="1360440" y="3524400"/>
            <a:ext cx="326160" cy="327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554" y="3826"/>
                </a:moveTo>
                <a:arcTo wR="10800" hR="10800" stAng="-8386739" swAng="13340897"/>
                <a:lnTo>
                  <a:pt x="10800" y="10800"/>
                </a:lnTo>
                <a:close/>
              </a:path>
              <a:path fill="none" w="21600" h="21600">
                <a:moveTo>
                  <a:pt x="2554" y="3826"/>
                </a:moveTo>
                <a:arcTo wR="10800" hR="10800" stAng="-8386739" swAng="13340897"/>
              </a:path>
            </a:pathLst>
          </a:custGeom>
          <a:noFill/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"/>
          <p:cNvSpPr/>
          <p:nvPr/>
        </p:nvSpPr>
        <p:spPr>
          <a:xfrm flipV="1" rot="13033800">
            <a:off x="6126120" y="3544920"/>
            <a:ext cx="326160" cy="327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554" y="3826"/>
                </a:moveTo>
                <a:arcTo wR="10800" hR="10800" stAng="-8386739" swAng="13340897"/>
                <a:lnTo>
                  <a:pt x="10800" y="10800"/>
                </a:lnTo>
                <a:close/>
              </a:path>
              <a:path fill="none" w="21600" h="21600">
                <a:moveTo>
                  <a:pt x="2554" y="3826"/>
                </a:moveTo>
                <a:arcTo wR="10800" hR="10800" stAng="-8386739" swAng="13340897"/>
              </a:path>
            </a:pathLst>
          </a:custGeom>
          <a:noFill/>
          <a:ln w="38160">
            <a:solidFill>
              <a:srgbClr val="66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"/>
          <p:cNvSpPr/>
          <p:nvPr/>
        </p:nvSpPr>
        <p:spPr>
          <a:xfrm flipV="1" rot="13033800">
            <a:off x="7350480" y="3558960"/>
            <a:ext cx="325080" cy="327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554" y="3826"/>
                </a:moveTo>
                <a:arcTo wR="10800" hR="10800" stAng="-8386739" swAng="13340897"/>
                <a:lnTo>
                  <a:pt x="10800" y="10800"/>
                </a:lnTo>
                <a:close/>
              </a:path>
              <a:path fill="none" w="21600" h="21600">
                <a:moveTo>
                  <a:pt x="2554" y="3826"/>
                </a:moveTo>
                <a:arcTo wR="10800" hR="10800" stAng="-8386739" swAng="13340897"/>
              </a:path>
            </a:pathLst>
          </a:custGeom>
          <a:noFill/>
          <a:ln w="38160">
            <a:solidFill>
              <a:srgbClr val="66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"/>
          <p:cNvSpPr/>
          <p:nvPr/>
        </p:nvSpPr>
        <p:spPr>
          <a:xfrm flipH="1" flipV="1" rot="7770000">
            <a:off x="2594880" y="3526920"/>
            <a:ext cx="327240" cy="327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554" y="3826"/>
                </a:moveTo>
                <a:arcTo wR="10800" hR="10800" stAng="-8386739" swAng="13340897"/>
                <a:lnTo>
                  <a:pt x="10800" y="10800"/>
                </a:lnTo>
                <a:close/>
              </a:path>
              <a:path fill="none" w="21600" h="21600">
                <a:moveTo>
                  <a:pt x="2554" y="3826"/>
                </a:moveTo>
                <a:arcTo wR="10800" hR="10800" stAng="-8386739" swAng="13340897"/>
              </a:path>
            </a:pathLst>
          </a:custGeom>
          <a:noFill/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"/>
          <p:cNvSpPr/>
          <p:nvPr/>
        </p:nvSpPr>
        <p:spPr>
          <a:xfrm>
            <a:off x="909720" y="3062160"/>
            <a:ext cx="0" cy="17964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"/>
          <p:cNvSpPr/>
          <p:nvPr/>
        </p:nvSpPr>
        <p:spPr>
          <a:xfrm>
            <a:off x="1054080" y="3062160"/>
            <a:ext cx="0" cy="17964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"/>
          <p:cNvSpPr/>
          <p:nvPr/>
        </p:nvSpPr>
        <p:spPr>
          <a:xfrm>
            <a:off x="1197000" y="3062160"/>
            <a:ext cx="0" cy="17964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"/>
          <p:cNvSpPr/>
          <p:nvPr/>
        </p:nvSpPr>
        <p:spPr>
          <a:xfrm>
            <a:off x="1341360" y="3062160"/>
            <a:ext cx="0" cy="17964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"/>
          <p:cNvSpPr/>
          <p:nvPr/>
        </p:nvSpPr>
        <p:spPr>
          <a:xfrm>
            <a:off x="909720" y="3062160"/>
            <a:ext cx="431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"/>
          <p:cNvSpPr/>
          <p:nvPr/>
        </p:nvSpPr>
        <p:spPr>
          <a:xfrm>
            <a:off x="684360" y="274464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>
            <a:off x="2987640" y="3062160"/>
            <a:ext cx="0" cy="17964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/>
          <p:cNvSpPr/>
          <p:nvPr/>
        </p:nvSpPr>
        <p:spPr>
          <a:xfrm>
            <a:off x="3132000" y="3062160"/>
            <a:ext cx="0" cy="17964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"/>
          <p:cNvSpPr/>
          <p:nvPr/>
        </p:nvSpPr>
        <p:spPr>
          <a:xfrm>
            <a:off x="3274920" y="3062160"/>
            <a:ext cx="0" cy="17964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"/>
          <p:cNvSpPr/>
          <p:nvPr/>
        </p:nvSpPr>
        <p:spPr>
          <a:xfrm>
            <a:off x="3419640" y="3062160"/>
            <a:ext cx="0" cy="17964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>
            <a:off x="2987640" y="3062160"/>
            <a:ext cx="43200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>
            <a:off x="5664240" y="3062160"/>
            <a:ext cx="0" cy="179640"/>
          </a:xfrm>
          <a:prstGeom prst="line">
            <a:avLst/>
          </a:prstGeom>
          <a:ln w="12600">
            <a:solidFill>
              <a:srgbClr val="6600ff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"/>
          <p:cNvSpPr/>
          <p:nvPr/>
        </p:nvSpPr>
        <p:spPr>
          <a:xfrm>
            <a:off x="5808600" y="3062160"/>
            <a:ext cx="0" cy="179640"/>
          </a:xfrm>
          <a:prstGeom prst="line">
            <a:avLst/>
          </a:prstGeom>
          <a:ln w="12600">
            <a:solidFill>
              <a:srgbClr val="6600ff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"/>
          <p:cNvSpPr/>
          <p:nvPr/>
        </p:nvSpPr>
        <p:spPr>
          <a:xfrm>
            <a:off x="5951520" y="3062160"/>
            <a:ext cx="0" cy="179640"/>
          </a:xfrm>
          <a:prstGeom prst="line">
            <a:avLst/>
          </a:prstGeom>
          <a:ln w="12600">
            <a:solidFill>
              <a:srgbClr val="6600ff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6095880" y="3062160"/>
            <a:ext cx="0" cy="179640"/>
          </a:xfrm>
          <a:prstGeom prst="line">
            <a:avLst/>
          </a:prstGeom>
          <a:ln w="12600">
            <a:solidFill>
              <a:srgbClr val="6600ff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"/>
          <p:cNvSpPr/>
          <p:nvPr/>
        </p:nvSpPr>
        <p:spPr>
          <a:xfrm>
            <a:off x="5664240" y="3062160"/>
            <a:ext cx="431640" cy="0"/>
          </a:xfrm>
          <a:prstGeom prst="line">
            <a:avLst/>
          </a:prstGeom>
          <a:ln w="1260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"/>
          <p:cNvSpPr/>
          <p:nvPr/>
        </p:nvSpPr>
        <p:spPr>
          <a:xfrm flipV="1">
            <a:off x="7740720" y="3262320"/>
            <a:ext cx="0" cy="179280"/>
          </a:xfrm>
          <a:prstGeom prst="line">
            <a:avLst/>
          </a:prstGeom>
          <a:ln w="12600">
            <a:solidFill>
              <a:srgbClr val="6600ff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>
            <a:off x="7734240" y="3440160"/>
            <a:ext cx="432000" cy="0"/>
          </a:xfrm>
          <a:prstGeom prst="line">
            <a:avLst/>
          </a:prstGeom>
          <a:ln w="1260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"/>
          <p:cNvSpPr/>
          <p:nvPr/>
        </p:nvSpPr>
        <p:spPr>
          <a:xfrm flipV="1">
            <a:off x="8028000" y="3259080"/>
            <a:ext cx="0" cy="179280"/>
          </a:xfrm>
          <a:prstGeom prst="line">
            <a:avLst/>
          </a:prstGeom>
          <a:ln w="12600">
            <a:solidFill>
              <a:srgbClr val="6600ff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"/>
          <p:cNvSpPr/>
          <p:nvPr/>
        </p:nvSpPr>
        <p:spPr>
          <a:xfrm flipV="1">
            <a:off x="8172360" y="3259080"/>
            <a:ext cx="0" cy="179280"/>
          </a:xfrm>
          <a:prstGeom prst="line">
            <a:avLst/>
          </a:prstGeom>
          <a:ln w="12600">
            <a:solidFill>
              <a:srgbClr val="6600ff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"/>
          <p:cNvSpPr/>
          <p:nvPr/>
        </p:nvSpPr>
        <p:spPr>
          <a:xfrm flipV="1">
            <a:off x="7885080" y="3265560"/>
            <a:ext cx="0" cy="179280"/>
          </a:xfrm>
          <a:prstGeom prst="line">
            <a:avLst/>
          </a:prstGeom>
          <a:ln w="12600">
            <a:solidFill>
              <a:srgbClr val="6600ff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"/>
          <p:cNvSpPr/>
          <p:nvPr/>
        </p:nvSpPr>
        <p:spPr>
          <a:xfrm>
            <a:off x="3348000" y="27558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"/>
          <p:cNvSpPr/>
          <p:nvPr/>
        </p:nvSpPr>
        <p:spPr>
          <a:xfrm>
            <a:off x="5423040" y="27558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"/>
          <p:cNvSpPr/>
          <p:nvPr/>
        </p:nvSpPr>
        <p:spPr>
          <a:xfrm>
            <a:off x="7805880" y="33685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"/>
          <p:cNvSpPr/>
          <p:nvPr/>
        </p:nvSpPr>
        <p:spPr>
          <a:xfrm>
            <a:off x="868320" y="24462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"/>
          <p:cNvSpPr/>
          <p:nvPr/>
        </p:nvSpPr>
        <p:spPr>
          <a:xfrm>
            <a:off x="2884320" y="24462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"/>
          <p:cNvSpPr/>
          <p:nvPr/>
        </p:nvSpPr>
        <p:spPr>
          <a:xfrm>
            <a:off x="5645160" y="24606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"/>
          <p:cNvSpPr/>
          <p:nvPr/>
        </p:nvSpPr>
        <p:spPr>
          <a:xfrm>
            <a:off x="6948360" y="27558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"/>
          <p:cNvSpPr/>
          <p:nvPr/>
        </p:nvSpPr>
        <p:spPr>
          <a:xfrm>
            <a:off x="6862680" y="37036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"/>
          <p:cNvSpPr/>
          <p:nvPr/>
        </p:nvSpPr>
        <p:spPr>
          <a:xfrm>
            <a:off x="5638680" y="37036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"/>
          <p:cNvSpPr/>
          <p:nvPr/>
        </p:nvSpPr>
        <p:spPr>
          <a:xfrm>
            <a:off x="873000" y="36972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"/>
          <p:cNvSpPr/>
          <p:nvPr/>
        </p:nvSpPr>
        <p:spPr>
          <a:xfrm>
            <a:off x="2809800" y="36910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"/>
          <p:cNvSpPr/>
          <p:nvPr/>
        </p:nvSpPr>
        <p:spPr>
          <a:xfrm>
            <a:off x="468360" y="1522440"/>
            <a:ext cx="165564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 Narrow"/>
              </a:rPr>
              <a:t>Симметричная составляющая нагруз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"/>
          <p:cNvSpPr/>
          <p:nvPr/>
        </p:nvSpPr>
        <p:spPr>
          <a:xfrm>
            <a:off x="6732720" y="1522440"/>
            <a:ext cx="216036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ff"/>
                </a:solidFill>
                <a:latin typeface="Arial Narrow"/>
              </a:rPr>
              <a:t>Обратносимметричная составляющая нагруз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"/>
          <p:cNvSpPr/>
          <p:nvPr/>
        </p:nvSpPr>
        <p:spPr>
          <a:xfrm rot="13903200">
            <a:off x="4065480" y="2409840"/>
            <a:ext cx="192240" cy="620640"/>
          </a:xfrm>
          <a:prstGeom prst="upArrow">
            <a:avLst>
              <a:gd name="adj1" fmla="val 40361"/>
              <a:gd name="adj2" fmla="val 97945"/>
            </a:avLst>
          </a:prstGeom>
          <a:solidFill>
            <a:srgbClr val="f62e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"/>
          <p:cNvSpPr/>
          <p:nvPr/>
        </p:nvSpPr>
        <p:spPr>
          <a:xfrm rot="7574400">
            <a:off x="4965120" y="2426760"/>
            <a:ext cx="191880" cy="621000"/>
          </a:xfrm>
          <a:prstGeom prst="upArrow">
            <a:avLst>
              <a:gd name="adj1" fmla="val 40361"/>
              <a:gd name="adj2" fmla="val 98185"/>
            </a:avLst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3" dur="indefinite" restart="never" nodeType="tmRoot">
          <p:childTnLst>
            <p:seq>
              <p:cTn id="4694" dur="indefinite" nodeType="mainSeq">
                <p:childTnLst>
                  <p:par>
                    <p:cTn id="4695" fill="hold">
                      <p:stCondLst>
                        <p:cond delay="0"/>
                      </p:stCondLst>
                      <p:childTnLst>
                        <p:par>
                          <p:cTn id="4696" fill="hold">
                            <p:stCondLst>
                              <p:cond delay="0"/>
                            </p:stCondLst>
                            <p:childTnLst>
                              <p:par>
                                <p:cTn id="46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99" dur="80"/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00" dur="80"/>
                                        <p:tgtEl>
                                          <p:spTgt spid="14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01" dur="80"/>
                                        <p:tgtEl>
                                          <p:spTgt spid="14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2" fill="hold">
                      <p:stCondLst>
                        <p:cond delay="indefinite"/>
                      </p:stCondLst>
                      <p:childTnLst>
                        <p:par>
                          <p:cTn id="4703" fill="hold">
                            <p:stCondLst>
                              <p:cond delay="0"/>
                            </p:stCondLst>
                            <p:childTnLst>
                              <p:par>
                                <p:cTn id="47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6" dur="5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9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12" dur="5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15" dur="500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18" dur="5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1" dur="5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4" dur="5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7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30" dur="5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33" dur="5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36" dur="5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39" dur="5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2" dur="5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5" dur="5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8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51" dur="5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54" dur="5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57" dur="5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60" dur="500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63" dur="5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66" dur="5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69" dur="500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2" dur="500"/>
                                        <p:tgtEl>
                                          <p:spTgt spid="1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5" dur="50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8" dur="500"/>
                                        <p:tgtEl>
                                          <p:spTgt spid="1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81" dur="500"/>
                                        <p:tgtEl>
                                          <p:spTgt spid="1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84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87" dur="500"/>
                                        <p:tgtEl>
                                          <p:spTgt spid="1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0" dur="500"/>
                                        <p:tgtEl>
                                          <p:spTgt spid="1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3" dur="500"/>
                                        <p:tgtEl>
                                          <p:spTgt spid="1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6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9" dur="5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02" dur="500"/>
                                        <p:tgtEl>
                                          <p:spTgt spid="1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05" dur="500"/>
                                        <p:tgtEl>
                                          <p:spTgt spid="1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6" fill="hold">
                      <p:stCondLst>
                        <p:cond delay="indefinite"/>
                      </p:stCondLst>
                      <p:childTnLst>
                        <p:par>
                          <p:cTn id="4807" fill="hold">
                            <p:stCondLst>
                              <p:cond delay="0"/>
                            </p:stCondLst>
                            <p:childTnLst>
                              <p:par>
                                <p:cTn id="48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0" dur="500"/>
                                        <p:tgtEl>
                                          <p:spTgt spid="1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3" dur="500"/>
                                        <p:tgtEl>
                                          <p:spTgt spid="1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4" fill="hold">
                            <p:stCondLst>
                              <p:cond delay="500"/>
                            </p:stCondLst>
                            <p:childTnLst>
                              <p:par>
                                <p:cTn id="48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7" dur="500"/>
                                        <p:tgtEl>
                                          <p:spTgt spid="1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0" dur="10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1" dur="1000" fill="hold"/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2" dur="1000" fill="hold"/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5" dur="10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6" dur="1000" fill="hold"/>
                                        <p:tgtEl>
                                          <p:spTgt spid="1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7" dur="1000" fill="hold"/>
                                        <p:tgtEl>
                                          <p:spTgt spid="1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0" dur="100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1" dur="1000" fill="hold"/>
                                        <p:tgtEl>
                                          <p:spTgt spid="1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2" dur="1000" fill="hold"/>
                                        <p:tgtEl>
                                          <p:spTgt spid="1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5" dur="10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6" dur="1000" fill="hold"/>
                                        <p:tgtEl>
                                          <p:spTgt spid="1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7" dur="1000" fill="hold"/>
                                        <p:tgtEl>
                                          <p:spTgt spid="1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0" dur="10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1" dur="1000" fill="hold"/>
                                        <p:tgtEl>
                                          <p:spTgt spid="1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2" dur="1000" fill="hold"/>
                                        <p:tgtEl>
                                          <p:spTgt spid="1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5" dur="10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6" dur="1000" fill="hold"/>
                                        <p:tgtEl>
                                          <p:spTgt spid="1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7" dur="1000" fill="hold"/>
                                        <p:tgtEl>
                                          <p:spTgt spid="1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0" dur="10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1" dur="1000" fill="hold"/>
                                        <p:tgtEl>
                                          <p:spTgt spid="1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2" dur="1000" fill="hold"/>
                                        <p:tgtEl>
                                          <p:spTgt spid="1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5" dur="10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6" dur="10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7" dur="10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0" dur="10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1" dur="1000" fill="hold"/>
                                        <p:tgtEl>
                                          <p:spTgt spid="1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2" dur="1000" fill="hold"/>
                                        <p:tgtEl>
                                          <p:spTgt spid="1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5" dur="10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6" dur="1000" fill="hold"/>
                                        <p:tgtEl>
                                          <p:spTgt spid="1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7" dur="1000" fill="hold"/>
                                        <p:tgtEl>
                                          <p:spTgt spid="1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0" dur="10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1" dur="1000" fill="hold"/>
                                        <p:tgtEl>
                                          <p:spTgt spid="1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2" dur="1000" fill="hold"/>
                                        <p:tgtEl>
                                          <p:spTgt spid="1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5" dur="1000"/>
                                        <p:tgtEl>
                                          <p:spTgt spid="15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6" dur="1000" fill="hold"/>
                                        <p:tgtEl>
                                          <p:spTgt spid="1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7" dur="1000" fill="hold"/>
                                        <p:tgtEl>
                                          <p:spTgt spid="1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0" dur="10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1" dur="1000" fill="hold"/>
                                        <p:tgtEl>
                                          <p:spTgt spid="1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2" dur="1000" fill="hold"/>
                                        <p:tgtEl>
                                          <p:spTgt spid="1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5" dur="1000"/>
                                        <p:tgtEl>
                                          <p:spTgt spid="15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6" dur="1000" fill="hold"/>
                                        <p:tgtEl>
                                          <p:spTgt spid="1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7" dur="1000" fill="hold"/>
                                        <p:tgtEl>
                                          <p:spTgt spid="1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8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0" dur="10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1" dur="1000" fill="hold"/>
                                        <p:tgtEl>
                                          <p:spTgt spid="1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2" dur="1000" fill="hold"/>
                                        <p:tgtEl>
                                          <p:spTgt spid="1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5" dur="1000"/>
                                        <p:tgtEl>
                                          <p:spTgt spid="15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6" dur="1000" fill="hold"/>
                                        <p:tgtEl>
                                          <p:spTgt spid="1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7" dur="1000" fill="hold"/>
                                        <p:tgtEl>
                                          <p:spTgt spid="1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0" dur="1000"/>
                                        <p:tgtEl>
                                          <p:spTgt spid="15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1" dur="1000" fill="hold"/>
                                        <p:tgtEl>
                                          <p:spTgt spid="1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2" dur="1000" fill="hold"/>
                                        <p:tgtEl>
                                          <p:spTgt spid="1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5" dur="1000"/>
                                        <p:tgtEl>
                                          <p:spTgt spid="15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6" dur="1000" fill="hold"/>
                                        <p:tgtEl>
                                          <p:spTgt spid="1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7" dur="1000" fill="hold"/>
                                        <p:tgtEl>
                                          <p:spTgt spid="1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0" dur="10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1" dur="1000" fill="hold"/>
                                        <p:tgtEl>
                                          <p:spTgt spid="1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2" dur="1000" fill="hold"/>
                                        <p:tgtEl>
                                          <p:spTgt spid="1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5" dur="1000"/>
                                        <p:tgtEl>
                                          <p:spTgt spid="15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6" dur="1000" fill="hold"/>
                                        <p:tgtEl>
                                          <p:spTgt spid="1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7" dur="1000" fill="hold"/>
                                        <p:tgtEl>
                                          <p:spTgt spid="1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0" dur="1000"/>
                                        <p:tgtEl>
                                          <p:spTgt spid="15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1" dur="1000" fill="hold"/>
                                        <p:tgtEl>
                                          <p:spTgt spid="1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2" dur="1000" fill="hold"/>
                                        <p:tgtEl>
                                          <p:spTgt spid="1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5" dur="1000"/>
                                        <p:tgtEl>
                                          <p:spTgt spid="15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6" dur="1000" fill="hold"/>
                                        <p:tgtEl>
                                          <p:spTgt spid="1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7" dur="1000" fill="hold"/>
                                        <p:tgtEl>
                                          <p:spTgt spid="1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0" dur="1000"/>
                                        <p:tgtEl>
                                          <p:spTgt spid="15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1" dur="1000" fill="hold"/>
                                        <p:tgtEl>
                                          <p:spTgt spid="1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2" dur="1000" fill="hold"/>
                                        <p:tgtEl>
                                          <p:spTgt spid="1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5" dur="10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6" dur="1000" fill="hold"/>
                                        <p:tgtEl>
                                          <p:spTgt spid="1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7" dur="1000" fill="hold"/>
                                        <p:tgtEl>
                                          <p:spTgt spid="1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0" dur="100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1" dur="1000" fill="hold"/>
                                        <p:tgtEl>
                                          <p:spTgt spid="1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2" dur="1000" fill="hold"/>
                                        <p:tgtEl>
                                          <p:spTgt spid="1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5" dur="1000"/>
                                        <p:tgtEl>
                                          <p:spTgt spid="15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6" dur="1000" fill="hold"/>
                                        <p:tgtEl>
                                          <p:spTgt spid="1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7" dur="1000" fill="hold"/>
                                        <p:tgtEl>
                                          <p:spTgt spid="1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0" dur="10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1" dur="1000" fill="hold"/>
                                        <p:tgtEl>
                                          <p:spTgt spid="1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2" dur="1000" fill="hold"/>
                                        <p:tgtEl>
                                          <p:spTgt spid="1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5" dur="1000"/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6" dur="1000" fill="hold"/>
                                        <p:tgtEl>
                                          <p:spTgt spid="1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7" dur="1000" fill="hold"/>
                                        <p:tgtEl>
                                          <p:spTgt spid="1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0" dur="10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1" dur="1000" fill="hold"/>
                                        <p:tgtEl>
                                          <p:spTgt spid="1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2" dur="1000" fill="hold"/>
                                        <p:tgtEl>
                                          <p:spTgt spid="1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6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5" dur="1000"/>
                                        <p:tgtEl>
                                          <p:spTgt spid="15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6" dur="1000" fill="hold"/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7" dur="1000" fill="hold"/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6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0" dur="1000"/>
                                        <p:tgtEl>
                                          <p:spTgt spid="15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1" dur="1000" fill="hold"/>
                                        <p:tgtEl>
                                          <p:spTgt spid="1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2" dur="1000" fill="hold"/>
                                        <p:tgtEl>
                                          <p:spTgt spid="1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5" dur="1000"/>
                                        <p:tgtEl>
                                          <p:spTgt spid="15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6" dur="1000" fill="hold"/>
                                        <p:tgtEl>
                                          <p:spTgt spid="1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7" dur="1000" fill="hold"/>
                                        <p:tgtEl>
                                          <p:spTgt spid="1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0" dur="1000"/>
                                        <p:tgtEl>
                                          <p:spTgt spid="15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1" dur="1000" fill="hold"/>
                                        <p:tgtEl>
                                          <p:spTgt spid="1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2" dur="1000" fill="hold"/>
                                        <p:tgtEl>
                                          <p:spTgt spid="1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5" dur="1000"/>
                                        <p:tgtEl>
                                          <p:spTgt spid="15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6" dur="1000" fill="hold"/>
                                        <p:tgtEl>
                                          <p:spTgt spid="1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7" dur="1000" fill="hold"/>
                                        <p:tgtEl>
                                          <p:spTgt spid="1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0" dur="1000"/>
                                        <p:tgtEl>
                                          <p:spTgt spid="15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1" dur="1000" fill="hold"/>
                                        <p:tgtEl>
                                          <p:spTgt spid="1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2" dur="1000" fill="hold"/>
                                        <p:tgtEl>
                                          <p:spTgt spid="1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5" dur="10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6" dur="1000" fill="hold"/>
                                        <p:tgtEl>
                                          <p:spTgt spid="1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7" dur="1000" fill="hold"/>
                                        <p:tgtEl>
                                          <p:spTgt spid="1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0" dur="1000"/>
                                        <p:tgtEl>
                                          <p:spTgt spid="15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1" dur="1000" fill="hold"/>
                                        <p:tgtEl>
                                          <p:spTgt spid="1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2" dur="1000" fill="hold"/>
                                        <p:tgtEl>
                                          <p:spTgt spid="1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0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5" dur="1000"/>
                                        <p:tgtEl>
                                          <p:spTgt spid="15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6" dur="1000" fill="hold"/>
                                        <p:tgtEl>
                                          <p:spTgt spid="1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7" dur="1000" fill="hold"/>
                                        <p:tgtEl>
                                          <p:spTgt spid="1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0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0" dur="1000"/>
                                        <p:tgtEl>
                                          <p:spTgt spid="15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1" dur="1000" fill="hold"/>
                                        <p:tgtEl>
                                          <p:spTgt spid="1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2" dur="1000" fill="hold"/>
                                        <p:tgtEl>
                                          <p:spTgt spid="1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5" dur="1000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6" dur="1000" fill="hold"/>
                                        <p:tgtEl>
                                          <p:spTgt spid="1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7" dur="1000" fill="hold"/>
                                        <p:tgtEl>
                                          <p:spTgt spid="1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0" dur="1000"/>
                                        <p:tgtEl>
                                          <p:spTgt spid="16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1" dur="1000" fill="hold"/>
                                        <p:tgtEl>
                                          <p:spTgt spid="1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2" dur="1000" fill="hold"/>
                                        <p:tgtEl>
                                          <p:spTgt spid="1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5" dur="1000"/>
                                        <p:tgtEl>
                                          <p:spTgt spid="15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6" dur="100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7" dur="100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0" dur="1000"/>
                                        <p:tgtEl>
                                          <p:spTgt spid="15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1" dur="1000" fill="hold"/>
                                        <p:tgtEl>
                                          <p:spTgt spid="1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2" dur="1000" fill="hold"/>
                                        <p:tgtEl>
                                          <p:spTgt spid="1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5" dur="1000"/>
                                        <p:tgtEl>
                                          <p:spTgt spid="15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6" dur="1000" fill="hold"/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7" dur="1000" fill="hold"/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8" fill="hold">
                            <p:stCondLst>
                              <p:cond delay="1500"/>
                            </p:stCondLst>
                            <p:childTnLst>
                              <p:par>
                                <p:cTn id="50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1" dur="500"/>
                                        <p:tgtEl>
                                          <p:spTgt spid="1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4" dur="1000"/>
                                        <p:tgtEl>
                                          <p:spTgt spid="1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5" dur="1000" fill="hold"/>
                                        <p:tgtEl>
                                          <p:spTgt spid="1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6" dur="1000" fill="hold"/>
                                        <p:tgtEl>
                                          <p:spTgt spid="1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9" dur="10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0" dur="1000" fill="hold"/>
                                        <p:tgtEl>
                                          <p:spTgt spid="1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1" dur="1000" fill="hold"/>
                                        <p:tgtEl>
                                          <p:spTgt spid="1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4" dur="1000"/>
                                        <p:tgtEl>
                                          <p:spTgt spid="15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5" dur="1000" fill="hold"/>
                                        <p:tgtEl>
                                          <p:spTgt spid="1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6" dur="1000" fill="hold"/>
                                        <p:tgtEl>
                                          <p:spTgt spid="1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9" dur="10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0" dur="1000" fill="hold"/>
                                        <p:tgtEl>
                                          <p:spTgt spid="1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1" dur="1000" fill="hold"/>
                                        <p:tgtEl>
                                          <p:spTgt spid="1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4" dur="1000"/>
                                        <p:tgtEl>
                                          <p:spTgt spid="15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5" dur="1000" fill="hold"/>
                                        <p:tgtEl>
                                          <p:spTgt spid="1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6" dur="1000" fill="hold"/>
                                        <p:tgtEl>
                                          <p:spTgt spid="1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9" dur="1000"/>
                                        <p:tgtEl>
                                          <p:spTgt spid="15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0" dur="1000" fill="hold"/>
                                        <p:tgtEl>
                                          <p:spTgt spid="1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1" dur="1000" fill="hold"/>
                                        <p:tgtEl>
                                          <p:spTgt spid="1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4" dur="1000"/>
                                        <p:tgtEl>
                                          <p:spTgt spid="15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5" dur="1000" fill="hold"/>
                                        <p:tgtEl>
                                          <p:spTgt spid="1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6" dur="1000" fill="hold"/>
                                        <p:tgtEl>
                                          <p:spTgt spid="1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9" dur="100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0" dur="1000" fill="hold"/>
                                        <p:tgtEl>
                                          <p:spTgt spid="1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1" dur="1000" fill="hold"/>
                                        <p:tgtEl>
                                          <p:spTgt spid="1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4" dur="1000"/>
                                        <p:tgtEl>
                                          <p:spTgt spid="15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5" dur="1000" fill="hold"/>
                                        <p:tgtEl>
                                          <p:spTgt spid="1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6" dur="1000" fill="hold"/>
                                        <p:tgtEl>
                                          <p:spTgt spid="1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9" dur="1000"/>
                                        <p:tgtEl>
                                          <p:spTgt spid="15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0" dur="1000" fill="hold"/>
                                        <p:tgtEl>
                                          <p:spTgt spid="1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1" dur="1000" fill="hold"/>
                                        <p:tgtEl>
                                          <p:spTgt spid="1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4" dur="1000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5" dur="100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6" dur="100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9" dur="1000"/>
                                        <p:tgtEl>
                                          <p:spTgt spid="15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0" dur="1000" fill="hold"/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1" dur="1000" fill="hold"/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0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4" dur="1000"/>
                                        <p:tgtEl>
                                          <p:spTgt spid="15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5" dur="1000" fill="hold"/>
                                        <p:tgtEl>
                                          <p:spTgt spid="1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6" dur="1000" fill="hold"/>
                                        <p:tgtEl>
                                          <p:spTgt spid="1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9" dur="1000"/>
                                        <p:tgtEl>
                                          <p:spTgt spid="15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0" dur="10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1" dur="10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4" dur="1000"/>
                                        <p:tgtEl>
                                          <p:spTgt spid="1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5" dur="1000" fill="hold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6" dur="1000" fill="hold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9" dur="1000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0" dur="1000" fill="hold"/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1" dur="1000" fill="hold"/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4" dur="1000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5" dur="1000" fill="hold"/>
                                        <p:tgtEl>
                                          <p:spTgt spid="1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6" dur="1000" fill="hold"/>
                                        <p:tgtEl>
                                          <p:spTgt spid="1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9" dur="10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0" dur="1000" fill="hold"/>
                                        <p:tgtEl>
                                          <p:spTgt spid="1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1" dur="1000" fill="hold"/>
                                        <p:tgtEl>
                                          <p:spTgt spid="1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3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4" dur="1000"/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5" dur="100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6" dur="100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3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9" dur="10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0" dur="1000" fill="hold"/>
                                        <p:tgtEl>
                                          <p:spTgt spid="1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1" dur="1000" fill="hold"/>
                                        <p:tgtEl>
                                          <p:spTgt spid="1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4" dur="10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5" dur="1000" fill="hold"/>
                                        <p:tgtEl>
                                          <p:spTgt spid="1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6" dur="1000" fill="hold"/>
                                        <p:tgtEl>
                                          <p:spTgt spid="1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9" dur="1000"/>
                                        <p:tgtEl>
                                          <p:spTgt spid="15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0" dur="1000" fill="hold"/>
                                        <p:tgtEl>
                                          <p:spTgt spid="1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1" dur="1000" fill="hold"/>
                                        <p:tgtEl>
                                          <p:spTgt spid="1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4" dur="1000"/>
                                        <p:tgtEl>
                                          <p:spTgt spid="15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5" dur="1000" fill="hold"/>
                                        <p:tgtEl>
                                          <p:spTgt spid="1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6" dur="1000" fill="hold"/>
                                        <p:tgtEl>
                                          <p:spTgt spid="1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9" dur="1000"/>
                                        <p:tgtEl>
                                          <p:spTgt spid="15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0" dur="1000" fill="hold"/>
                                        <p:tgtEl>
                                          <p:spTgt spid="1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1" dur="1000" fill="hold"/>
                                        <p:tgtEl>
                                          <p:spTgt spid="1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4" dur="1000"/>
                                        <p:tgtEl>
                                          <p:spTgt spid="15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5" dur="1000" fill="hold"/>
                                        <p:tgtEl>
                                          <p:spTgt spid="1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6" dur="1000" fill="hold"/>
                                        <p:tgtEl>
                                          <p:spTgt spid="1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9" dur="10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0" dur="1000" fill="hold"/>
                                        <p:tgtEl>
                                          <p:spTgt spid="1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1" dur="1000" fill="hold"/>
                                        <p:tgtEl>
                                          <p:spTgt spid="1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4" dur="1000"/>
                                        <p:tgtEl>
                                          <p:spTgt spid="15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5" dur="1000" fill="hold"/>
                                        <p:tgtEl>
                                          <p:spTgt spid="1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6" dur="1000" fill="hold"/>
                                        <p:tgtEl>
                                          <p:spTgt spid="1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9" dur="10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0" dur="1000" fill="hold"/>
                                        <p:tgtEl>
                                          <p:spTgt spid="1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1" dur="1000" fill="hold"/>
                                        <p:tgtEl>
                                          <p:spTgt spid="1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4" dur="10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5" dur="1000" fill="hold"/>
                                        <p:tgtEl>
                                          <p:spTgt spid="1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6" dur="1000" fill="hold"/>
                                        <p:tgtEl>
                                          <p:spTgt spid="1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9" dur="1000"/>
                                        <p:tgtEl>
                                          <p:spTgt spid="15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0" dur="1000" fill="hold"/>
                                        <p:tgtEl>
                                          <p:spTgt spid="1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1" dur="1000" fill="hold"/>
                                        <p:tgtEl>
                                          <p:spTgt spid="1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4" dur="1000"/>
                                        <p:tgtEl>
                                          <p:spTgt spid="15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5" dur="1000" fill="hold"/>
                                        <p:tgtEl>
                                          <p:spTgt spid="1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6" dur="1000" fill="hold"/>
                                        <p:tgtEl>
                                          <p:spTgt spid="1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9" dur="1000"/>
                                        <p:tgtEl>
                                          <p:spTgt spid="15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0" dur="1000" fill="hold"/>
                                        <p:tgtEl>
                                          <p:spTgt spid="1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1" dur="1000" fill="hold"/>
                                        <p:tgtEl>
                                          <p:spTgt spid="1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4" dur="1000"/>
                                        <p:tgtEl>
                                          <p:spTgt spid="1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5" dur="1000" fill="hold"/>
                                        <p:tgtEl>
                                          <p:spTgt spid="1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6" dur="1000" fill="hold"/>
                                        <p:tgtEl>
                                          <p:spTgt spid="1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9" dur="1000"/>
                                        <p:tgtEl>
                                          <p:spTgt spid="15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0" dur="1000" fill="hold"/>
                                        <p:tgtEl>
                                          <p:spTgt spid="1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1" dur="1000" fill="hold"/>
                                        <p:tgtEl>
                                          <p:spTgt spid="1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4" dur="10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5" dur="1000" fill="hold"/>
                                        <p:tgtEl>
                                          <p:spTgt spid="1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6" dur="1000" fill="hold"/>
                                        <p:tgtEl>
                                          <p:spTgt spid="1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9" dur="10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0" dur="1000" fill="hold"/>
                                        <p:tgtEl>
                                          <p:spTgt spid="1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1" dur="1000" fill="hold"/>
                                        <p:tgtEl>
                                          <p:spTgt spid="1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4" dur="1000"/>
                                        <p:tgtEl>
                                          <p:spTgt spid="15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5" dur="1000" fill="hold"/>
                                        <p:tgtEl>
                                          <p:spTgt spid="1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6" dur="1000" fill="hold"/>
                                        <p:tgtEl>
                                          <p:spTgt spid="1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9" dur="1000"/>
                                        <p:tgtEl>
                                          <p:spTgt spid="15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0" dur="1000" fill="hold"/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1" dur="1000" fill="hold"/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4" dur="1000"/>
                                        <p:tgtEl>
                                          <p:spTgt spid="15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5" dur="1000" fill="hold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6" dur="1000" fill="hold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9" dur="1000"/>
                                        <p:tgtEl>
                                          <p:spTgt spid="15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0" dur="1000" fill="hold"/>
                                        <p:tgtEl>
                                          <p:spTgt spid="1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1" dur="1000" fill="hold"/>
                                        <p:tgtEl>
                                          <p:spTgt spid="1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4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4" dur="1000"/>
                                        <p:tgtEl>
                                          <p:spTgt spid="15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5" dur="1000" fill="hold"/>
                                        <p:tgtEl>
                                          <p:spTgt spid="1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6" dur="1000" fill="hold"/>
                                        <p:tgtEl>
                                          <p:spTgt spid="1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4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9" dur="10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0" dur="1000" fill="hold"/>
                                        <p:tgtEl>
                                          <p:spTgt spid="1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1" dur="1000" fill="hold"/>
                                        <p:tgtEl>
                                          <p:spTgt spid="1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4" dur="1000"/>
                                        <p:tgtEl>
                                          <p:spTgt spid="15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5" dur="1000" fill="hold"/>
                                        <p:tgtEl>
                                          <p:spTgt spid="1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6" dur="1000" fill="hold"/>
                                        <p:tgtEl>
                                          <p:spTgt spid="1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9" dur="1000"/>
                                        <p:tgtEl>
                                          <p:spTgt spid="16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0" dur="1000" fill="hold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1" dur="1000" fill="hold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">
            <a:hlinkClick r:id="" action="ppaction://hlinkshowjump?jump=nextslide"/>
          </p:cNvPr>
          <p:cNvSpPr/>
          <p:nvPr/>
        </p:nvSpPr>
        <p:spPr>
          <a:xfrm>
            <a:off x="324000" y="260280"/>
            <a:ext cx="849780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 Narrow"/>
              </a:rPr>
              <a:t>РАЗЛОЖЕНИЕ НАГРУЗКИ И РАЗДЕЛЕНИЕ СИСТЕМЫ ПО ОСИ СИММЕТ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>
            <a:off x="3263760" y="1741320"/>
            <a:ext cx="273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>
            <a:off x="3240000" y="17542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"/>
          <p:cNvSpPr/>
          <p:nvPr/>
        </p:nvSpPr>
        <p:spPr>
          <a:xfrm>
            <a:off x="3119400" y="1932120"/>
            <a:ext cx="252360" cy="72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"/>
          <p:cNvSpPr/>
          <p:nvPr/>
        </p:nvSpPr>
        <p:spPr>
          <a:xfrm>
            <a:off x="3122640" y="193212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>
            <a:off x="3209760" y="1892160"/>
            <a:ext cx="7164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"/>
          <p:cNvSpPr/>
          <p:nvPr/>
        </p:nvSpPr>
        <p:spPr>
          <a:xfrm>
            <a:off x="3201840" y="171612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"/>
          <p:cNvSpPr/>
          <p:nvPr/>
        </p:nvSpPr>
        <p:spPr>
          <a:xfrm>
            <a:off x="6021360" y="17413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"/>
          <p:cNvSpPr/>
          <p:nvPr/>
        </p:nvSpPr>
        <p:spPr>
          <a:xfrm>
            <a:off x="5900760" y="1919160"/>
            <a:ext cx="252360" cy="73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"/>
          <p:cNvSpPr/>
          <p:nvPr/>
        </p:nvSpPr>
        <p:spPr>
          <a:xfrm>
            <a:off x="5904000" y="191916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"/>
          <p:cNvSpPr/>
          <p:nvPr/>
        </p:nvSpPr>
        <p:spPr>
          <a:xfrm>
            <a:off x="5991120" y="1879560"/>
            <a:ext cx="7164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"/>
          <p:cNvSpPr/>
          <p:nvPr/>
        </p:nvSpPr>
        <p:spPr>
          <a:xfrm>
            <a:off x="5983200" y="170352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"/>
          <p:cNvSpPr/>
          <p:nvPr/>
        </p:nvSpPr>
        <p:spPr>
          <a:xfrm>
            <a:off x="3983040" y="1052640"/>
            <a:ext cx="0" cy="143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"/>
          <p:cNvSpPr/>
          <p:nvPr/>
        </p:nvSpPr>
        <p:spPr>
          <a:xfrm>
            <a:off x="4594320" y="765000"/>
            <a:ext cx="0" cy="180036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"/>
          <p:cNvSpPr/>
          <p:nvPr/>
        </p:nvSpPr>
        <p:spPr>
          <a:xfrm>
            <a:off x="4535640" y="682560"/>
            <a:ext cx="107640" cy="252360"/>
          </a:xfrm>
          <a:custGeom>
            <a:avLst/>
            <a:gdLst/>
            <a:ahLst/>
            <a:rect l="l" t="t" r="r" b="b"/>
            <a:pathLst>
              <a:path w="91" h="136">
                <a:moveTo>
                  <a:pt x="0" y="136"/>
                </a:moveTo>
                <a:lnTo>
                  <a:pt x="46" y="0"/>
                </a:lnTo>
                <a:lnTo>
                  <a:pt x="91" y="13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"/>
          <p:cNvSpPr/>
          <p:nvPr/>
        </p:nvSpPr>
        <p:spPr>
          <a:xfrm>
            <a:off x="4414680" y="62064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"/>
          <p:cNvSpPr/>
          <p:nvPr/>
        </p:nvSpPr>
        <p:spPr>
          <a:xfrm>
            <a:off x="5207040" y="1052640"/>
            <a:ext cx="0" cy="143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"/>
          <p:cNvSpPr/>
          <p:nvPr/>
        </p:nvSpPr>
        <p:spPr>
          <a:xfrm>
            <a:off x="3851280" y="2492280"/>
            <a:ext cx="252360" cy="73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"/>
          <p:cNvSpPr/>
          <p:nvPr/>
        </p:nvSpPr>
        <p:spPr>
          <a:xfrm>
            <a:off x="3854520" y="249228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"/>
          <p:cNvSpPr/>
          <p:nvPr/>
        </p:nvSpPr>
        <p:spPr>
          <a:xfrm>
            <a:off x="3941640" y="245268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"/>
          <p:cNvSpPr/>
          <p:nvPr/>
        </p:nvSpPr>
        <p:spPr>
          <a:xfrm>
            <a:off x="5083200" y="2492280"/>
            <a:ext cx="252360" cy="73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"/>
          <p:cNvSpPr/>
          <p:nvPr/>
        </p:nvSpPr>
        <p:spPr>
          <a:xfrm>
            <a:off x="5086440" y="249228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"/>
          <p:cNvSpPr/>
          <p:nvPr/>
        </p:nvSpPr>
        <p:spPr>
          <a:xfrm>
            <a:off x="5173560" y="245268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/>
          <p:nvPr/>
        </p:nvSpPr>
        <p:spPr>
          <a:xfrm>
            <a:off x="3983040" y="105264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"/>
          <p:cNvSpPr/>
          <p:nvPr/>
        </p:nvSpPr>
        <p:spPr>
          <a:xfrm>
            <a:off x="4560840" y="101916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"/>
          <p:cNvSpPr/>
          <p:nvPr/>
        </p:nvSpPr>
        <p:spPr>
          <a:xfrm>
            <a:off x="816120" y="3252960"/>
            <a:ext cx="273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"/>
          <p:cNvSpPr/>
          <p:nvPr/>
        </p:nvSpPr>
        <p:spPr>
          <a:xfrm>
            <a:off x="792000" y="32655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"/>
          <p:cNvSpPr/>
          <p:nvPr/>
        </p:nvSpPr>
        <p:spPr>
          <a:xfrm>
            <a:off x="671400" y="3443400"/>
            <a:ext cx="252360" cy="730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"/>
          <p:cNvSpPr/>
          <p:nvPr/>
        </p:nvSpPr>
        <p:spPr>
          <a:xfrm>
            <a:off x="674640" y="344340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"/>
          <p:cNvSpPr/>
          <p:nvPr/>
        </p:nvSpPr>
        <p:spPr>
          <a:xfrm>
            <a:off x="755640" y="3403440"/>
            <a:ext cx="7128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"/>
          <p:cNvSpPr/>
          <p:nvPr/>
        </p:nvSpPr>
        <p:spPr>
          <a:xfrm>
            <a:off x="754200" y="3227400"/>
            <a:ext cx="712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"/>
          <p:cNvSpPr/>
          <p:nvPr/>
        </p:nvSpPr>
        <p:spPr>
          <a:xfrm>
            <a:off x="3573360" y="325296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"/>
          <p:cNvSpPr/>
          <p:nvPr/>
        </p:nvSpPr>
        <p:spPr>
          <a:xfrm>
            <a:off x="3452760" y="3430440"/>
            <a:ext cx="252360" cy="730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"/>
          <p:cNvSpPr/>
          <p:nvPr/>
        </p:nvSpPr>
        <p:spPr>
          <a:xfrm>
            <a:off x="3456000" y="343044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"/>
          <p:cNvSpPr/>
          <p:nvPr/>
        </p:nvSpPr>
        <p:spPr>
          <a:xfrm>
            <a:off x="3543480" y="3390840"/>
            <a:ext cx="7128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"/>
          <p:cNvSpPr/>
          <p:nvPr/>
        </p:nvSpPr>
        <p:spPr>
          <a:xfrm>
            <a:off x="3535200" y="321480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"/>
          <p:cNvSpPr/>
          <p:nvPr/>
        </p:nvSpPr>
        <p:spPr>
          <a:xfrm>
            <a:off x="1535040" y="2563920"/>
            <a:ext cx="0" cy="14396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"/>
          <p:cNvSpPr/>
          <p:nvPr/>
        </p:nvSpPr>
        <p:spPr>
          <a:xfrm>
            <a:off x="2146320" y="2071800"/>
            <a:ext cx="0" cy="180000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"/>
          <p:cNvSpPr/>
          <p:nvPr/>
        </p:nvSpPr>
        <p:spPr>
          <a:xfrm>
            <a:off x="2097000" y="1989000"/>
            <a:ext cx="108000" cy="252720"/>
          </a:xfrm>
          <a:custGeom>
            <a:avLst/>
            <a:gdLst/>
            <a:ahLst/>
            <a:rect l="l" t="t" r="r" b="b"/>
            <a:pathLst>
              <a:path w="91" h="136">
                <a:moveTo>
                  <a:pt x="0" y="136"/>
                </a:moveTo>
                <a:lnTo>
                  <a:pt x="46" y="0"/>
                </a:lnTo>
                <a:lnTo>
                  <a:pt x="91" y="13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"/>
          <p:cNvSpPr/>
          <p:nvPr/>
        </p:nvSpPr>
        <p:spPr>
          <a:xfrm>
            <a:off x="1967040" y="192708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"/>
          <p:cNvSpPr/>
          <p:nvPr/>
        </p:nvSpPr>
        <p:spPr>
          <a:xfrm>
            <a:off x="2759040" y="2563920"/>
            <a:ext cx="0" cy="14396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"/>
          <p:cNvSpPr/>
          <p:nvPr/>
        </p:nvSpPr>
        <p:spPr>
          <a:xfrm>
            <a:off x="1403280" y="4003560"/>
            <a:ext cx="252360" cy="730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"/>
          <p:cNvSpPr/>
          <p:nvPr/>
        </p:nvSpPr>
        <p:spPr>
          <a:xfrm>
            <a:off x="1406520" y="400356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"/>
          <p:cNvSpPr/>
          <p:nvPr/>
        </p:nvSpPr>
        <p:spPr>
          <a:xfrm>
            <a:off x="1494000" y="3963960"/>
            <a:ext cx="7128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"/>
          <p:cNvSpPr/>
          <p:nvPr/>
        </p:nvSpPr>
        <p:spPr>
          <a:xfrm>
            <a:off x="2635200" y="4003560"/>
            <a:ext cx="252360" cy="730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"/>
          <p:cNvSpPr/>
          <p:nvPr/>
        </p:nvSpPr>
        <p:spPr>
          <a:xfrm>
            <a:off x="2638440" y="400356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"/>
          <p:cNvSpPr/>
          <p:nvPr/>
        </p:nvSpPr>
        <p:spPr>
          <a:xfrm>
            <a:off x="2725560" y="3963960"/>
            <a:ext cx="7164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"/>
          <p:cNvSpPr/>
          <p:nvPr/>
        </p:nvSpPr>
        <p:spPr>
          <a:xfrm>
            <a:off x="1535040" y="2563920"/>
            <a:ext cx="12240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"/>
          <p:cNvSpPr/>
          <p:nvPr/>
        </p:nvSpPr>
        <p:spPr>
          <a:xfrm>
            <a:off x="5648400" y="325908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"/>
          <p:cNvSpPr/>
          <p:nvPr/>
        </p:nvSpPr>
        <p:spPr>
          <a:xfrm>
            <a:off x="5527800" y="3436920"/>
            <a:ext cx="252360" cy="730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"/>
          <p:cNvSpPr/>
          <p:nvPr/>
        </p:nvSpPr>
        <p:spPr>
          <a:xfrm>
            <a:off x="5530680" y="3436920"/>
            <a:ext cx="252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"/>
          <p:cNvSpPr/>
          <p:nvPr/>
        </p:nvSpPr>
        <p:spPr>
          <a:xfrm>
            <a:off x="5618160" y="3397320"/>
            <a:ext cx="712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"/>
          <p:cNvSpPr/>
          <p:nvPr/>
        </p:nvSpPr>
        <p:spPr>
          <a:xfrm>
            <a:off x="8318520" y="3430440"/>
            <a:ext cx="252360" cy="730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"/>
          <p:cNvSpPr/>
          <p:nvPr/>
        </p:nvSpPr>
        <p:spPr>
          <a:xfrm>
            <a:off x="8319960" y="3430440"/>
            <a:ext cx="252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/>
          <p:nvPr/>
        </p:nvSpPr>
        <p:spPr>
          <a:xfrm>
            <a:off x="6286680" y="2563920"/>
            <a:ext cx="0" cy="14396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"/>
          <p:cNvSpPr/>
          <p:nvPr/>
        </p:nvSpPr>
        <p:spPr>
          <a:xfrm>
            <a:off x="6897600" y="2282760"/>
            <a:ext cx="0" cy="180036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"/>
          <p:cNvSpPr/>
          <p:nvPr/>
        </p:nvSpPr>
        <p:spPr>
          <a:xfrm>
            <a:off x="6848640" y="2193840"/>
            <a:ext cx="107640" cy="252360"/>
          </a:xfrm>
          <a:custGeom>
            <a:avLst/>
            <a:gdLst/>
            <a:ahLst/>
            <a:rect l="l" t="t" r="r" b="b"/>
            <a:pathLst>
              <a:path w="91" h="136">
                <a:moveTo>
                  <a:pt x="0" y="136"/>
                </a:moveTo>
                <a:lnTo>
                  <a:pt x="46" y="0"/>
                </a:lnTo>
                <a:lnTo>
                  <a:pt x="91" y="13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"/>
          <p:cNvSpPr/>
          <p:nvPr/>
        </p:nvSpPr>
        <p:spPr>
          <a:xfrm>
            <a:off x="6719760" y="213192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"/>
          <p:cNvSpPr/>
          <p:nvPr/>
        </p:nvSpPr>
        <p:spPr>
          <a:xfrm>
            <a:off x="7510320" y="2563920"/>
            <a:ext cx="0" cy="14396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"/>
          <p:cNvSpPr/>
          <p:nvPr/>
        </p:nvSpPr>
        <p:spPr>
          <a:xfrm>
            <a:off x="6154560" y="4003560"/>
            <a:ext cx="252720" cy="730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"/>
          <p:cNvSpPr/>
          <p:nvPr/>
        </p:nvSpPr>
        <p:spPr>
          <a:xfrm>
            <a:off x="6157800" y="400356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"/>
          <p:cNvSpPr/>
          <p:nvPr/>
        </p:nvSpPr>
        <p:spPr>
          <a:xfrm>
            <a:off x="6245280" y="3963960"/>
            <a:ext cx="7128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"/>
          <p:cNvSpPr/>
          <p:nvPr/>
        </p:nvSpPr>
        <p:spPr>
          <a:xfrm>
            <a:off x="7386480" y="4003560"/>
            <a:ext cx="252720" cy="7308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"/>
          <p:cNvSpPr/>
          <p:nvPr/>
        </p:nvSpPr>
        <p:spPr>
          <a:xfrm>
            <a:off x="7389720" y="400356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"/>
          <p:cNvSpPr/>
          <p:nvPr/>
        </p:nvSpPr>
        <p:spPr>
          <a:xfrm>
            <a:off x="7477200" y="3963960"/>
            <a:ext cx="7128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"/>
          <p:cNvSpPr/>
          <p:nvPr/>
        </p:nvSpPr>
        <p:spPr>
          <a:xfrm>
            <a:off x="6286680" y="2563920"/>
            <a:ext cx="1223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"/>
          <p:cNvSpPr/>
          <p:nvPr/>
        </p:nvSpPr>
        <p:spPr>
          <a:xfrm>
            <a:off x="3419640" y="1252440"/>
            <a:ext cx="542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/>
          <p:nvPr/>
        </p:nvSpPr>
        <p:spPr>
          <a:xfrm flipV="1" rot="13033800">
            <a:off x="3813120" y="2033640"/>
            <a:ext cx="326160" cy="327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554" y="3826"/>
                </a:moveTo>
                <a:arcTo wR="10800" hR="10800" stAng="-8386739" swAng="13340897"/>
                <a:lnTo>
                  <a:pt x="10800" y="10800"/>
                </a:lnTo>
                <a:close/>
              </a:path>
              <a:path fill="none" w="21600" h="21600">
                <a:moveTo>
                  <a:pt x="2554" y="3826"/>
                </a:moveTo>
                <a:arcTo wR="10800" hR="10800" stAng="-8386739" swAng="13340897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"/>
          <p:cNvSpPr/>
          <p:nvPr/>
        </p:nvSpPr>
        <p:spPr>
          <a:xfrm>
            <a:off x="3348000" y="1557360"/>
            <a:ext cx="0" cy="179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"/>
          <p:cNvSpPr/>
          <p:nvPr/>
        </p:nvSpPr>
        <p:spPr>
          <a:xfrm>
            <a:off x="3492360" y="1557360"/>
            <a:ext cx="0" cy="179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>
            <a:off x="3635280" y="1557360"/>
            <a:ext cx="0" cy="179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"/>
          <p:cNvSpPr/>
          <p:nvPr/>
        </p:nvSpPr>
        <p:spPr>
          <a:xfrm>
            <a:off x="3780000" y="1557360"/>
            <a:ext cx="0" cy="179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>
            <a:off x="3348000" y="1557360"/>
            <a:ext cx="43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"/>
          <p:cNvSpPr/>
          <p:nvPr/>
        </p:nvSpPr>
        <p:spPr>
          <a:xfrm>
            <a:off x="3419640" y="9079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>
            <a:off x="3432240" y="12016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>
            <a:off x="3505320" y="1838160"/>
            <a:ext cx="4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1249200" y="2781360"/>
            <a:ext cx="32724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6135840" y="2781360"/>
            <a:ext cx="326880" cy="0"/>
          </a:xfrm>
          <a:prstGeom prst="line">
            <a:avLst/>
          </a:prstGeom>
          <a:ln w="38160">
            <a:solidFill>
              <a:srgbClr val="66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>
            <a:off x="7369200" y="2781360"/>
            <a:ext cx="326880" cy="0"/>
          </a:xfrm>
          <a:prstGeom prst="line">
            <a:avLst/>
          </a:prstGeom>
          <a:ln w="38160">
            <a:solidFill>
              <a:srgbClr val="66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 flipH="1">
            <a:off x="2680920" y="2781360"/>
            <a:ext cx="32076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 flipV="1" rot="13033800">
            <a:off x="1452960" y="3524040"/>
            <a:ext cx="325080" cy="327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554" y="3826"/>
                </a:moveTo>
                <a:arcTo wR="10800" hR="10800" stAng="-8386739" swAng="13340897"/>
                <a:lnTo>
                  <a:pt x="10800" y="10800"/>
                </a:lnTo>
                <a:close/>
              </a:path>
              <a:path fill="none" w="21600" h="21600">
                <a:moveTo>
                  <a:pt x="2554" y="3826"/>
                </a:moveTo>
                <a:arcTo wR="10800" hR="10800" stAng="-8386739" swAng="13340897"/>
              </a:path>
            </a:pathLst>
          </a:custGeom>
          <a:noFill/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 flipV="1" rot="13033800">
            <a:off x="6306120" y="3544560"/>
            <a:ext cx="325080" cy="327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554" y="3826"/>
                </a:moveTo>
                <a:arcTo wR="10800" hR="10800" stAng="-8386739" swAng="13340897"/>
                <a:lnTo>
                  <a:pt x="10800" y="10800"/>
                </a:lnTo>
                <a:close/>
              </a:path>
              <a:path fill="none" w="21600" h="21600">
                <a:moveTo>
                  <a:pt x="2554" y="3826"/>
                </a:moveTo>
                <a:arcTo wR="10800" hR="10800" stAng="-8386739" swAng="13340897"/>
              </a:path>
            </a:pathLst>
          </a:custGeom>
          <a:noFill/>
          <a:ln w="38160">
            <a:solidFill>
              <a:srgbClr val="66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 flipV="1" rot="13033800">
            <a:off x="7530120" y="3558960"/>
            <a:ext cx="325080" cy="327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554" y="3826"/>
                </a:moveTo>
                <a:arcTo wR="10800" hR="10800" stAng="-8386739" swAng="13340897"/>
                <a:lnTo>
                  <a:pt x="10800" y="10800"/>
                </a:lnTo>
                <a:close/>
              </a:path>
              <a:path fill="none" w="21600" h="21600">
                <a:moveTo>
                  <a:pt x="2554" y="3826"/>
                </a:moveTo>
                <a:arcTo wR="10800" hR="10800" stAng="-8386739" swAng="13340897"/>
              </a:path>
            </a:pathLst>
          </a:custGeom>
          <a:noFill/>
          <a:ln w="38160">
            <a:solidFill>
              <a:srgbClr val="66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 flipH="1" flipV="1" rot="7770000">
            <a:off x="2532960" y="3526920"/>
            <a:ext cx="327240" cy="327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554" y="3826"/>
                </a:moveTo>
                <a:arcTo wR="10800" hR="10800" stAng="-8386739" swAng="13340897"/>
                <a:lnTo>
                  <a:pt x="10800" y="10800"/>
                </a:lnTo>
                <a:close/>
              </a:path>
              <a:path fill="none" w="21600" h="21600">
                <a:moveTo>
                  <a:pt x="2554" y="3826"/>
                </a:moveTo>
                <a:arcTo wR="10800" hR="10800" stAng="-8386739" swAng="13340897"/>
              </a:path>
            </a:pathLst>
          </a:custGeom>
          <a:noFill/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909720" y="3119400"/>
            <a:ext cx="0" cy="17928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1054080" y="3119400"/>
            <a:ext cx="0" cy="17928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1197000" y="3119400"/>
            <a:ext cx="0" cy="17928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1341360" y="3119400"/>
            <a:ext cx="0" cy="17928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909720" y="3119400"/>
            <a:ext cx="431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684360" y="277488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2987640" y="3105000"/>
            <a:ext cx="0" cy="17964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3132000" y="3105000"/>
            <a:ext cx="0" cy="17964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>
            <a:off x="3274920" y="3105000"/>
            <a:ext cx="0" cy="17964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>
            <a:off x="3419640" y="3105000"/>
            <a:ext cx="0" cy="17964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2987640" y="3105000"/>
            <a:ext cx="43200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5796000" y="3138480"/>
            <a:ext cx="0" cy="179280"/>
          </a:xfrm>
          <a:prstGeom prst="line">
            <a:avLst/>
          </a:prstGeom>
          <a:ln w="12600">
            <a:solidFill>
              <a:srgbClr val="6600ff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5940360" y="3138480"/>
            <a:ext cx="0" cy="179280"/>
          </a:xfrm>
          <a:prstGeom prst="line">
            <a:avLst/>
          </a:prstGeom>
          <a:ln w="12600">
            <a:solidFill>
              <a:srgbClr val="6600ff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>
            <a:off x="6083280" y="3138480"/>
            <a:ext cx="0" cy="179280"/>
          </a:xfrm>
          <a:prstGeom prst="line">
            <a:avLst/>
          </a:prstGeom>
          <a:ln w="12600">
            <a:solidFill>
              <a:srgbClr val="6600ff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6227640" y="3138480"/>
            <a:ext cx="0" cy="179280"/>
          </a:xfrm>
          <a:prstGeom prst="line">
            <a:avLst/>
          </a:prstGeom>
          <a:ln w="12600">
            <a:solidFill>
              <a:srgbClr val="6600ff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>
            <a:off x="5796000" y="3138480"/>
            <a:ext cx="431640" cy="0"/>
          </a:xfrm>
          <a:prstGeom prst="line">
            <a:avLst/>
          </a:prstGeom>
          <a:ln w="1260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 flipV="1">
            <a:off x="7885080" y="3195720"/>
            <a:ext cx="0" cy="179280"/>
          </a:xfrm>
          <a:prstGeom prst="line">
            <a:avLst/>
          </a:prstGeom>
          <a:ln w="12600">
            <a:solidFill>
              <a:srgbClr val="6600ff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>
            <a:off x="7878600" y="3373560"/>
            <a:ext cx="432000" cy="0"/>
          </a:xfrm>
          <a:prstGeom prst="line">
            <a:avLst/>
          </a:prstGeom>
          <a:ln w="1260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 flipV="1">
            <a:off x="8172360" y="3192480"/>
            <a:ext cx="0" cy="179280"/>
          </a:xfrm>
          <a:prstGeom prst="line">
            <a:avLst/>
          </a:prstGeom>
          <a:ln w="12600">
            <a:solidFill>
              <a:srgbClr val="6600ff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 flipV="1">
            <a:off x="8317080" y="3192480"/>
            <a:ext cx="0" cy="179280"/>
          </a:xfrm>
          <a:prstGeom prst="line">
            <a:avLst/>
          </a:prstGeom>
          <a:ln w="12600">
            <a:solidFill>
              <a:srgbClr val="6600ff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 flipV="1">
            <a:off x="8029440" y="3198960"/>
            <a:ext cx="0" cy="179280"/>
          </a:xfrm>
          <a:prstGeom prst="line">
            <a:avLst/>
          </a:prstGeom>
          <a:ln w="12600">
            <a:solidFill>
              <a:srgbClr val="6600ff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3348000" y="27748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5580000" y="2808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>
            <a:off x="7883640" y="33210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>
            <a:off x="868320" y="24462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>
            <a:off x="2884320" y="24462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>
            <a:off x="5796000" y="24606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>
            <a:off x="7010280" y="27558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>
            <a:off x="6966000" y="36846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"/>
          <p:cNvSpPr/>
          <p:nvPr/>
        </p:nvSpPr>
        <p:spPr>
          <a:xfrm>
            <a:off x="5748480" y="36846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"/>
          <p:cNvSpPr/>
          <p:nvPr/>
        </p:nvSpPr>
        <p:spPr>
          <a:xfrm>
            <a:off x="946080" y="36972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2778120" y="36910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>
            <a:off x="468360" y="1522440"/>
            <a:ext cx="165564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 Narrow"/>
              </a:rPr>
              <a:t>Симметричная составляющая нагруз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>
            <a:off x="6732720" y="1522440"/>
            <a:ext cx="216036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ff"/>
                </a:solidFill>
                <a:latin typeface="Arial Narrow"/>
              </a:rPr>
              <a:t>Обратносимметричная составляющая нагруз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 rot="13903200">
            <a:off x="4065480" y="2409840"/>
            <a:ext cx="192240" cy="620640"/>
          </a:xfrm>
          <a:prstGeom prst="upArrow">
            <a:avLst>
              <a:gd name="adj1" fmla="val 40361"/>
              <a:gd name="adj2" fmla="val 97945"/>
            </a:avLst>
          </a:prstGeom>
          <a:solidFill>
            <a:srgbClr val="f62e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 rot="7574400">
            <a:off x="4965120" y="2426760"/>
            <a:ext cx="191880" cy="621000"/>
          </a:xfrm>
          <a:prstGeom prst="upArrow">
            <a:avLst>
              <a:gd name="adj1" fmla="val 40361"/>
              <a:gd name="adj2" fmla="val 98185"/>
            </a:avLst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>
            <a:off x="825480" y="3116160"/>
            <a:ext cx="2711520" cy="222480"/>
          </a:xfrm>
          <a:custGeom>
            <a:avLst/>
            <a:gdLst/>
            <a:ahLst/>
            <a:rect l="l" t="t" r="r" b="b"/>
            <a:pathLst>
              <a:path w="1708" h="140">
                <a:moveTo>
                  <a:pt x="0" y="93"/>
                </a:moveTo>
                <a:cubicBezTo>
                  <a:pt x="21" y="99"/>
                  <a:pt x="77" y="123"/>
                  <a:pt x="128" y="129"/>
                </a:cubicBezTo>
                <a:cubicBezTo>
                  <a:pt x="179" y="135"/>
                  <a:pt x="251" y="135"/>
                  <a:pt x="304" y="129"/>
                </a:cubicBezTo>
                <a:cubicBezTo>
                  <a:pt x="357" y="123"/>
                  <a:pt x="399" y="108"/>
                  <a:pt x="448" y="93"/>
                </a:cubicBezTo>
                <a:cubicBezTo>
                  <a:pt x="497" y="78"/>
                  <a:pt x="536" y="52"/>
                  <a:pt x="600" y="37"/>
                </a:cubicBezTo>
                <a:cubicBezTo>
                  <a:pt x="664" y="22"/>
                  <a:pt x="755" y="2"/>
                  <a:pt x="832" y="1"/>
                </a:cubicBezTo>
                <a:cubicBezTo>
                  <a:pt x="909" y="0"/>
                  <a:pt x="997" y="19"/>
                  <a:pt x="1060" y="33"/>
                </a:cubicBezTo>
                <a:cubicBezTo>
                  <a:pt x="1123" y="47"/>
                  <a:pt x="1157" y="68"/>
                  <a:pt x="1212" y="85"/>
                </a:cubicBezTo>
                <a:cubicBezTo>
                  <a:pt x="1267" y="102"/>
                  <a:pt x="1334" y="126"/>
                  <a:pt x="1392" y="133"/>
                </a:cubicBezTo>
                <a:cubicBezTo>
                  <a:pt x="1450" y="140"/>
                  <a:pt x="1507" y="136"/>
                  <a:pt x="1560" y="129"/>
                </a:cubicBezTo>
                <a:cubicBezTo>
                  <a:pt x="1613" y="122"/>
                  <a:pt x="1677" y="97"/>
                  <a:pt x="1708" y="89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>
            <a:off x="1509840" y="2571840"/>
            <a:ext cx="125280" cy="1396800"/>
          </a:xfrm>
          <a:custGeom>
            <a:avLst/>
            <a:gdLst/>
            <a:ahLst/>
            <a:rect l="l" t="t" r="r" b="b"/>
            <a:pathLst>
              <a:path w="79" h="880">
                <a:moveTo>
                  <a:pt x="13" y="0"/>
                </a:moveTo>
                <a:cubicBezTo>
                  <a:pt x="22" y="22"/>
                  <a:pt x="60" y="95"/>
                  <a:pt x="69" y="132"/>
                </a:cubicBezTo>
                <a:cubicBezTo>
                  <a:pt x="78" y="169"/>
                  <a:pt x="76" y="192"/>
                  <a:pt x="69" y="222"/>
                </a:cubicBezTo>
                <a:cubicBezTo>
                  <a:pt x="62" y="252"/>
                  <a:pt x="35" y="283"/>
                  <a:pt x="24" y="313"/>
                </a:cubicBezTo>
                <a:cubicBezTo>
                  <a:pt x="13" y="343"/>
                  <a:pt x="2" y="380"/>
                  <a:pt x="1" y="400"/>
                </a:cubicBezTo>
                <a:cubicBezTo>
                  <a:pt x="0" y="420"/>
                  <a:pt x="11" y="420"/>
                  <a:pt x="17" y="436"/>
                </a:cubicBezTo>
                <a:cubicBezTo>
                  <a:pt x="23" y="452"/>
                  <a:pt x="32" y="473"/>
                  <a:pt x="37" y="496"/>
                </a:cubicBezTo>
                <a:cubicBezTo>
                  <a:pt x="42" y="519"/>
                  <a:pt x="42" y="535"/>
                  <a:pt x="49" y="572"/>
                </a:cubicBezTo>
                <a:cubicBezTo>
                  <a:pt x="56" y="609"/>
                  <a:pt x="75" y="679"/>
                  <a:pt x="77" y="720"/>
                </a:cubicBezTo>
                <a:cubicBezTo>
                  <a:pt x="79" y="761"/>
                  <a:pt x="71" y="789"/>
                  <a:pt x="61" y="816"/>
                </a:cubicBezTo>
                <a:cubicBezTo>
                  <a:pt x="51" y="843"/>
                  <a:pt x="26" y="867"/>
                  <a:pt x="17" y="88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 flipH="1">
            <a:off x="2658960" y="2571840"/>
            <a:ext cx="106560" cy="1396800"/>
          </a:xfrm>
          <a:custGeom>
            <a:avLst/>
            <a:gdLst/>
            <a:ahLst/>
            <a:rect l="l" t="t" r="r" b="b"/>
            <a:pathLst>
              <a:path w="79" h="880">
                <a:moveTo>
                  <a:pt x="13" y="0"/>
                </a:moveTo>
                <a:cubicBezTo>
                  <a:pt x="22" y="22"/>
                  <a:pt x="60" y="95"/>
                  <a:pt x="69" y="132"/>
                </a:cubicBezTo>
                <a:cubicBezTo>
                  <a:pt x="78" y="169"/>
                  <a:pt x="76" y="192"/>
                  <a:pt x="69" y="222"/>
                </a:cubicBezTo>
                <a:cubicBezTo>
                  <a:pt x="62" y="252"/>
                  <a:pt x="35" y="283"/>
                  <a:pt x="24" y="313"/>
                </a:cubicBezTo>
                <a:cubicBezTo>
                  <a:pt x="13" y="343"/>
                  <a:pt x="2" y="380"/>
                  <a:pt x="1" y="400"/>
                </a:cubicBezTo>
                <a:cubicBezTo>
                  <a:pt x="0" y="420"/>
                  <a:pt x="11" y="420"/>
                  <a:pt x="17" y="436"/>
                </a:cubicBezTo>
                <a:cubicBezTo>
                  <a:pt x="23" y="452"/>
                  <a:pt x="32" y="473"/>
                  <a:pt x="37" y="496"/>
                </a:cubicBezTo>
                <a:cubicBezTo>
                  <a:pt x="42" y="519"/>
                  <a:pt x="42" y="535"/>
                  <a:pt x="49" y="572"/>
                </a:cubicBezTo>
                <a:cubicBezTo>
                  <a:pt x="56" y="609"/>
                  <a:pt x="75" y="679"/>
                  <a:pt x="77" y="720"/>
                </a:cubicBezTo>
                <a:cubicBezTo>
                  <a:pt x="79" y="761"/>
                  <a:pt x="71" y="789"/>
                  <a:pt x="61" y="816"/>
                </a:cubicBezTo>
                <a:cubicBezTo>
                  <a:pt x="51" y="843"/>
                  <a:pt x="26" y="867"/>
                  <a:pt x="17" y="88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>
            <a:off x="1530360" y="2349360"/>
            <a:ext cx="1241280" cy="222480"/>
          </a:xfrm>
          <a:custGeom>
            <a:avLst/>
            <a:gdLst/>
            <a:ahLst/>
            <a:rect l="l" t="t" r="r" b="b"/>
            <a:pathLst>
              <a:path w="782" h="140">
                <a:moveTo>
                  <a:pt x="0" y="140"/>
                </a:moveTo>
                <a:lnTo>
                  <a:pt x="388" y="0"/>
                </a:lnTo>
                <a:lnTo>
                  <a:pt x="782" y="13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>
            <a:off x="2112840" y="2314440"/>
            <a:ext cx="7164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5645160" y="3138480"/>
            <a:ext cx="2806560" cy="231840"/>
          </a:xfrm>
          <a:custGeom>
            <a:avLst/>
            <a:gdLst/>
            <a:ahLst/>
            <a:rect l="l" t="t" r="r" b="b"/>
            <a:pathLst>
              <a:path w="1768" h="146">
                <a:moveTo>
                  <a:pt x="0" y="75"/>
                </a:moveTo>
                <a:cubicBezTo>
                  <a:pt x="25" y="85"/>
                  <a:pt x="95" y="125"/>
                  <a:pt x="148" y="135"/>
                </a:cubicBezTo>
                <a:cubicBezTo>
                  <a:pt x="201" y="145"/>
                  <a:pt x="265" y="146"/>
                  <a:pt x="320" y="135"/>
                </a:cubicBezTo>
                <a:cubicBezTo>
                  <a:pt x="375" y="124"/>
                  <a:pt x="424" y="90"/>
                  <a:pt x="476" y="71"/>
                </a:cubicBezTo>
                <a:cubicBezTo>
                  <a:pt x="528" y="52"/>
                  <a:pt x="583" y="28"/>
                  <a:pt x="632" y="23"/>
                </a:cubicBezTo>
                <a:cubicBezTo>
                  <a:pt x="681" y="18"/>
                  <a:pt x="730" y="30"/>
                  <a:pt x="768" y="39"/>
                </a:cubicBezTo>
                <a:cubicBezTo>
                  <a:pt x="806" y="48"/>
                  <a:pt x="822" y="64"/>
                  <a:pt x="860" y="79"/>
                </a:cubicBezTo>
                <a:cubicBezTo>
                  <a:pt x="898" y="94"/>
                  <a:pt x="952" y="123"/>
                  <a:pt x="996" y="131"/>
                </a:cubicBezTo>
                <a:cubicBezTo>
                  <a:pt x="1040" y="139"/>
                  <a:pt x="1085" y="136"/>
                  <a:pt x="1124" y="127"/>
                </a:cubicBezTo>
                <a:cubicBezTo>
                  <a:pt x="1163" y="118"/>
                  <a:pt x="1183" y="98"/>
                  <a:pt x="1232" y="79"/>
                </a:cubicBezTo>
                <a:cubicBezTo>
                  <a:pt x="1281" y="60"/>
                  <a:pt x="1355" y="22"/>
                  <a:pt x="1416" y="11"/>
                </a:cubicBezTo>
                <a:cubicBezTo>
                  <a:pt x="1477" y="0"/>
                  <a:pt x="1541" y="6"/>
                  <a:pt x="1600" y="15"/>
                </a:cubicBezTo>
                <a:cubicBezTo>
                  <a:pt x="1659" y="24"/>
                  <a:pt x="1733" y="56"/>
                  <a:pt x="1768" y="6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"/>
          <p:cNvSpPr/>
          <p:nvPr/>
        </p:nvSpPr>
        <p:spPr>
          <a:xfrm>
            <a:off x="6299280" y="2571840"/>
            <a:ext cx="272880" cy="1390680"/>
          </a:xfrm>
          <a:custGeom>
            <a:avLst/>
            <a:gdLst/>
            <a:ahLst/>
            <a:rect l="l" t="t" r="r" b="b"/>
            <a:pathLst>
              <a:path w="172" h="876">
                <a:moveTo>
                  <a:pt x="0" y="876"/>
                </a:moveTo>
                <a:cubicBezTo>
                  <a:pt x="13" y="863"/>
                  <a:pt x="58" y="828"/>
                  <a:pt x="76" y="796"/>
                </a:cubicBezTo>
                <a:cubicBezTo>
                  <a:pt x="94" y="764"/>
                  <a:pt x="104" y="718"/>
                  <a:pt x="108" y="684"/>
                </a:cubicBezTo>
                <a:cubicBezTo>
                  <a:pt x="112" y="650"/>
                  <a:pt x="103" y="627"/>
                  <a:pt x="100" y="592"/>
                </a:cubicBezTo>
                <a:cubicBezTo>
                  <a:pt x="97" y="557"/>
                  <a:pt x="97" y="509"/>
                  <a:pt x="92" y="476"/>
                </a:cubicBezTo>
                <a:cubicBezTo>
                  <a:pt x="87" y="443"/>
                  <a:pt x="73" y="424"/>
                  <a:pt x="68" y="392"/>
                </a:cubicBezTo>
                <a:cubicBezTo>
                  <a:pt x="63" y="360"/>
                  <a:pt x="59" y="319"/>
                  <a:pt x="64" y="284"/>
                </a:cubicBezTo>
                <a:cubicBezTo>
                  <a:pt x="69" y="249"/>
                  <a:pt x="83" y="213"/>
                  <a:pt x="96" y="180"/>
                </a:cubicBezTo>
                <a:cubicBezTo>
                  <a:pt x="109" y="147"/>
                  <a:pt x="131" y="118"/>
                  <a:pt x="144" y="88"/>
                </a:cubicBezTo>
                <a:cubicBezTo>
                  <a:pt x="157" y="58"/>
                  <a:pt x="166" y="18"/>
                  <a:pt x="172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>
            <a:off x="7532640" y="2571840"/>
            <a:ext cx="273240" cy="1390680"/>
          </a:xfrm>
          <a:custGeom>
            <a:avLst/>
            <a:gdLst/>
            <a:ahLst/>
            <a:rect l="l" t="t" r="r" b="b"/>
            <a:pathLst>
              <a:path w="172" h="876">
                <a:moveTo>
                  <a:pt x="0" y="876"/>
                </a:moveTo>
                <a:cubicBezTo>
                  <a:pt x="13" y="863"/>
                  <a:pt x="58" y="828"/>
                  <a:pt x="76" y="796"/>
                </a:cubicBezTo>
                <a:cubicBezTo>
                  <a:pt x="94" y="764"/>
                  <a:pt x="104" y="718"/>
                  <a:pt x="108" y="684"/>
                </a:cubicBezTo>
                <a:cubicBezTo>
                  <a:pt x="112" y="650"/>
                  <a:pt x="103" y="627"/>
                  <a:pt x="100" y="592"/>
                </a:cubicBezTo>
                <a:cubicBezTo>
                  <a:pt x="97" y="557"/>
                  <a:pt x="97" y="509"/>
                  <a:pt x="92" y="476"/>
                </a:cubicBezTo>
                <a:cubicBezTo>
                  <a:pt x="87" y="443"/>
                  <a:pt x="73" y="424"/>
                  <a:pt x="68" y="392"/>
                </a:cubicBezTo>
                <a:cubicBezTo>
                  <a:pt x="63" y="360"/>
                  <a:pt x="59" y="319"/>
                  <a:pt x="64" y="284"/>
                </a:cubicBezTo>
                <a:cubicBezTo>
                  <a:pt x="69" y="249"/>
                  <a:pt x="83" y="213"/>
                  <a:pt x="96" y="180"/>
                </a:cubicBezTo>
                <a:cubicBezTo>
                  <a:pt x="109" y="147"/>
                  <a:pt x="131" y="118"/>
                  <a:pt x="144" y="88"/>
                </a:cubicBezTo>
                <a:cubicBezTo>
                  <a:pt x="157" y="58"/>
                  <a:pt x="166" y="18"/>
                  <a:pt x="172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>
            <a:off x="6578640" y="2481120"/>
            <a:ext cx="1233360" cy="174600"/>
          </a:xfrm>
          <a:custGeom>
            <a:avLst/>
            <a:gdLst/>
            <a:ahLst/>
            <a:rect l="l" t="t" r="r" b="b"/>
            <a:pathLst>
              <a:path w="777" h="110">
                <a:moveTo>
                  <a:pt x="0" y="53"/>
                </a:moveTo>
                <a:cubicBezTo>
                  <a:pt x="13" y="58"/>
                  <a:pt x="39" y="76"/>
                  <a:pt x="76" y="85"/>
                </a:cubicBezTo>
                <a:cubicBezTo>
                  <a:pt x="113" y="94"/>
                  <a:pt x="173" y="110"/>
                  <a:pt x="224" y="105"/>
                </a:cubicBezTo>
                <a:cubicBezTo>
                  <a:pt x="275" y="100"/>
                  <a:pt x="329" y="70"/>
                  <a:pt x="384" y="53"/>
                </a:cubicBezTo>
                <a:cubicBezTo>
                  <a:pt x="439" y="36"/>
                  <a:pt x="498" y="10"/>
                  <a:pt x="552" y="5"/>
                </a:cubicBezTo>
                <a:cubicBezTo>
                  <a:pt x="606" y="0"/>
                  <a:pt x="671" y="17"/>
                  <a:pt x="708" y="25"/>
                </a:cubicBezTo>
                <a:cubicBezTo>
                  <a:pt x="745" y="33"/>
                  <a:pt x="763" y="47"/>
                  <a:pt x="777" y="53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>
            <a:off x="7170840" y="2523960"/>
            <a:ext cx="7128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>
            <a:off x="8445600" y="321300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>
            <a:off x="8407440" y="3206880"/>
            <a:ext cx="712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>
            <a:off x="8407440" y="3390840"/>
            <a:ext cx="7128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>
            <a:off x="3708360" y="3429000"/>
            <a:ext cx="172728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Условия п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перемещения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на оси симметр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>
            <a:off x="2182680" y="3141720"/>
            <a:ext cx="1587600" cy="1231920"/>
          </a:xfrm>
          <a:custGeom>
            <a:avLst/>
            <a:gdLst/>
            <a:ahLst/>
            <a:rect l="l" t="t" r="r" b="b"/>
            <a:pathLst>
              <a:path w="976" h="776">
                <a:moveTo>
                  <a:pt x="976" y="630"/>
                </a:moveTo>
                <a:cubicBezTo>
                  <a:pt x="900" y="654"/>
                  <a:pt x="649" y="768"/>
                  <a:pt x="520" y="772"/>
                </a:cubicBezTo>
                <a:cubicBezTo>
                  <a:pt x="391" y="776"/>
                  <a:pt x="265" y="729"/>
                  <a:pt x="200" y="656"/>
                </a:cubicBezTo>
                <a:cubicBezTo>
                  <a:pt x="135" y="583"/>
                  <a:pt x="147" y="418"/>
                  <a:pt x="128" y="332"/>
                </a:cubicBezTo>
                <a:cubicBezTo>
                  <a:pt x="109" y="246"/>
                  <a:pt x="105" y="195"/>
                  <a:pt x="84" y="140"/>
                </a:cubicBezTo>
                <a:cubicBezTo>
                  <a:pt x="63" y="85"/>
                  <a:pt x="17" y="29"/>
                  <a:pt x="0" y="0"/>
                </a:cubicBezTo>
              </a:path>
            </a:pathLst>
          </a:custGeom>
          <a:noFill/>
          <a:ln w="12600">
            <a:solidFill>
              <a:srgbClr val="cc0000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>
            <a:off x="2019240" y="2730600"/>
            <a:ext cx="720720" cy="4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c0000"/>
                </a:solidFill>
                <a:latin typeface="Times New Roman"/>
              </a:rPr>
              <a:t>u </a:t>
            </a: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=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Symbol"/>
                <a:ea typeface="Symbol"/>
              </a:rPr>
              <a:t></a:t>
            </a: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=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>
            <a:off x="2133720" y="2185920"/>
            <a:ext cx="72072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c0000"/>
                </a:solidFill>
                <a:latin typeface="Times New Roman"/>
              </a:rPr>
              <a:t>u </a:t>
            </a: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=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>
            <a:off x="2190600" y="2103480"/>
            <a:ext cx="1905120" cy="1325520"/>
          </a:xfrm>
          <a:custGeom>
            <a:avLst/>
            <a:gdLst/>
            <a:ahLst/>
            <a:rect l="l" t="t" r="r" b="b"/>
            <a:pathLst>
              <a:path w="1200" h="835">
                <a:moveTo>
                  <a:pt x="1200" y="835"/>
                </a:moveTo>
                <a:cubicBezTo>
                  <a:pt x="1167" y="768"/>
                  <a:pt x="1081" y="550"/>
                  <a:pt x="1000" y="435"/>
                </a:cubicBezTo>
                <a:cubicBezTo>
                  <a:pt x="919" y="320"/>
                  <a:pt x="817" y="216"/>
                  <a:pt x="716" y="147"/>
                </a:cubicBezTo>
                <a:cubicBezTo>
                  <a:pt x="615" y="78"/>
                  <a:pt x="493" y="38"/>
                  <a:pt x="396" y="19"/>
                </a:cubicBezTo>
                <a:cubicBezTo>
                  <a:pt x="299" y="0"/>
                  <a:pt x="202" y="12"/>
                  <a:pt x="136" y="31"/>
                </a:cubicBezTo>
                <a:cubicBezTo>
                  <a:pt x="70" y="50"/>
                  <a:pt x="28" y="113"/>
                  <a:pt x="0" y="135"/>
                </a:cubicBezTo>
              </a:path>
            </a:pathLst>
          </a:custGeom>
          <a:noFill/>
          <a:ln w="12600">
            <a:solidFill>
              <a:srgbClr val="cc0000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"/>
          <p:cNvSpPr/>
          <p:nvPr/>
        </p:nvSpPr>
        <p:spPr>
          <a:xfrm>
            <a:off x="5376960" y="3267000"/>
            <a:ext cx="1623960" cy="1063800"/>
          </a:xfrm>
          <a:custGeom>
            <a:avLst/>
            <a:gdLst/>
            <a:ahLst/>
            <a:rect l="l" t="t" r="r" b="b"/>
            <a:pathLst>
              <a:path w="1023" h="670">
                <a:moveTo>
                  <a:pt x="0" y="531"/>
                </a:moveTo>
                <a:cubicBezTo>
                  <a:pt x="50" y="552"/>
                  <a:pt x="197" y="640"/>
                  <a:pt x="300" y="655"/>
                </a:cubicBezTo>
                <a:cubicBezTo>
                  <a:pt x="403" y="670"/>
                  <a:pt x="537" y="658"/>
                  <a:pt x="620" y="619"/>
                </a:cubicBezTo>
                <a:cubicBezTo>
                  <a:pt x="703" y="580"/>
                  <a:pt x="745" y="504"/>
                  <a:pt x="796" y="423"/>
                </a:cubicBezTo>
                <a:cubicBezTo>
                  <a:pt x="847" y="342"/>
                  <a:pt x="886" y="201"/>
                  <a:pt x="924" y="131"/>
                </a:cubicBezTo>
                <a:cubicBezTo>
                  <a:pt x="962" y="61"/>
                  <a:pt x="1002" y="27"/>
                  <a:pt x="1023" y="0"/>
                </a:cubicBezTo>
              </a:path>
            </a:pathLst>
          </a:custGeom>
          <a:noFill/>
          <a:ln w="12600">
            <a:solidFill>
              <a:srgbClr val="6600ff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>
            <a:off x="6837480" y="3044880"/>
            <a:ext cx="72072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6600ff"/>
                </a:solidFill>
                <a:latin typeface="Book Antiqua"/>
              </a:rPr>
              <a:t>v</a:t>
            </a:r>
            <a:r>
              <a:rPr b="1" i="1" lang="en-US" sz="1400" spc="-1" strike="noStrike">
                <a:solidFill>
                  <a:srgbClr val="6600ff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6600ff"/>
                </a:solidFill>
                <a:latin typeface="Times New Roman"/>
              </a:rPr>
              <a:t>=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>
            <a:off x="5060880" y="2081160"/>
            <a:ext cx="2133720" cy="1430280"/>
          </a:xfrm>
          <a:custGeom>
            <a:avLst/>
            <a:gdLst/>
            <a:ahLst/>
            <a:rect l="l" t="t" r="r" b="b"/>
            <a:pathLst>
              <a:path w="1344" h="901">
                <a:moveTo>
                  <a:pt x="0" y="901"/>
                </a:moveTo>
                <a:cubicBezTo>
                  <a:pt x="18" y="860"/>
                  <a:pt x="51" y="752"/>
                  <a:pt x="108" y="653"/>
                </a:cubicBezTo>
                <a:cubicBezTo>
                  <a:pt x="165" y="554"/>
                  <a:pt x="247" y="408"/>
                  <a:pt x="344" y="309"/>
                </a:cubicBezTo>
                <a:cubicBezTo>
                  <a:pt x="441" y="210"/>
                  <a:pt x="571" y="107"/>
                  <a:pt x="692" y="57"/>
                </a:cubicBezTo>
                <a:cubicBezTo>
                  <a:pt x="813" y="7"/>
                  <a:pt x="971" y="0"/>
                  <a:pt x="1068" y="9"/>
                </a:cubicBezTo>
                <a:cubicBezTo>
                  <a:pt x="1165" y="18"/>
                  <a:pt x="1226" y="64"/>
                  <a:pt x="1272" y="109"/>
                </a:cubicBezTo>
                <a:cubicBezTo>
                  <a:pt x="1318" y="154"/>
                  <a:pt x="1329" y="242"/>
                  <a:pt x="1344" y="277"/>
                </a:cubicBezTo>
              </a:path>
            </a:pathLst>
          </a:custGeom>
          <a:noFill/>
          <a:ln w="12600">
            <a:solidFill>
              <a:srgbClr val="6600ff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>
            <a:off x="7059600" y="2282760"/>
            <a:ext cx="72072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6600ff"/>
                </a:solidFill>
                <a:latin typeface="Book Antiqua"/>
              </a:rPr>
              <a:t>v</a:t>
            </a:r>
            <a:r>
              <a:rPr b="1" i="1" lang="en-US" sz="1400" spc="-1" strike="noStrike">
                <a:solidFill>
                  <a:srgbClr val="6600ff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6600ff"/>
                </a:solidFill>
                <a:latin typeface="Times New Roman"/>
              </a:rPr>
              <a:t>=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>
            <a:off x="2665440" y="4492800"/>
            <a:ext cx="381636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Моделирова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половины систе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"/>
          <p:cNvSpPr/>
          <p:nvPr/>
        </p:nvSpPr>
        <p:spPr>
          <a:xfrm>
            <a:off x="804960" y="557064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>
            <a:off x="684360" y="5748480"/>
            <a:ext cx="252360" cy="7272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>
            <a:off x="687240" y="5748480"/>
            <a:ext cx="252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"/>
          <p:cNvSpPr/>
          <p:nvPr/>
        </p:nvSpPr>
        <p:spPr>
          <a:xfrm>
            <a:off x="774720" y="5708520"/>
            <a:ext cx="7128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"/>
          <p:cNvSpPr/>
          <p:nvPr/>
        </p:nvSpPr>
        <p:spPr>
          <a:xfrm>
            <a:off x="766800" y="5532480"/>
            <a:ext cx="712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"/>
          <p:cNvSpPr/>
          <p:nvPr/>
        </p:nvSpPr>
        <p:spPr>
          <a:xfrm>
            <a:off x="1547640" y="4869000"/>
            <a:ext cx="0" cy="14396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>
            <a:off x="2158920" y="4376880"/>
            <a:ext cx="0" cy="180000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>
            <a:off x="2109960" y="4294080"/>
            <a:ext cx="107640" cy="252360"/>
          </a:xfrm>
          <a:custGeom>
            <a:avLst/>
            <a:gdLst/>
            <a:ahLst/>
            <a:rect l="l" t="t" r="r" b="b"/>
            <a:pathLst>
              <a:path w="91" h="136">
                <a:moveTo>
                  <a:pt x="0" y="136"/>
                </a:moveTo>
                <a:lnTo>
                  <a:pt x="46" y="0"/>
                </a:lnTo>
                <a:lnTo>
                  <a:pt x="91" y="13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"/>
          <p:cNvSpPr/>
          <p:nvPr/>
        </p:nvSpPr>
        <p:spPr>
          <a:xfrm>
            <a:off x="1979640" y="424332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"/>
          <p:cNvSpPr/>
          <p:nvPr/>
        </p:nvSpPr>
        <p:spPr>
          <a:xfrm>
            <a:off x="1415880" y="6308640"/>
            <a:ext cx="252720" cy="7308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>
            <a:off x="1419120" y="630864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>
            <a:off x="1301760" y="5086440"/>
            <a:ext cx="32688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 flipV="1" rot="13033800">
            <a:off x="1472040" y="5829120"/>
            <a:ext cx="325080" cy="327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554" y="3826"/>
                </a:moveTo>
                <a:arcTo wR="10800" hR="10800" stAng="-8386739" swAng="13340897"/>
                <a:lnTo>
                  <a:pt x="10800" y="10800"/>
                </a:lnTo>
                <a:close/>
              </a:path>
              <a:path fill="none" w="21600" h="21600">
                <a:moveTo>
                  <a:pt x="2554" y="3826"/>
                </a:moveTo>
                <a:arcTo wR="10800" hR="10800" stAng="-8386739" swAng="13340897"/>
              </a:path>
            </a:pathLst>
          </a:custGeom>
          <a:noFill/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>
            <a:off x="922320" y="5438880"/>
            <a:ext cx="0" cy="17928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>
            <a:off x="1066680" y="5438880"/>
            <a:ext cx="0" cy="17928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>
            <a:off x="1209600" y="5438880"/>
            <a:ext cx="0" cy="17928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1353960" y="5438880"/>
            <a:ext cx="0" cy="17928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922320" y="5438880"/>
            <a:ext cx="431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696960" y="51069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>
            <a:off x="982800" y="475128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958680" y="59961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>
            <a:off x="1522440" y="4876920"/>
            <a:ext cx="125280" cy="1396800"/>
          </a:xfrm>
          <a:custGeom>
            <a:avLst/>
            <a:gdLst/>
            <a:ahLst/>
            <a:rect l="l" t="t" r="r" b="b"/>
            <a:pathLst>
              <a:path w="79" h="880">
                <a:moveTo>
                  <a:pt x="13" y="0"/>
                </a:moveTo>
                <a:cubicBezTo>
                  <a:pt x="22" y="22"/>
                  <a:pt x="60" y="95"/>
                  <a:pt x="69" y="132"/>
                </a:cubicBezTo>
                <a:cubicBezTo>
                  <a:pt x="78" y="169"/>
                  <a:pt x="76" y="192"/>
                  <a:pt x="69" y="222"/>
                </a:cubicBezTo>
                <a:cubicBezTo>
                  <a:pt x="62" y="252"/>
                  <a:pt x="35" y="283"/>
                  <a:pt x="24" y="313"/>
                </a:cubicBezTo>
                <a:cubicBezTo>
                  <a:pt x="13" y="343"/>
                  <a:pt x="2" y="380"/>
                  <a:pt x="1" y="400"/>
                </a:cubicBezTo>
                <a:cubicBezTo>
                  <a:pt x="0" y="420"/>
                  <a:pt x="11" y="420"/>
                  <a:pt x="17" y="436"/>
                </a:cubicBezTo>
                <a:cubicBezTo>
                  <a:pt x="23" y="452"/>
                  <a:pt x="32" y="473"/>
                  <a:pt x="37" y="496"/>
                </a:cubicBezTo>
                <a:cubicBezTo>
                  <a:pt x="42" y="519"/>
                  <a:pt x="42" y="535"/>
                  <a:pt x="49" y="572"/>
                </a:cubicBezTo>
                <a:cubicBezTo>
                  <a:pt x="56" y="609"/>
                  <a:pt x="75" y="679"/>
                  <a:pt x="77" y="720"/>
                </a:cubicBezTo>
                <a:cubicBezTo>
                  <a:pt x="79" y="761"/>
                  <a:pt x="71" y="789"/>
                  <a:pt x="61" y="816"/>
                </a:cubicBezTo>
                <a:cubicBezTo>
                  <a:pt x="51" y="843"/>
                  <a:pt x="26" y="867"/>
                  <a:pt x="17" y="88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"/>
          <p:cNvSpPr/>
          <p:nvPr/>
        </p:nvSpPr>
        <p:spPr>
          <a:xfrm>
            <a:off x="1538280" y="4653000"/>
            <a:ext cx="615960" cy="222120"/>
          </a:xfrm>
          <a:custGeom>
            <a:avLst/>
            <a:gdLst/>
            <a:ahLst/>
            <a:rect l="l" t="t" r="r" b="b"/>
            <a:pathLst>
              <a:path w="388" h="140">
                <a:moveTo>
                  <a:pt x="0" y="140"/>
                </a:moveTo>
                <a:lnTo>
                  <a:pt x="38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>
            <a:off x="836640" y="557064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>
            <a:off x="1557360" y="4888080"/>
            <a:ext cx="5763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>
            <a:off x="824040" y="5429160"/>
            <a:ext cx="1320840" cy="214560"/>
          </a:xfrm>
          <a:custGeom>
            <a:avLst/>
            <a:gdLst/>
            <a:ahLst/>
            <a:rect l="l" t="t" r="r" b="b"/>
            <a:pathLst>
              <a:path w="832" h="135">
                <a:moveTo>
                  <a:pt x="0" y="93"/>
                </a:moveTo>
                <a:cubicBezTo>
                  <a:pt x="21" y="99"/>
                  <a:pt x="77" y="123"/>
                  <a:pt x="128" y="129"/>
                </a:cubicBezTo>
                <a:cubicBezTo>
                  <a:pt x="179" y="135"/>
                  <a:pt x="251" y="135"/>
                  <a:pt x="304" y="129"/>
                </a:cubicBezTo>
                <a:cubicBezTo>
                  <a:pt x="357" y="123"/>
                  <a:pt x="399" y="108"/>
                  <a:pt x="448" y="93"/>
                </a:cubicBezTo>
                <a:cubicBezTo>
                  <a:pt x="497" y="78"/>
                  <a:pt x="551" y="51"/>
                  <a:pt x="600" y="37"/>
                </a:cubicBezTo>
                <a:cubicBezTo>
                  <a:pt x="649" y="23"/>
                  <a:pt x="702" y="12"/>
                  <a:pt x="741" y="6"/>
                </a:cubicBezTo>
                <a:cubicBezTo>
                  <a:pt x="780" y="0"/>
                  <a:pt x="813" y="2"/>
                  <a:pt x="832" y="1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>
            <a:off x="5661000" y="555768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>
            <a:off x="5540400" y="5735520"/>
            <a:ext cx="252360" cy="7308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>
            <a:off x="5543640" y="573552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>
            <a:off x="5630760" y="5695920"/>
            <a:ext cx="7164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6299280" y="4871880"/>
            <a:ext cx="0" cy="1440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>
            <a:off x="6910560" y="4581360"/>
            <a:ext cx="0" cy="180036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>
            <a:off x="6861240" y="4492800"/>
            <a:ext cx="108000" cy="252360"/>
          </a:xfrm>
          <a:custGeom>
            <a:avLst/>
            <a:gdLst/>
            <a:ahLst/>
            <a:rect l="l" t="t" r="r" b="b"/>
            <a:pathLst>
              <a:path w="91" h="136">
                <a:moveTo>
                  <a:pt x="0" y="136"/>
                </a:moveTo>
                <a:lnTo>
                  <a:pt x="46" y="0"/>
                </a:lnTo>
                <a:lnTo>
                  <a:pt x="91" y="13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>
            <a:off x="6730920" y="443232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>
            <a:off x="6167520" y="6302520"/>
            <a:ext cx="252360" cy="7272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>
            <a:off x="6170760" y="630252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>
            <a:off x="6257880" y="6262560"/>
            <a:ext cx="7164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>
            <a:off x="6148440" y="5079960"/>
            <a:ext cx="326880" cy="0"/>
          </a:xfrm>
          <a:prstGeom prst="line">
            <a:avLst/>
          </a:prstGeom>
          <a:ln w="38160">
            <a:solidFill>
              <a:srgbClr val="66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 flipV="1" rot="13033800">
            <a:off x="6315480" y="5843520"/>
            <a:ext cx="325080" cy="327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554" y="3826"/>
                </a:moveTo>
                <a:arcTo wR="10800" hR="10800" stAng="-8386739" swAng="13340897"/>
                <a:lnTo>
                  <a:pt x="10800" y="10800"/>
                </a:lnTo>
                <a:close/>
              </a:path>
              <a:path fill="none" w="21600" h="21600">
                <a:moveTo>
                  <a:pt x="2554" y="3826"/>
                </a:moveTo>
                <a:arcTo wR="10800" hR="10800" stAng="-8386739" swAng="13340897"/>
              </a:path>
            </a:pathLst>
          </a:custGeom>
          <a:noFill/>
          <a:ln w="38160">
            <a:solidFill>
              <a:srgbClr val="66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>
            <a:off x="5796000" y="5437080"/>
            <a:ext cx="0" cy="179640"/>
          </a:xfrm>
          <a:prstGeom prst="line">
            <a:avLst/>
          </a:prstGeom>
          <a:ln w="12600">
            <a:solidFill>
              <a:srgbClr val="6600ff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"/>
          <p:cNvSpPr/>
          <p:nvPr/>
        </p:nvSpPr>
        <p:spPr>
          <a:xfrm>
            <a:off x="5940360" y="5437080"/>
            <a:ext cx="0" cy="179640"/>
          </a:xfrm>
          <a:prstGeom prst="line">
            <a:avLst/>
          </a:prstGeom>
          <a:ln w="12600">
            <a:solidFill>
              <a:srgbClr val="6600ff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"/>
          <p:cNvSpPr/>
          <p:nvPr/>
        </p:nvSpPr>
        <p:spPr>
          <a:xfrm>
            <a:off x="6083280" y="5437080"/>
            <a:ext cx="0" cy="179640"/>
          </a:xfrm>
          <a:prstGeom prst="line">
            <a:avLst/>
          </a:prstGeom>
          <a:ln w="12600">
            <a:solidFill>
              <a:srgbClr val="6600ff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"/>
          <p:cNvSpPr/>
          <p:nvPr/>
        </p:nvSpPr>
        <p:spPr>
          <a:xfrm>
            <a:off x="6227640" y="5437080"/>
            <a:ext cx="0" cy="179640"/>
          </a:xfrm>
          <a:prstGeom prst="line">
            <a:avLst/>
          </a:prstGeom>
          <a:ln w="12600">
            <a:solidFill>
              <a:srgbClr val="6600ff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"/>
          <p:cNvSpPr/>
          <p:nvPr/>
        </p:nvSpPr>
        <p:spPr>
          <a:xfrm>
            <a:off x="5796000" y="5437080"/>
            <a:ext cx="431640" cy="0"/>
          </a:xfrm>
          <a:prstGeom prst="line">
            <a:avLst/>
          </a:prstGeom>
          <a:ln w="1260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"/>
          <p:cNvSpPr/>
          <p:nvPr/>
        </p:nvSpPr>
        <p:spPr>
          <a:xfrm>
            <a:off x="5572080" y="51228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"/>
          <p:cNvSpPr/>
          <p:nvPr/>
        </p:nvSpPr>
        <p:spPr>
          <a:xfrm>
            <a:off x="5802480" y="475308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>
            <a:off x="5737320" y="59500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"/>
          <p:cNvSpPr/>
          <p:nvPr/>
        </p:nvSpPr>
        <p:spPr>
          <a:xfrm>
            <a:off x="6311880" y="4870440"/>
            <a:ext cx="273240" cy="1390680"/>
          </a:xfrm>
          <a:custGeom>
            <a:avLst/>
            <a:gdLst/>
            <a:ahLst/>
            <a:rect l="l" t="t" r="r" b="b"/>
            <a:pathLst>
              <a:path w="172" h="876">
                <a:moveTo>
                  <a:pt x="0" y="876"/>
                </a:moveTo>
                <a:cubicBezTo>
                  <a:pt x="13" y="863"/>
                  <a:pt x="58" y="828"/>
                  <a:pt x="76" y="796"/>
                </a:cubicBezTo>
                <a:cubicBezTo>
                  <a:pt x="94" y="764"/>
                  <a:pt x="104" y="718"/>
                  <a:pt x="108" y="684"/>
                </a:cubicBezTo>
                <a:cubicBezTo>
                  <a:pt x="112" y="650"/>
                  <a:pt x="103" y="627"/>
                  <a:pt x="100" y="592"/>
                </a:cubicBezTo>
                <a:cubicBezTo>
                  <a:pt x="97" y="557"/>
                  <a:pt x="97" y="509"/>
                  <a:pt x="92" y="476"/>
                </a:cubicBezTo>
                <a:cubicBezTo>
                  <a:pt x="87" y="443"/>
                  <a:pt x="73" y="424"/>
                  <a:pt x="68" y="392"/>
                </a:cubicBezTo>
                <a:cubicBezTo>
                  <a:pt x="63" y="360"/>
                  <a:pt x="59" y="319"/>
                  <a:pt x="64" y="284"/>
                </a:cubicBezTo>
                <a:cubicBezTo>
                  <a:pt x="69" y="249"/>
                  <a:pt x="83" y="213"/>
                  <a:pt x="96" y="180"/>
                </a:cubicBezTo>
                <a:cubicBezTo>
                  <a:pt x="109" y="147"/>
                  <a:pt x="131" y="118"/>
                  <a:pt x="144" y="88"/>
                </a:cubicBezTo>
                <a:cubicBezTo>
                  <a:pt x="157" y="58"/>
                  <a:pt x="166" y="18"/>
                  <a:pt x="172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"/>
          <p:cNvSpPr/>
          <p:nvPr/>
        </p:nvSpPr>
        <p:spPr>
          <a:xfrm>
            <a:off x="5622840" y="551988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"/>
          <p:cNvSpPr/>
          <p:nvPr/>
        </p:nvSpPr>
        <p:spPr>
          <a:xfrm>
            <a:off x="6578640" y="4873680"/>
            <a:ext cx="609480" cy="90360"/>
          </a:xfrm>
          <a:custGeom>
            <a:avLst/>
            <a:gdLst/>
            <a:ahLst/>
            <a:rect l="l" t="t" r="r" b="b"/>
            <a:pathLst>
              <a:path w="384" h="57">
                <a:moveTo>
                  <a:pt x="0" y="0"/>
                </a:moveTo>
                <a:cubicBezTo>
                  <a:pt x="13" y="5"/>
                  <a:pt x="39" y="23"/>
                  <a:pt x="76" y="32"/>
                </a:cubicBezTo>
                <a:cubicBezTo>
                  <a:pt x="113" y="41"/>
                  <a:pt x="173" y="57"/>
                  <a:pt x="224" y="52"/>
                </a:cubicBezTo>
                <a:cubicBezTo>
                  <a:pt x="275" y="47"/>
                  <a:pt x="357" y="9"/>
                  <a:pt x="384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>
            <a:off x="5686560" y="5470560"/>
            <a:ext cx="1365120" cy="203040"/>
          </a:xfrm>
          <a:custGeom>
            <a:avLst/>
            <a:gdLst/>
            <a:ahLst/>
            <a:rect l="l" t="t" r="r" b="b"/>
            <a:pathLst>
              <a:path w="860" h="128">
                <a:moveTo>
                  <a:pt x="0" y="57"/>
                </a:moveTo>
                <a:cubicBezTo>
                  <a:pt x="25" y="67"/>
                  <a:pt x="95" y="107"/>
                  <a:pt x="148" y="117"/>
                </a:cubicBezTo>
                <a:cubicBezTo>
                  <a:pt x="201" y="127"/>
                  <a:pt x="265" y="128"/>
                  <a:pt x="320" y="117"/>
                </a:cubicBezTo>
                <a:cubicBezTo>
                  <a:pt x="375" y="106"/>
                  <a:pt x="424" y="72"/>
                  <a:pt x="476" y="53"/>
                </a:cubicBezTo>
                <a:cubicBezTo>
                  <a:pt x="528" y="34"/>
                  <a:pt x="583" y="10"/>
                  <a:pt x="632" y="5"/>
                </a:cubicBezTo>
                <a:cubicBezTo>
                  <a:pt x="681" y="0"/>
                  <a:pt x="730" y="12"/>
                  <a:pt x="768" y="21"/>
                </a:cubicBezTo>
                <a:cubicBezTo>
                  <a:pt x="806" y="30"/>
                  <a:pt x="845" y="54"/>
                  <a:pt x="860" y="61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"/>
          <p:cNvSpPr/>
          <p:nvPr/>
        </p:nvSpPr>
        <p:spPr>
          <a:xfrm>
            <a:off x="5695920" y="556092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"/>
          <p:cNvSpPr/>
          <p:nvPr/>
        </p:nvSpPr>
        <p:spPr>
          <a:xfrm>
            <a:off x="6305400" y="4869000"/>
            <a:ext cx="5763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>
            <a:off x="2195640" y="4653000"/>
            <a:ext cx="14436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>
            <a:off x="2401920" y="4537080"/>
            <a:ext cx="71280" cy="216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>
            <a:off x="2392200" y="45370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2341440" y="4614840"/>
            <a:ext cx="7164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2406600" y="5281560"/>
            <a:ext cx="71640" cy="28728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2397240" y="528156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2152800" y="5319720"/>
            <a:ext cx="0" cy="21600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>
            <a:off x="2117880" y="5321160"/>
            <a:ext cx="7128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2182680" y="5354640"/>
            <a:ext cx="17964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2117880" y="5472000"/>
            <a:ext cx="7128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2359080" y="5319720"/>
            <a:ext cx="712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2181240" y="5510160"/>
            <a:ext cx="17928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>
            <a:off x="2352600" y="547056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>
            <a:off x="7074000" y="5573880"/>
            <a:ext cx="0" cy="21564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>
            <a:off x="6953400" y="5751360"/>
            <a:ext cx="252360" cy="7308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"/>
          <p:cNvSpPr/>
          <p:nvPr/>
        </p:nvSpPr>
        <p:spPr>
          <a:xfrm>
            <a:off x="6956280" y="5751360"/>
            <a:ext cx="252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"/>
          <p:cNvSpPr/>
          <p:nvPr/>
        </p:nvSpPr>
        <p:spPr>
          <a:xfrm>
            <a:off x="7043760" y="5711760"/>
            <a:ext cx="7128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"/>
          <p:cNvSpPr/>
          <p:nvPr/>
        </p:nvSpPr>
        <p:spPr>
          <a:xfrm>
            <a:off x="7035840" y="5535720"/>
            <a:ext cx="712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"/>
          <p:cNvSpPr/>
          <p:nvPr/>
        </p:nvSpPr>
        <p:spPr>
          <a:xfrm>
            <a:off x="7183440" y="4830840"/>
            <a:ext cx="712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>
            <a:off x="7219800" y="4906800"/>
            <a:ext cx="0" cy="21600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>
            <a:off x="7099200" y="5084640"/>
            <a:ext cx="252360" cy="7308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>
            <a:off x="7102440" y="508464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>
            <a:off x="7189920" y="5045040"/>
            <a:ext cx="7128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>
            <a:off x="2340000" y="5661000"/>
            <a:ext cx="1152360" cy="712080"/>
          </a:xfrm>
          <a:prstGeom prst="rect">
            <a:avLst/>
          </a:prstGeom>
          <a:solidFill>
            <a:srgbClr val="f1ad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>
            <a:off x="7307280" y="5661000"/>
            <a:ext cx="1152360" cy="712080"/>
          </a:xfrm>
          <a:prstGeom prst="rect">
            <a:avLst/>
          </a:prstGeom>
          <a:solidFill>
            <a:srgbClr val="f1ad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>
            <a:off x="5567400" y="3252960"/>
            <a:ext cx="273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>
            <a:off x="5613480" y="3213000"/>
            <a:ext cx="7128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>
            <a:off x="2125800" y="4619520"/>
            <a:ext cx="7128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"/>
          <p:cNvSpPr/>
          <p:nvPr/>
        </p:nvSpPr>
        <p:spPr>
          <a:xfrm>
            <a:off x="1506600" y="6269040"/>
            <a:ext cx="712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"/>
          <p:cNvSpPr/>
          <p:nvPr/>
        </p:nvSpPr>
        <p:spPr>
          <a:xfrm>
            <a:off x="1979640" y="1125360"/>
            <a:ext cx="144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2" dur="indefinite" restart="never" nodeType="tmRoot">
          <p:childTnLst>
            <p:seq>
              <p:cTn id="5263" dur="indefinite" nodeType="mainSeq">
                <p:childTnLst>
                  <p:par>
                    <p:cTn id="5264" fill="hold">
                      <p:stCondLst>
                        <p:cond delay="0"/>
                      </p:stCondLst>
                      <p:childTnLst>
                        <p:par>
                          <p:cTn id="5265" fill="hold">
                            <p:stCondLst>
                              <p:cond delay="0"/>
                            </p:stCondLst>
                            <p:childTnLst>
                              <p:par>
                                <p:cTn id="52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68" dur="500"/>
                                        <p:tgtEl>
                                          <p:spTgt spid="1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1" dur="500"/>
                                        <p:tgtEl>
                                          <p:spTgt spid="1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4" dur="500"/>
                                        <p:tgtEl>
                                          <p:spTgt spid="1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7" dur="500"/>
                                        <p:tgtEl>
                                          <p:spTgt spid="1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80" dur="500"/>
                                        <p:tgtEl>
                                          <p:spTgt spid="1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83" dur="500"/>
                                        <p:tgtEl>
                                          <p:spTgt spid="1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86" dur="500"/>
                                        <p:tgtEl>
                                          <p:spTgt spid="1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89" dur="500"/>
                                        <p:tgtEl>
                                          <p:spTgt spid="1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92" dur="500"/>
                                        <p:tgtEl>
                                          <p:spTgt spid="1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95" dur="500"/>
                                        <p:tgtEl>
                                          <p:spTgt spid="1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98" dur="500"/>
                                        <p:tgtEl>
                                          <p:spTgt spid="1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1" dur="500"/>
                                        <p:tgtEl>
                                          <p:spTgt spid="1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4" dur="500"/>
                                        <p:tgtEl>
                                          <p:spTgt spid="1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7" dur="500"/>
                                        <p:tgtEl>
                                          <p:spTgt spid="1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10" dur="500"/>
                                        <p:tgtEl>
                                          <p:spTgt spid="1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13" dur="500"/>
                                        <p:tgtEl>
                                          <p:spTgt spid="1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16" dur="500"/>
                                        <p:tgtEl>
                                          <p:spTgt spid="1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19" dur="500"/>
                                        <p:tgtEl>
                                          <p:spTgt spid="1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22" dur="500"/>
                                        <p:tgtEl>
                                          <p:spTgt spid="1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25" dur="500"/>
                                        <p:tgtEl>
                                          <p:spTgt spid="1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28" dur="500"/>
                                        <p:tgtEl>
                                          <p:spTgt spid="1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1" dur="500"/>
                                        <p:tgtEl>
                                          <p:spTgt spid="1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4" dur="500"/>
                                        <p:tgtEl>
                                          <p:spTgt spid="1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7" dur="500"/>
                                        <p:tgtEl>
                                          <p:spTgt spid="1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40" dur="500"/>
                                        <p:tgtEl>
                                          <p:spTgt spid="1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43" dur="500"/>
                                        <p:tgtEl>
                                          <p:spTgt spid="1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46" dur="500"/>
                                        <p:tgtEl>
                                          <p:spTgt spid="1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49" dur="500"/>
                                        <p:tgtEl>
                                          <p:spTgt spid="1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52" dur="500"/>
                                        <p:tgtEl>
                                          <p:spTgt spid="1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55" dur="500"/>
                                        <p:tgtEl>
                                          <p:spTgt spid="1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58" dur="500"/>
                                        <p:tgtEl>
                                          <p:spTgt spid="1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1" dur="500"/>
                                        <p:tgtEl>
                                          <p:spTgt spid="1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4" dur="500"/>
                                        <p:tgtEl>
                                          <p:spTgt spid="1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7" dur="500"/>
                                        <p:tgtEl>
                                          <p:spTgt spid="1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0" dur="500"/>
                                        <p:tgtEl>
                                          <p:spTgt spid="1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3" dur="500"/>
                                        <p:tgtEl>
                                          <p:spTgt spid="1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6" dur="500"/>
                                        <p:tgtEl>
                                          <p:spTgt spid="1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9" dur="500"/>
                                        <p:tgtEl>
                                          <p:spTgt spid="1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82" dur="500"/>
                                        <p:tgtEl>
                                          <p:spTgt spid="1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85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88" dur="500"/>
                                        <p:tgtEl>
                                          <p:spTgt spid="1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1" dur="500"/>
                                        <p:tgtEl>
                                          <p:spTgt spid="1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4" dur="500"/>
                                        <p:tgtEl>
                                          <p:spTgt spid="1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7" dur="500"/>
                                        <p:tgtEl>
                                          <p:spTgt spid="1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00" dur="500"/>
                                        <p:tgtEl>
                                          <p:spTgt spid="1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03" dur="500"/>
                                        <p:tgtEl>
                                          <p:spTgt spid="1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06" dur="500"/>
                                        <p:tgtEl>
                                          <p:spTgt spid="1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09" dur="500"/>
                                        <p:tgtEl>
                                          <p:spTgt spid="1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12" dur="500"/>
                                        <p:tgtEl>
                                          <p:spTgt spid="1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15" dur="500"/>
                                        <p:tgtEl>
                                          <p:spTgt spid="1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18" dur="500"/>
                                        <p:tgtEl>
                                          <p:spTgt spid="1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21" dur="500"/>
                                        <p:tgtEl>
                                          <p:spTgt spid="1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24" dur="500"/>
                                        <p:tgtEl>
                                          <p:spTgt spid="1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27" dur="500"/>
                                        <p:tgtEl>
                                          <p:spTgt spid="1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30" dur="500"/>
                                        <p:tgtEl>
                                          <p:spTgt spid="1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33" dur="500"/>
                                        <p:tgtEl>
                                          <p:spTgt spid="1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36" dur="500"/>
                                        <p:tgtEl>
                                          <p:spTgt spid="1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39" dur="500"/>
                                        <p:tgtEl>
                                          <p:spTgt spid="1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42" dur="500"/>
                                        <p:tgtEl>
                                          <p:spTgt spid="1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45" dur="500"/>
                                        <p:tgtEl>
                                          <p:spTgt spid="1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48" dur="500"/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51" dur="500"/>
                                        <p:tgtEl>
                                          <p:spTgt spid="1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54" dur="500"/>
                                        <p:tgtEl>
                                          <p:spTgt spid="1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57" dur="500"/>
                                        <p:tgtEl>
                                          <p:spTgt spid="1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60" dur="500"/>
                                        <p:tgtEl>
                                          <p:spTgt spid="1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63" dur="500"/>
                                        <p:tgtEl>
                                          <p:spTgt spid="1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66" dur="500"/>
                                        <p:tgtEl>
                                          <p:spTgt spid="1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69" dur="500"/>
                                        <p:tgtEl>
                                          <p:spTgt spid="1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72" dur="500"/>
                                        <p:tgtEl>
                                          <p:spTgt spid="1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75" dur="500"/>
                                        <p:tgtEl>
                                          <p:spTgt spid="1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78" dur="500"/>
                                        <p:tgtEl>
                                          <p:spTgt spid="1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81" dur="500"/>
                                        <p:tgtEl>
                                          <p:spTgt spid="1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84" dur="500"/>
                                        <p:tgtEl>
                                          <p:spTgt spid="1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87" dur="500"/>
                                        <p:tgtEl>
                                          <p:spTgt spid="1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0" dur="500"/>
                                        <p:tgtEl>
                                          <p:spTgt spid="1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3" dur="500"/>
                                        <p:tgtEl>
                                          <p:spTgt spid="1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6" dur="500"/>
                                        <p:tgtEl>
                                          <p:spTgt spid="1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9" dur="500"/>
                                        <p:tgtEl>
                                          <p:spTgt spid="1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02" dur="500"/>
                                        <p:tgtEl>
                                          <p:spTgt spid="1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05" dur="500"/>
                                        <p:tgtEl>
                                          <p:spTgt spid="1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08" dur="500"/>
                                        <p:tgtEl>
                                          <p:spTgt spid="1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11" dur="500"/>
                                        <p:tgtEl>
                                          <p:spTgt spid="1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14" dur="500"/>
                                        <p:tgtEl>
                                          <p:spTgt spid="1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17" dur="500"/>
                                        <p:tgtEl>
                                          <p:spTgt spid="1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0" dur="500"/>
                                        <p:tgtEl>
                                          <p:spTgt spid="1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3" dur="500"/>
                                        <p:tgtEl>
                                          <p:spTgt spid="1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6" dur="500"/>
                                        <p:tgtEl>
                                          <p:spTgt spid="1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9" dur="500"/>
                                        <p:tgtEl>
                                          <p:spTgt spid="1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2" dur="500"/>
                                        <p:tgtEl>
                                          <p:spTgt spid="1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5" dur="500"/>
                                        <p:tgtEl>
                                          <p:spTgt spid="1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8" dur="500"/>
                                        <p:tgtEl>
                                          <p:spTgt spid="1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41" dur="500"/>
                                        <p:tgtEl>
                                          <p:spTgt spid="1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44" dur="500"/>
                                        <p:tgtEl>
                                          <p:spTgt spid="1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47" dur="500"/>
                                        <p:tgtEl>
                                          <p:spTgt spid="1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50" dur="500"/>
                                        <p:tgtEl>
                                          <p:spTgt spid="1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53" dur="500"/>
                                        <p:tgtEl>
                                          <p:spTgt spid="1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4" fill="hold">
                      <p:stCondLst>
                        <p:cond delay="indefinite"/>
                      </p:stCondLst>
                      <p:childTnLst>
                        <p:par>
                          <p:cTn id="5555" fill="hold">
                            <p:stCondLst>
                              <p:cond delay="0"/>
                            </p:stCondLst>
                            <p:childTnLst>
                              <p:par>
                                <p:cTn id="55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8" dur="1000" fill="hold"/>
                                        <p:tgtEl>
                                          <p:spTgt spid="1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9" dur="1000" fill="hold"/>
                                        <p:tgtEl>
                                          <p:spTgt spid="1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0" dur="1000"/>
                                        <p:tgtEl>
                                          <p:spTgt spid="1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1" fill="hold">
                      <p:stCondLst>
                        <p:cond delay="indefinite"/>
                      </p:stCondLst>
                      <p:childTnLst>
                        <p:par>
                          <p:cTn id="5562" fill="hold">
                            <p:stCondLst>
                              <p:cond delay="0"/>
                            </p:stCondLst>
                            <p:childTnLst>
                              <p:par>
                                <p:cTn id="55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5" dur="1000" fill="hold"/>
                                        <p:tgtEl>
                                          <p:spTgt spid="1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6" dur="1000" fill="hold"/>
                                        <p:tgtEl>
                                          <p:spTgt spid="1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7" dur="1000"/>
                                        <p:tgtEl>
                                          <p:spTgt spid="1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8" fill="hold">
                      <p:stCondLst>
                        <p:cond delay="indefinite"/>
                      </p:stCondLst>
                      <p:childTnLst>
                        <p:par>
                          <p:cTn id="5569" fill="hold">
                            <p:stCondLst>
                              <p:cond delay="0"/>
                            </p:stCondLst>
                            <p:childTnLst>
                              <p:par>
                                <p:cTn id="55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72" dur="500"/>
                                        <p:tgtEl>
                                          <p:spTgt spid="1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3" fill="hold">
                      <p:stCondLst>
                        <p:cond delay="indefinite"/>
                      </p:stCondLst>
                      <p:childTnLst>
                        <p:par>
                          <p:cTn id="5574" fill="hold">
                            <p:stCondLst>
                              <p:cond delay="0"/>
                            </p:stCondLst>
                            <p:childTnLst>
                              <p:par>
                                <p:cTn id="55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7" dur="1000" fill="hold"/>
                                        <p:tgtEl>
                                          <p:spTgt spid="17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8" dur="1000" fill="hold"/>
                                        <p:tgtEl>
                                          <p:spTgt spid="17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9" dur="1000"/>
                                        <p:tgtEl>
                                          <p:spTgt spid="1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0" fill="hold">
                      <p:stCondLst>
                        <p:cond delay="indefinite"/>
                      </p:stCondLst>
                      <p:childTnLst>
                        <p:par>
                          <p:cTn id="5581" fill="hold">
                            <p:stCondLst>
                              <p:cond delay="0"/>
                            </p:stCondLst>
                            <p:childTnLst>
                              <p:par>
                                <p:cTn id="55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84" dur="500"/>
                                        <p:tgtEl>
                                          <p:spTgt spid="1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5" fill="hold">
                      <p:stCondLst>
                        <p:cond delay="indefinite"/>
                      </p:stCondLst>
                      <p:childTnLst>
                        <p:par>
                          <p:cTn id="5586" fill="hold">
                            <p:stCondLst>
                              <p:cond delay="0"/>
                            </p:stCondLst>
                            <p:childTnLst>
                              <p:par>
                                <p:cTn id="55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9" dur="1000" fill="hold"/>
                                        <p:tgtEl>
                                          <p:spTgt spid="1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0" dur="1000" fill="hold"/>
                                        <p:tgtEl>
                                          <p:spTgt spid="17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1" dur="1000"/>
                                        <p:tgtEl>
                                          <p:spTgt spid="1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2" fill="hold">
                      <p:stCondLst>
                        <p:cond delay="indefinite"/>
                      </p:stCondLst>
                      <p:childTnLst>
                        <p:par>
                          <p:cTn id="5593" fill="hold">
                            <p:stCondLst>
                              <p:cond delay="0"/>
                            </p:stCondLst>
                            <p:childTnLst>
                              <p:par>
                                <p:cTn id="55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96" dur="500"/>
                                        <p:tgtEl>
                                          <p:spTgt spid="1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7" fill="hold">
                      <p:stCondLst>
                        <p:cond delay="indefinite"/>
                      </p:stCondLst>
                      <p:childTnLst>
                        <p:par>
                          <p:cTn id="5598" fill="hold">
                            <p:stCondLst>
                              <p:cond delay="0"/>
                            </p:stCondLst>
                            <p:childTnLst>
                              <p:par>
                                <p:cTn id="55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1" dur="1000" fill="hold"/>
                                        <p:tgtEl>
                                          <p:spTgt spid="17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2" dur="1000" fill="hold"/>
                                        <p:tgtEl>
                                          <p:spTgt spid="17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3" dur="1000"/>
                                        <p:tgtEl>
                                          <p:spTgt spid="1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4" fill="hold">
                      <p:stCondLst>
                        <p:cond delay="indefinite"/>
                      </p:stCondLst>
                      <p:childTnLst>
                        <p:par>
                          <p:cTn id="5605" fill="hold">
                            <p:stCondLst>
                              <p:cond delay="0"/>
                            </p:stCondLst>
                            <p:childTnLst>
                              <p:par>
                                <p:cTn id="56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08" dur="500"/>
                                        <p:tgtEl>
                                          <p:spTgt spid="1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9" fill="hold">
                      <p:stCondLst>
                        <p:cond delay="indefinite"/>
                      </p:stCondLst>
                      <p:childTnLst>
                        <p:par>
                          <p:cTn id="5610" fill="hold">
                            <p:stCondLst>
                              <p:cond delay="0"/>
                            </p:stCondLst>
                            <p:childTnLst>
                              <p:par>
                                <p:cTn id="56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3" dur="1000" fill="hold"/>
                                        <p:tgtEl>
                                          <p:spTgt spid="17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4" dur="1000" fill="hold"/>
                                        <p:tgtEl>
                                          <p:spTgt spid="17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5" dur="1000"/>
                                        <p:tgtEl>
                                          <p:spTgt spid="1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6" fill="hold">
                      <p:stCondLst>
                        <p:cond delay="indefinite"/>
                      </p:stCondLst>
                      <p:childTnLst>
                        <p:par>
                          <p:cTn id="5617" fill="hold">
                            <p:stCondLst>
                              <p:cond delay="0"/>
                            </p:stCondLst>
                            <p:childTnLst>
                              <p:par>
                                <p:cTn id="56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20" dur="500"/>
                                        <p:tgtEl>
                                          <p:spTgt spid="1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23" dur="500"/>
                                        <p:tgtEl>
                                          <p:spTgt spid="1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26" dur="500"/>
                                        <p:tgtEl>
                                          <p:spTgt spid="1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29" dur="500"/>
                                        <p:tgtEl>
                                          <p:spTgt spid="1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2" dur="500"/>
                                        <p:tgtEl>
                                          <p:spTgt spid="1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5" dur="500"/>
                                        <p:tgtEl>
                                          <p:spTgt spid="1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8" dur="500"/>
                                        <p:tgtEl>
                                          <p:spTgt spid="1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41" dur="500"/>
                                        <p:tgtEl>
                                          <p:spTgt spid="1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44" dur="500"/>
                                        <p:tgtEl>
                                          <p:spTgt spid="1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47" dur="500"/>
                                        <p:tgtEl>
                                          <p:spTgt spid="1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50" dur="500"/>
                                        <p:tgtEl>
                                          <p:spTgt spid="1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53" dur="500"/>
                                        <p:tgtEl>
                                          <p:spTgt spid="1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56" dur="500"/>
                                        <p:tgtEl>
                                          <p:spTgt spid="1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59" dur="500"/>
                                        <p:tgtEl>
                                          <p:spTgt spid="1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62" dur="500"/>
                                        <p:tgtEl>
                                          <p:spTgt spid="1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65" dur="500"/>
                                        <p:tgtEl>
                                          <p:spTgt spid="1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68" dur="500"/>
                                        <p:tgtEl>
                                          <p:spTgt spid="1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71" dur="500"/>
                                        <p:tgtEl>
                                          <p:spTgt spid="1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74" dur="500"/>
                                        <p:tgtEl>
                                          <p:spTgt spid="1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77" dur="500"/>
                                        <p:tgtEl>
                                          <p:spTgt spid="1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80" dur="500"/>
                                        <p:tgtEl>
                                          <p:spTgt spid="1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83" dur="500"/>
                                        <p:tgtEl>
                                          <p:spTgt spid="1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86" dur="500"/>
                                        <p:tgtEl>
                                          <p:spTgt spid="1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89" dur="500"/>
                                        <p:tgtEl>
                                          <p:spTgt spid="1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92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95" dur="500"/>
                                        <p:tgtEl>
                                          <p:spTgt spid="1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98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9" fill="hold">
                      <p:stCondLst>
                        <p:cond delay="indefinite"/>
                      </p:stCondLst>
                      <p:childTnLst>
                        <p:par>
                          <p:cTn id="5700" fill="hold">
                            <p:stCondLst>
                              <p:cond delay="0"/>
                            </p:stCondLst>
                            <p:childTnLst>
                              <p:par>
                                <p:cTn id="57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03" dur="500"/>
                                        <p:tgtEl>
                                          <p:spTgt spid="1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06" dur="500"/>
                                        <p:tgtEl>
                                          <p:spTgt spid="1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09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12" dur="500"/>
                                        <p:tgtEl>
                                          <p:spTgt spid="1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15" dur="500"/>
                                        <p:tgtEl>
                                          <p:spTgt spid="1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18" dur="500"/>
                                        <p:tgtEl>
                                          <p:spTgt spid="1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21" dur="500"/>
                                        <p:tgtEl>
                                          <p:spTgt spid="1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24" dur="500"/>
                                        <p:tgtEl>
                                          <p:spTgt spid="1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27" dur="500"/>
                                        <p:tgtEl>
                                          <p:spTgt spid="1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8" fill="hold">
                      <p:stCondLst>
                        <p:cond delay="indefinite"/>
                      </p:stCondLst>
                      <p:childTnLst>
                        <p:par>
                          <p:cTn id="5729" fill="hold">
                            <p:stCondLst>
                              <p:cond delay="0"/>
                            </p:stCondLst>
                            <p:childTnLst>
                              <p:par>
                                <p:cTn id="57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2" dur="500"/>
                                        <p:tgtEl>
                                          <p:spTgt spid="1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5" dur="500"/>
                                        <p:tgtEl>
                                          <p:spTgt spid="1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8" dur="500"/>
                                        <p:tgtEl>
                                          <p:spTgt spid="1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41" dur="5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44" dur="500"/>
                                        <p:tgtEl>
                                          <p:spTgt spid="1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5" fill="hold">
                      <p:stCondLst>
                        <p:cond delay="indefinite"/>
                      </p:stCondLst>
                      <p:childTnLst>
                        <p:par>
                          <p:cTn id="5746" fill="hold">
                            <p:stCondLst>
                              <p:cond delay="0"/>
                            </p:stCondLst>
                            <p:childTnLst>
                              <p:par>
                                <p:cTn id="57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49" dur="500"/>
                                        <p:tgtEl>
                                          <p:spTgt spid="1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52" dur="500"/>
                                        <p:tgtEl>
                                          <p:spTgt spid="1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55" dur="500"/>
                                        <p:tgtEl>
                                          <p:spTgt spid="1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58" dur="500"/>
                                        <p:tgtEl>
                                          <p:spTgt spid="1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1" dur="500"/>
                                        <p:tgtEl>
                                          <p:spTgt spid="1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4" dur="500"/>
                                        <p:tgtEl>
                                          <p:spTgt spid="1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7" dur="500"/>
                                        <p:tgtEl>
                                          <p:spTgt spid="1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70" dur="500"/>
                                        <p:tgtEl>
                                          <p:spTgt spid="1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73" dur="500"/>
                                        <p:tgtEl>
                                          <p:spTgt spid="1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76" dur="500"/>
                                        <p:tgtEl>
                                          <p:spTgt spid="1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79" dur="500"/>
                                        <p:tgtEl>
                                          <p:spTgt spid="1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2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5" dur="500"/>
                                        <p:tgtEl>
                                          <p:spTgt spid="1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8" dur="500"/>
                                        <p:tgtEl>
                                          <p:spTgt spid="1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91" dur="500"/>
                                        <p:tgtEl>
                                          <p:spTgt spid="1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94" dur="500"/>
                                        <p:tgtEl>
                                          <p:spTgt spid="1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97" dur="500"/>
                                        <p:tgtEl>
                                          <p:spTgt spid="1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00" dur="500"/>
                                        <p:tgtEl>
                                          <p:spTgt spid="1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03" dur="500"/>
                                        <p:tgtEl>
                                          <p:spTgt spid="1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06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09" dur="500"/>
                                        <p:tgtEl>
                                          <p:spTgt spid="1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12" dur="500"/>
                                        <p:tgtEl>
                                          <p:spTgt spid="1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15" dur="500"/>
                                        <p:tgtEl>
                                          <p:spTgt spid="1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18" dur="500"/>
                                        <p:tgtEl>
                                          <p:spTgt spid="1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21" dur="500"/>
                                        <p:tgtEl>
                                          <p:spTgt spid="1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24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27" dur="500"/>
                                        <p:tgtEl>
                                          <p:spTgt spid="1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8" fill="hold">
                      <p:stCondLst>
                        <p:cond delay="indefinite"/>
                      </p:stCondLst>
                      <p:childTnLst>
                        <p:par>
                          <p:cTn id="5829" fill="hold">
                            <p:stCondLst>
                              <p:cond delay="0"/>
                            </p:stCondLst>
                            <p:childTnLst>
                              <p:par>
                                <p:cTn id="58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2" dur="500"/>
                                        <p:tgtEl>
                                          <p:spTgt spid="1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5" dur="500"/>
                                        <p:tgtEl>
                                          <p:spTgt spid="1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8" dur="500"/>
                                        <p:tgtEl>
                                          <p:spTgt spid="1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41" dur="500"/>
                                        <p:tgtEl>
                                          <p:spTgt spid="1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44" dur="500"/>
                                        <p:tgtEl>
                                          <p:spTgt spid="1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5" fill="hold">
                      <p:stCondLst>
                        <p:cond delay="indefinite"/>
                      </p:stCondLst>
                      <p:childTnLst>
                        <p:par>
                          <p:cTn id="5846" fill="hold">
                            <p:stCondLst>
                              <p:cond delay="0"/>
                            </p:stCondLst>
                            <p:childTnLst>
                              <p:par>
                                <p:cTn id="58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49" dur="500"/>
                                        <p:tgtEl>
                                          <p:spTgt spid="1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52" dur="500"/>
                                        <p:tgtEl>
                                          <p:spTgt spid="1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55" dur="500"/>
                                        <p:tgtEl>
                                          <p:spTgt spid="1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58" dur="500"/>
                                        <p:tgtEl>
                                          <p:spTgt spid="1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61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2" fill="hold">
                      <p:stCondLst>
                        <p:cond delay="indefinite"/>
                      </p:stCondLst>
                      <p:childTnLst>
                        <p:par>
                          <p:cTn id="5863" fill="hold">
                            <p:stCondLst>
                              <p:cond delay="0"/>
                            </p:stCondLst>
                            <p:childTnLst>
                              <p:par>
                                <p:cTn id="58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6" dur="1000" fill="hold"/>
                                        <p:tgtEl>
                                          <p:spTgt spid="18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7" dur="1000" fill="hold"/>
                                        <p:tgtEl>
                                          <p:spTgt spid="18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8" dur="1000"/>
                                        <p:tgtEl>
                                          <p:spTgt spid="1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9" fill="hold">
                      <p:stCondLst>
                        <p:cond delay="indefinite"/>
                      </p:stCondLst>
                      <p:childTnLst>
                        <p:par>
                          <p:cTn id="5870" fill="hold">
                            <p:stCondLst>
                              <p:cond delay="0"/>
                            </p:stCondLst>
                            <p:childTnLst>
                              <p:par>
                                <p:cTn id="58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3" dur="1000" fill="hold"/>
                                        <p:tgtEl>
                                          <p:spTgt spid="18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4" dur="1000" fill="hold"/>
                                        <p:tgtEl>
                                          <p:spTgt spid="18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5" dur="1000"/>
                                        <p:tgtEl>
                                          <p:spTgt spid="1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/>
          </p:nvPr>
        </p:nvSpPr>
        <p:spPr>
          <a:xfrm>
            <a:off x="179280" y="235080"/>
            <a:ext cx="8785440" cy="63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 algn="ctr">
              <a:lnSpc>
                <a:spcPct val="70000"/>
              </a:lnSpc>
              <a:spcBef>
                <a:spcPts val="24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3300"/>
                </a:solidFill>
                <a:latin typeface="Book Antiqua"/>
              </a:rPr>
              <a:t>К о н т р о л ь н ы е    в о п р о с 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>
              <a:lnSpc>
                <a:spcPct val="7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Book Antiqua"/>
              </a:rPr>
              <a:t>( в скобках даны номера слайдов, в которых можно найти ответы на вопрос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>
              <a:lnSpc>
                <a:spcPct val="7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Book Antiqua"/>
              </a:rPr>
              <a:t>для перехода к слайду с ответом можно сделать щелчок мышью по номеру в скобках</a:t>
            </a:r>
            <a:r>
              <a:rPr b="1" i="1" lang="ru-RU" sz="1600" spc="-1" strike="noStrike" baseline="30000">
                <a:solidFill>
                  <a:srgbClr val="663300"/>
                </a:solidFill>
                <a:latin typeface="Book Antiqua"/>
              </a:rPr>
              <a:t>*)</a:t>
            </a:r>
            <a:r>
              <a:rPr b="1" i="1" lang="ru-RU" sz="1600" spc="-1" strike="noStrike">
                <a:solidFill>
                  <a:srgbClr val="663300"/>
                </a:solidFill>
                <a:latin typeface="Book Antiqu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>
              <a:lnSpc>
                <a:spcPct val="7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Book Antiqua"/>
              </a:rPr>
              <a:t>для возврата к контрольным вопросам сделать щелчок правой кнопкой мыш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>
              <a:lnSpc>
                <a:spcPct val="70000"/>
              </a:lnSpc>
              <a:spcBef>
                <a:spcPts val="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Book Antiqua"/>
              </a:rPr>
              <a:t>и выбрать «Перейти  к  слайду  16»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.  Особенности расчёта статически неопределимых систем методом сил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) обусловленные характером воздействия (силовое, температурное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инематическое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1" action="ppaction://hlinksldjump"/>
              </a:rPr>
              <a:t>( 3 )</a:t>
            </a:r>
            <a:r>
              <a:rPr b="1" lang="ru-RU" sz="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б) для СНС разных типов (балки, арки, рамы, фермы, комбинированн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75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истемы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2" action="ppaction://hlinksldjump"/>
              </a:rPr>
              <a:t>( 4 )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Times New Roman"/>
                <a:hlinkClick r:id="rId3" action="ppaction://hlinksldjump"/>
              </a:rPr>
              <a:t>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4" action="ppaction://hlinksldjump"/>
              </a:rPr>
              <a:t>,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5" action="ppaction://hlinksldjump"/>
              </a:rPr>
              <a:t> ( 5 )</a:t>
            </a:r>
            <a:r>
              <a:rPr b="1" lang="ru-RU" sz="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.  Формулы для вычисления 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ik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iF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it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ic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: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) в общем случае плоской стержневой системы 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6" action="ppaction://hlinksldjump"/>
              </a:rPr>
              <a:t>( 5 )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75000"/>
              </a:lnSpc>
              <a:spcBef>
                <a:spcPts val="2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б) в частных случаях – для балок, рам, арок, ферм, комбинированных систем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7" action="ppaction://hlinksldjump"/>
              </a:rPr>
              <a:t>( 5 )</a:t>
            </a:r>
            <a:r>
              <a:rPr b="1" lang="ru-RU" sz="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3.  Использование групповых основных неизвестных в расчётах СНС методом сил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) требование, предъявляемое к матрице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1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линейного преобразования основных неизвестных  </a:t>
            </a:r>
            <a:r>
              <a:rPr b="1" lang="ru-RU" sz="1600" spc="-1" strike="noStrike">
                <a:solidFill>
                  <a:srgbClr val="009900"/>
                </a:solidFill>
                <a:latin typeface="Times New Roman"/>
              </a:rPr>
              <a:t>( 7 )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75000"/>
              </a:lnSpc>
              <a:spcBef>
                <a:spcPts val="2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б) особенности группировки неизвестных в симметричных системах  </a:t>
            </a:r>
            <a:r>
              <a:rPr b="1" lang="ru-RU" sz="1600" spc="-1" strike="noStrike">
                <a:solidFill>
                  <a:srgbClr val="009900"/>
                </a:solidFill>
                <a:latin typeface="Times New Roman"/>
              </a:rPr>
              <a:t>( 10 )</a:t>
            </a:r>
            <a:r>
              <a:rPr b="1" lang="ru-RU" sz="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4.  Какие упрощения в расчёте симметричной СНС методом сил даёт использо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рупповых неизвестных: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) при произвольных воздействиях?  </a:t>
            </a:r>
            <a:r>
              <a:rPr b="1" lang="ru-RU" sz="1600" spc="-1" strike="noStrike">
                <a:solidFill>
                  <a:srgbClr val="009900"/>
                </a:solidFill>
                <a:latin typeface="Times New Roman"/>
              </a:rPr>
              <a:t>( 11 )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75000"/>
              </a:lnSpc>
              <a:spcBef>
                <a:spcPts val="2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б) при воздействиях, обладающих прямой или обратной симметрией?  </a:t>
            </a:r>
            <a:r>
              <a:rPr b="1" lang="ru-RU" sz="1600" spc="-1" strike="noStrike">
                <a:solidFill>
                  <a:srgbClr val="009900"/>
                </a:solidFill>
                <a:latin typeface="Times New Roman"/>
              </a:rPr>
              <a:t>( 12 )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5.  Расчёт симметричной СНС с использованием разделения на части по оси симметри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) какие преобразования заданных воздействий (нагрузок и др.) должны быть выполнены предварительно?  </a:t>
            </a:r>
            <a:r>
              <a:rPr b="1" lang="ru-RU" sz="1600" spc="-1" strike="noStrike">
                <a:solidFill>
                  <a:srgbClr val="009900"/>
                </a:solidFill>
                <a:latin typeface="Times New Roman"/>
              </a:rPr>
              <a:t>( 14 )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б) как моделируется в схеме рассчитываемой половины системы влияние отбрасываемой другой части?  </a:t>
            </a:r>
            <a:r>
              <a:rPr b="1" lang="ru-RU" sz="1600" spc="-1" strike="noStrike">
                <a:solidFill>
                  <a:srgbClr val="009900"/>
                </a:solidFill>
                <a:latin typeface="Times New Roman"/>
              </a:rPr>
              <a:t>( 15 )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) чем отличаются схемы половины симметричной системы в расчётах на симметричную и обратносимметричную составляющие заданного воздействия?  </a:t>
            </a:r>
            <a:r>
              <a:rPr b="1" lang="ru-RU" sz="1600" spc="-1" strike="noStrike">
                <a:solidFill>
                  <a:srgbClr val="009900"/>
                </a:solidFill>
                <a:latin typeface="Times New Roman"/>
              </a:rPr>
              <a:t>( 15 )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*)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Только в режиме «Показ слайдов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"/>
          <p:cNvSpPr/>
          <p:nvPr/>
        </p:nvSpPr>
        <p:spPr>
          <a:xfrm>
            <a:off x="420840" y="632160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395280" y="260280"/>
            <a:ext cx="8497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 Black"/>
              </a:rPr>
              <a:t>ОСОБЕННОСТИ РАСЧЁТА СНС МЕТОДОМ СИЛ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6560" y="1052640"/>
            <a:ext cx="3961080" cy="5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собенности, обусловл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видом воздей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59280" y="1068480"/>
            <a:ext cx="3960720" cy="73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собенности, связа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с типом РСН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(характером работы элемент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68360" y="836640"/>
            <a:ext cx="4680000" cy="249120"/>
          </a:xfrm>
          <a:custGeom>
            <a:avLst/>
            <a:gdLst/>
            <a:ahLst/>
            <a:rect l="l" t="t" r="r" b="b"/>
            <a:pathLst>
              <a:path w="1371" h="136">
                <a:moveTo>
                  <a:pt x="1371" y="129"/>
                </a:moveTo>
                <a:lnTo>
                  <a:pt x="1360" y="0"/>
                </a:lnTo>
                <a:lnTo>
                  <a:pt x="0" y="0"/>
                </a:lnTo>
                <a:lnTo>
                  <a:pt x="0" y="1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43280" y="646200"/>
            <a:ext cx="0" cy="2156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nextslide"/>
          </p:cNvPr>
          <p:cNvSpPr/>
          <p:nvPr/>
        </p:nvSpPr>
        <p:spPr>
          <a:xfrm>
            <a:off x="395280" y="260280"/>
            <a:ext cx="8497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 Black"/>
              </a:rPr>
              <a:t>ОСОБЕННОСТИ РАСЧЕТА СНС МЕТОДОМ СИЛ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6560" y="614520"/>
            <a:ext cx="806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) обусловленные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видом воз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3520" y="1401840"/>
            <a:ext cx="1368360" cy="482760"/>
          </a:xfrm>
          <a:prstGeom prst="rect">
            <a:avLst/>
          </a:prstGeom>
          <a:solidFill>
            <a:srgbClr val="84e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Вид воздейств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03520" y="1401840"/>
            <a:ext cx="1368360" cy="482760"/>
          </a:xfrm>
          <a:prstGeom prst="rect">
            <a:avLst/>
          </a:prstGeom>
          <a:solidFill>
            <a:srgbClr val="84e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Канонические уравн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43160" y="1401840"/>
            <a:ext cx="1368360" cy="482760"/>
          </a:xfrm>
          <a:prstGeom prst="rect">
            <a:avLst/>
          </a:prstGeom>
          <a:solidFill>
            <a:srgbClr val="84e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Свободные члены КУМ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83160" y="1397160"/>
            <a:ext cx="1368360" cy="482760"/>
          </a:xfrm>
          <a:prstGeom prst="rect">
            <a:avLst/>
          </a:prstGeom>
          <a:solidFill>
            <a:srgbClr val="84e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Основные неизвест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24600" y="1401840"/>
            <a:ext cx="1368360" cy="482760"/>
          </a:xfrm>
          <a:prstGeom prst="rect">
            <a:avLst/>
          </a:prstGeom>
          <a:solidFill>
            <a:srgbClr val="84e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Искомые усил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464600" y="1401840"/>
            <a:ext cx="1368360" cy="482760"/>
          </a:xfrm>
          <a:prstGeom prst="rect">
            <a:avLst/>
          </a:prstGeom>
          <a:solidFill>
            <a:srgbClr val="84e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Кинематичес-кая провер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2880" y="1919160"/>
            <a:ext cx="1368720" cy="1632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Силов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(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12880" y="1919160"/>
            <a:ext cx="1368360" cy="1579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52880" y="1911240"/>
            <a:ext cx="1368360" cy="1579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92520" y="1914480"/>
            <a:ext cx="1368720" cy="1579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33960" y="1919160"/>
            <a:ext cx="1368720" cy="1579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473960" y="1919160"/>
            <a:ext cx="1368360" cy="1579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76120" y="3495600"/>
            <a:ext cx="1368360" cy="1575360"/>
          </a:xfrm>
          <a:prstGeom prst="rect">
            <a:avLst/>
          </a:prstGeom>
          <a:solidFill>
            <a:srgbClr val="d9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Температур-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716120" y="3495600"/>
            <a:ext cx="1368360" cy="1579320"/>
          </a:xfrm>
          <a:prstGeom prst="rect">
            <a:avLst/>
          </a:prstGeom>
          <a:solidFill>
            <a:srgbClr val="d9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56120" y="3495600"/>
            <a:ext cx="1368360" cy="1579320"/>
          </a:xfrm>
          <a:prstGeom prst="rect">
            <a:avLst/>
          </a:prstGeom>
          <a:solidFill>
            <a:srgbClr val="d9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95760" y="3490920"/>
            <a:ext cx="1368360" cy="1579320"/>
          </a:xfrm>
          <a:prstGeom prst="rect">
            <a:avLst/>
          </a:prstGeom>
          <a:solidFill>
            <a:srgbClr val="d9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37200" y="3495600"/>
            <a:ext cx="1368360" cy="1579320"/>
          </a:xfrm>
          <a:prstGeom prst="rect">
            <a:avLst/>
          </a:prstGeom>
          <a:solidFill>
            <a:srgbClr val="d9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477200" y="3495600"/>
            <a:ext cx="1368360" cy="1579320"/>
          </a:xfrm>
          <a:prstGeom prst="rect">
            <a:avLst/>
          </a:prstGeom>
          <a:solidFill>
            <a:srgbClr val="d9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6120" y="5062680"/>
            <a:ext cx="1368360" cy="1546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Кинемати-чес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(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716120" y="5062680"/>
            <a:ext cx="1368360" cy="1579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56120" y="5062680"/>
            <a:ext cx="1368360" cy="1579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95760" y="5070600"/>
            <a:ext cx="1368360" cy="1579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37200" y="5062680"/>
            <a:ext cx="1368360" cy="1579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77200" y="5062680"/>
            <a:ext cx="1368360" cy="1579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3120" y="966960"/>
            <a:ext cx="446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Инвариант – матрица упругой податливости ОСМ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4702320" y="932040"/>
                <a:ext cx="122688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т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 </m:t>
                    </m:r>
                    <m:r>
                      <m:t xml:space="preserve">L</m:t>
                    </m:r>
                    <m:r>
                      <m:t xml:space="preserve"> 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6103800" y="874800"/>
                <a:ext cx="262584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 δ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∨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1720800" y="2525760"/>
                <a:ext cx="133200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 </m:t>
                        </m:r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1746360" y="4011480"/>
                <a:ext cx="127800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 </m:t>
                        </m:r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1738440" y="5595840"/>
                <a:ext cx="129528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 </m:t>
                        </m:r>
                        <m:r>
                          <m:t xml:space="preserve">с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3179880" y="2332080"/>
                <a:ext cx="130788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т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3178080" y="3921120"/>
                <a:ext cx="132264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т</m:t>
                            </m:r>
                          </m:sup>
                        </m:sSubSup>
                        <m:r>
                          <m:t xml:space="preserve"> 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 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in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 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3154320" y="5388120"/>
                <a:ext cx="137484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Δ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  <m:e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  <m:sup>
                            <m:r>
                              <m:t xml:space="preserve">т</m:t>
                            </m:r>
                          </m:sup>
                        </m:sSubSup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E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Δ</m:t>
                            </m:r>
                          </m:e>
                          <m:sub>
                            <m:r>
                              <m:t xml:space="preserve">(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3409920" y="2722680"/>
                <a:ext cx="83196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3170160" y="6031080"/>
                <a:ext cx="1120680" cy="35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inv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4576680" y="1925640"/>
                <a:ext cx="1378080" cy="14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δ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d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⋅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in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4576680" y="3646440"/>
                <a:ext cx="140040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δ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d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⋅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in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n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92520" y="5216400"/>
                <a:ext cx="1597320" cy="124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δ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d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⋅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in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n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3500280" y="4581360"/>
            <a:ext cx="6732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38440" y="6369120"/>
            <a:ext cx="6732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3395520"/>
            <a:ext cx="67284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76600" y="3073320"/>
            <a:ext cx="27936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759200" y="4869000"/>
            <a:ext cx="27936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75040" y="6453360"/>
            <a:ext cx="2797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352600" y="2949480"/>
            <a:ext cx="27936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52600" y="4437000"/>
            <a:ext cx="27936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365200" y="6013440"/>
            <a:ext cx="2797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7499520" y="2421000"/>
                <a:ext cx="12952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т</m:t>
                        </m:r>
                      </m:sup>
                    </m:sSup>
                    <m:r>
                      <m:t xml:space="preserve">B</m:t>
                    </m:r>
                    <m:r>
                      <m:t xml:space="preserve"> </m:t>
                    </m:r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7477200" y="3911760"/>
                <a:ext cx="136836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Δ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el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т</m:t>
                            </m:r>
                          </m:sup>
                        </m:sSup>
                        <m:r>
                          <m:t xml:space="preserve">B</m:t>
                        </m:r>
                        <m:r>
                          <m:t xml:space="preserve">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7489800" y="5491080"/>
                <a:ext cx="138924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Δ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el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т</m:t>
                            </m:r>
                          </m:sup>
                        </m:sSup>
                        <m:r>
                          <m:t xml:space="preserve">B</m:t>
                        </m:r>
                        <m:r>
                          <m:t xml:space="preserve">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8507520" y="2814480"/>
            <a:ext cx="27936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956720" y="4665600"/>
            <a:ext cx="5029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956720" y="6242040"/>
            <a:ext cx="5029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5867280" y="2151000"/>
                <a:ext cx="1584360" cy="11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L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in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n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6456240" y="3332160"/>
            <a:ext cx="7207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5927760" y="3741840"/>
                <a:ext cx="151128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L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/>
                        </m:sSubSup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n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/>
                        </m:sSubSup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n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6211800" y="4919760"/>
            <a:ext cx="27936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5948280" y="5334120"/>
                <a:ext cx="149544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L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  <m:sup/>
                        </m:sSubSup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n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  <m:sup/>
                        </m:sSubSup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n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6227640" y="6499080"/>
            <a:ext cx="27936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9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9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9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9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9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9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9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>
            <a:hlinkClick r:id="" action="ppaction://hlinkshowjump?jump=nextslide"/>
          </p:cNvPr>
          <p:cNvSpPr/>
          <p:nvPr/>
        </p:nvSpPr>
        <p:spPr>
          <a:xfrm>
            <a:off x="395280" y="260280"/>
            <a:ext cx="8497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 Black"/>
              </a:rPr>
              <a:t>ОСОБЕННОСТИ РАСЧЁТА СНС МЕТОДОМ СИЛ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6560" y="614520"/>
            <a:ext cx="8066160" cy="6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) обусловленные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типом 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характером работы элемент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22480" y="1341360"/>
            <a:ext cx="1896840" cy="1727280"/>
          </a:xfrm>
          <a:prstGeom prst="rect">
            <a:avLst/>
          </a:prstGeom>
          <a:solidFill>
            <a:srgbClr val="e8b3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117960" y="1341360"/>
            <a:ext cx="1990440" cy="1727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72120" y="1341360"/>
            <a:ext cx="1778040" cy="1727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035840" y="1341360"/>
            <a:ext cx="1314360" cy="172728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457200" y="1306440"/>
                <a:ext cx="7940520" cy="167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b>
                              <m:sup/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I</m:t>
                                    </m:r>
                                  </m:den>
                                </m:f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s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</m:e>
                            </m:nary>
                          </m:e>
                        </m:nary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τ</m:t>
                                    </m:r>
                                  </m:sub>
                                </m:sSub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GA</m:t>
                                    </m:r>
                                  </m:den>
                                </m:f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s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</m:e>
                            </m:nary>
                          </m:e>
                        </m:nary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b>
                              <m:sup/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A</m:t>
                                    </m:r>
                                  </m:den>
                                </m:f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s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</m:e>
                            </m:nary>
                          </m:e>
                        </m:nary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u</m:t>
                            </m:r>
                          </m:sup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,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,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F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b>
                              <m:sup/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F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I</m:t>
                                    </m:r>
                                  </m:den>
                                </m:f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s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</m:e>
                            </m:nary>
                          </m:e>
                        </m:nary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τ</m:t>
                                    </m:r>
                                  </m:sub>
                                </m:sSub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F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GA</m:t>
                                    </m:r>
                                  </m:den>
                                </m:f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s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</m:e>
                            </m:nary>
                          </m:e>
                        </m:nary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b>
                              <m:sup/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F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A</m:t>
                                    </m:r>
                                  </m:den>
                                </m:f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s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</m:e>
                            </m:nary>
                          </m:e>
                        </m:nary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u</m:t>
                            </m:r>
                          </m:sup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,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,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F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900000" y="3860640"/>
            <a:ext cx="223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4622760"/>
            <a:ext cx="1638360" cy="1111320"/>
          </a:xfrm>
          <a:custGeom>
            <a:avLst/>
            <a:gdLst/>
            <a:ahLst/>
            <a:rect l="l" t="t" r="r" b="b"/>
            <a:pathLst>
              <a:path w="1032" h="700">
                <a:moveTo>
                  <a:pt x="0" y="0"/>
                </a:moveTo>
                <a:cubicBezTo>
                  <a:pt x="344" y="0"/>
                  <a:pt x="688" y="0"/>
                  <a:pt x="1032" y="0"/>
                </a:cubicBezTo>
                <a:lnTo>
                  <a:pt x="1029" y="70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390760" y="5734080"/>
            <a:ext cx="158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908000" y="4621320"/>
            <a:ext cx="503280" cy="1081080"/>
          </a:xfrm>
          <a:custGeom>
            <a:avLst/>
            <a:gdLst/>
            <a:ahLst/>
            <a:rect l="l" t="t" r="r" b="b"/>
            <a:pathLst>
              <a:path w="317" h="681">
                <a:moveTo>
                  <a:pt x="317" y="681"/>
                </a:moveTo>
                <a:lnTo>
                  <a:pt x="317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08000" y="4653000"/>
            <a:ext cx="503280" cy="57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43280" y="3973680"/>
            <a:ext cx="2233800" cy="750600"/>
          </a:xfrm>
          <a:custGeom>
            <a:avLst/>
            <a:gdLst/>
            <a:ahLst/>
            <a:rect l="l" t="t" r="r" b="b"/>
            <a:pathLst>
              <a:path w="1407" h="473">
                <a:moveTo>
                  <a:pt x="0" y="473"/>
                </a:moveTo>
                <a:cubicBezTo>
                  <a:pt x="53" y="394"/>
                  <a:pt x="106" y="315"/>
                  <a:pt x="182" y="247"/>
                </a:cubicBezTo>
                <a:cubicBezTo>
                  <a:pt x="258" y="179"/>
                  <a:pt x="355" y="105"/>
                  <a:pt x="454" y="65"/>
                </a:cubicBezTo>
                <a:cubicBezTo>
                  <a:pt x="553" y="25"/>
                  <a:pt x="672" y="0"/>
                  <a:pt x="779" y="9"/>
                </a:cubicBezTo>
                <a:cubicBezTo>
                  <a:pt x="886" y="18"/>
                  <a:pt x="1012" y="72"/>
                  <a:pt x="1099" y="121"/>
                </a:cubicBezTo>
                <a:cubicBezTo>
                  <a:pt x="1186" y="170"/>
                  <a:pt x="1248" y="246"/>
                  <a:pt x="1299" y="305"/>
                </a:cubicBezTo>
                <a:cubicBezTo>
                  <a:pt x="1350" y="364"/>
                  <a:pt x="1385" y="438"/>
                  <a:pt x="1407" y="473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859280" y="4508640"/>
            <a:ext cx="187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979640" y="38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25880" y="38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95640" y="57340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01920" y="57340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06840" y="4737240"/>
            <a:ext cx="252360" cy="72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10080" y="473724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97560" y="4697280"/>
            <a:ext cx="7128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738840" y="4724280"/>
            <a:ext cx="252360" cy="73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742080" y="472428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41480" y="386244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087720" y="3817800"/>
            <a:ext cx="7128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97360" y="4116240"/>
            <a:ext cx="252360" cy="73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000240" y="4116240"/>
            <a:ext cx="252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087720" y="4076640"/>
            <a:ext cx="7128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849320" y="4116240"/>
            <a:ext cx="252360" cy="73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852560" y="411624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40040" y="4076640"/>
            <a:ext cx="7128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5400000">
            <a:off x="724320" y="3823200"/>
            <a:ext cx="287280" cy="730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00000" y="371628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65680" y="5977080"/>
            <a:ext cx="252360" cy="72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68560" y="5977080"/>
            <a:ext cx="252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56040" y="5937120"/>
            <a:ext cx="7128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8080" y="5979960"/>
            <a:ext cx="252360" cy="730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81320" y="597996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68440" y="5940360"/>
            <a:ext cx="7164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1995840" y="5685480"/>
            <a:ext cx="287280" cy="730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71880" y="5578560"/>
            <a:ext cx="0" cy="288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195640" y="573408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33720" y="5699160"/>
            <a:ext cx="712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52800" y="5695920"/>
            <a:ext cx="7164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368440" y="5695920"/>
            <a:ext cx="7164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70200" y="4600440"/>
            <a:ext cx="7128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330280" y="514836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22920" y="4470480"/>
            <a:ext cx="712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654960" y="4475160"/>
            <a:ext cx="712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3640" y="484488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A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925720" y="565632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A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508720" y="4437000"/>
            <a:ext cx="57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A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763640" y="3141360"/>
            <a:ext cx="432000" cy="647640"/>
          </a:xfrm>
          <a:prstGeom prst="line">
            <a:avLst/>
          </a:prstGeom>
          <a:ln w="28440">
            <a:solidFill>
              <a:srgbClr val="be4834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1955880" y="3087720"/>
            <a:ext cx="1824120" cy="720720"/>
          </a:xfrm>
          <a:prstGeom prst="line">
            <a:avLst/>
          </a:prstGeom>
          <a:ln w="28440">
            <a:solidFill>
              <a:srgbClr val="50cc82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455920" y="3170160"/>
            <a:ext cx="57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c9a7"/>
                </a:solidFill>
                <a:latin typeface="Arial"/>
              </a:rPr>
              <a:t>(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3419640" y="3068640"/>
            <a:ext cx="720720" cy="1512720"/>
          </a:xfrm>
          <a:prstGeom prst="line">
            <a:avLst/>
          </a:prstGeom>
          <a:ln w="28440">
            <a:solidFill>
              <a:srgbClr val="50cc82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5360" y="3673440"/>
            <a:ext cx="57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c9a7"/>
                </a:solidFill>
                <a:latin typeface="Arial"/>
              </a:rPr>
              <a:t>(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06440" y="3086280"/>
            <a:ext cx="2365200" cy="1495080"/>
          </a:xfrm>
          <a:custGeom>
            <a:avLst/>
            <a:gdLst/>
            <a:ahLst/>
            <a:rect l="l" t="t" r="r" b="b"/>
            <a:pathLst>
              <a:path w="1490" h="942">
                <a:moveTo>
                  <a:pt x="1490" y="942"/>
                </a:moveTo>
                <a:cubicBezTo>
                  <a:pt x="1414" y="896"/>
                  <a:pt x="1339" y="851"/>
                  <a:pt x="1127" y="806"/>
                </a:cubicBezTo>
                <a:cubicBezTo>
                  <a:pt x="915" y="761"/>
                  <a:pt x="406" y="745"/>
                  <a:pt x="220" y="670"/>
                </a:cubicBezTo>
                <a:cubicBezTo>
                  <a:pt x="34" y="595"/>
                  <a:pt x="16" y="446"/>
                  <a:pt x="8" y="354"/>
                </a:cubicBezTo>
                <a:cubicBezTo>
                  <a:pt x="0" y="262"/>
                  <a:pt x="80" y="179"/>
                  <a:pt x="170" y="120"/>
                </a:cubicBezTo>
                <a:cubicBezTo>
                  <a:pt x="260" y="61"/>
                  <a:pt x="469" y="25"/>
                  <a:pt x="548" y="0"/>
                </a:cubicBezTo>
              </a:path>
            </a:pathLst>
          </a:custGeom>
          <a:noFill/>
          <a:ln w="28440">
            <a:solidFill>
              <a:srgbClr val="be4834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876400" y="3143160"/>
            <a:ext cx="2590920" cy="2590920"/>
          </a:xfrm>
          <a:custGeom>
            <a:avLst/>
            <a:gdLst/>
            <a:ahLst/>
            <a:rect l="l" t="t" r="r" b="b"/>
            <a:pathLst>
              <a:path w="1632" h="1632">
                <a:moveTo>
                  <a:pt x="0" y="1632"/>
                </a:moveTo>
                <a:cubicBezTo>
                  <a:pt x="84" y="1506"/>
                  <a:pt x="322" y="1071"/>
                  <a:pt x="504" y="876"/>
                </a:cubicBezTo>
                <a:cubicBezTo>
                  <a:pt x="686" y="681"/>
                  <a:pt x="947" y="562"/>
                  <a:pt x="1090" y="460"/>
                </a:cubicBezTo>
                <a:cubicBezTo>
                  <a:pt x="1233" y="358"/>
                  <a:pt x="1272" y="341"/>
                  <a:pt x="1362" y="264"/>
                </a:cubicBezTo>
                <a:cubicBezTo>
                  <a:pt x="1452" y="187"/>
                  <a:pt x="1576" y="55"/>
                  <a:pt x="1632" y="0"/>
                </a:cubicBezTo>
              </a:path>
            </a:pathLst>
          </a:custGeom>
          <a:noFill/>
          <a:ln w="28440">
            <a:solidFill>
              <a:srgbClr val="66b6b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143080" y="4714920"/>
            <a:ext cx="1392120" cy="243000"/>
          </a:xfrm>
          <a:custGeom>
            <a:avLst/>
            <a:gdLst/>
            <a:ahLst/>
            <a:rect l="l" t="t" r="r" b="b"/>
            <a:pathLst>
              <a:path w="877" h="153">
                <a:moveTo>
                  <a:pt x="0" y="126"/>
                </a:moveTo>
                <a:cubicBezTo>
                  <a:pt x="50" y="129"/>
                  <a:pt x="197" y="153"/>
                  <a:pt x="300" y="150"/>
                </a:cubicBezTo>
                <a:cubicBezTo>
                  <a:pt x="403" y="147"/>
                  <a:pt x="522" y="133"/>
                  <a:pt x="618" y="108"/>
                </a:cubicBezTo>
                <a:cubicBezTo>
                  <a:pt x="714" y="83"/>
                  <a:pt x="823" y="22"/>
                  <a:pt x="877" y="0"/>
                </a:cubicBezTo>
              </a:path>
            </a:pathLst>
          </a:custGeom>
          <a:noFill/>
          <a:ln w="28440">
            <a:solidFill>
              <a:srgbClr val="66b6b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914560" y="3124080"/>
            <a:ext cx="2352600" cy="990720"/>
          </a:xfrm>
          <a:custGeom>
            <a:avLst/>
            <a:gdLst/>
            <a:ahLst/>
            <a:rect l="l" t="t" r="r" b="b"/>
            <a:pathLst>
              <a:path w="1482" h="624">
                <a:moveTo>
                  <a:pt x="1482" y="624"/>
                </a:moveTo>
                <a:cubicBezTo>
                  <a:pt x="1393" y="580"/>
                  <a:pt x="1116" y="438"/>
                  <a:pt x="948" y="360"/>
                </a:cubicBezTo>
                <a:cubicBezTo>
                  <a:pt x="780" y="282"/>
                  <a:pt x="632" y="216"/>
                  <a:pt x="474" y="156"/>
                </a:cubicBezTo>
                <a:cubicBezTo>
                  <a:pt x="316" y="96"/>
                  <a:pt x="99" y="32"/>
                  <a:pt x="0" y="0"/>
                </a:cubicBezTo>
              </a:path>
            </a:pathLst>
          </a:custGeom>
          <a:noFill/>
          <a:ln w="28440">
            <a:solidFill>
              <a:srgbClr val="be4834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4551120" y="3082680"/>
            <a:ext cx="934920" cy="936360"/>
          </a:xfrm>
          <a:prstGeom prst="line">
            <a:avLst/>
          </a:prstGeom>
          <a:ln w="28440">
            <a:solidFill>
              <a:srgbClr val="50cc82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78400" y="3301920"/>
            <a:ext cx="57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c9a7"/>
                </a:solidFill>
                <a:latin typeface="Arial"/>
              </a:rPr>
              <a:t>(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5724360" y="3109680"/>
            <a:ext cx="216000" cy="865080"/>
          </a:xfrm>
          <a:prstGeom prst="line">
            <a:avLst/>
          </a:prstGeom>
          <a:ln w="28440">
            <a:solidFill>
              <a:srgbClr val="66b6be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5940360" y="3058920"/>
            <a:ext cx="287280" cy="1439640"/>
          </a:xfrm>
          <a:prstGeom prst="line">
            <a:avLst/>
          </a:prstGeom>
          <a:ln w="28440">
            <a:solidFill>
              <a:srgbClr val="66b6be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076720" y="5589720"/>
            <a:ext cx="2880000" cy="503280"/>
          </a:xfrm>
          <a:custGeom>
            <a:avLst/>
            <a:gdLst/>
            <a:ahLst/>
            <a:rect l="l" t="t" r="r" b="b"/>
            <a:pathLst>
              <a:path w="1814" h="317">
                <a:moveTo>
                  <a:pt x="0" y="317"/>
                </a:moveTo>
                <a:lnTo>
                  <a:pt x="226" y="0"/>
                </a:lnTo>
                <a:lnTo>
                  <a:pt x="1587" y="0"/>
                </a:lnTo>
                <a:lnTo>
                  <a:pt x="1814" y="317"/>
                </a:lnTo>
                <a:lnTo>
                  <a:pt x="0" y="317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435640" y="5589720"/>
            <a:ext cx="2160720" cy="503280"/>
          </a:xfrm>
          <a:custGeom>
            <a:avLst/>
            <a:gdLst/>
            <a:ahLst/>
            <a:rect l="l" t="t" r="r" b="b"/>
            <a:pathLst>
              <a:path w="1361" h="317">
                <a:moveTo>
                  <a:pt x="0" y="0"/>
                </a:moveTo>
                <a:lnTo>
                  <a:pt x="227" y="317"/>
                </a:lnTo>
                <a:lnTo>
                  <a:pt x="454" y="0"/>
                </a:lnTo>
                <a:lnTo>
                  <a:pt x="681" y="317"/>
                </a:lnTo>
                <a:lnTo>
                  <a:pt x="908" y="0"/>
                </a:lnTo>
                <a:lnTo>
                  <a:pt x="1134" y="317"/>
                </a:lnTo>
                <a:lnTo>
                  <a:pt x="1361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067360" y="611172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956720" y="609300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932360" y="6093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835760" y="6308640"/>
            <a:ext cx="252720" cy="730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839000" y="630864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926480" y="6269040"/>
            <a:ext cx="712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946760" y="6289560"/>
            <a:ext cx="252360" cy="730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950000" y="628956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037120" y="6249960"/>
            <a:ext cx="7128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5400000">
            <a:off x="4707360" y="6045840"/>
            <a:ext cx="287280" cy="730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883040" y="5938920"/>
            <a:ext cx="0" cy="288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849920" y="6054840"/>
            <a:ext cx="712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037120" y="6059520"/>
            <a:ext cx="712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402160" y="5564160"/>
            <a:ext cx="7164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918560" y="6054840"/>
            <a:ext cx="712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562880" y="5551560"/>
            <a:ext cx="712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481800" y="6054840"/>
            <a:ext cx="712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202520" y="6054840"/>
            <a:ext cx="712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18200" y="555156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843600" y="5560920"/>
            <a:ext cx="7164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757840" y="6049800"/>
            <a:ext cx="7164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53080" y="3076560"/>
            <a:ext cx="1047960" cy="2505240"/>
          </a:xfrm>
          <a:custGeom>
            <a:avLst/>
            <a:gdLst/>
            <a:ahLst/>
            <a:rect l="l" t="t" r="r" b="b"/>
            <a:pathLst>
              <a:path w="660" h="1578">
                <a:moveTo>
                  <a:pt x="270" y="1578"/>
                </a:moveTo>
                <a:cubicBezTo>
                  <a:pt x="315" y="1525"/>
                  <a:pt x="478" y="1392"/>
                  <a:pt x="540" y="1260"/>
                </a:cubicBezTo>
                <a:cubicBezTo>
                  <a:pt x="602" y="1128"/>
                  <a:pt x="660" y="945"/>
                  <a:pt x="642" y="786"/>
                </a:cubicBezTo>
                <a:cubicBezTo>
                  <a:pt x="624" y="627"/>
                  <a:pt x="539" y="437"/>
                  <a:pt x="432" y="306"/>
                </a:cubicBezTo>
                <a:cubicBezTo>
                  <a:pt x="325" y="175"/>
                  <a:pt x="90" y="64"/>
                  <a:pt x="0" y="0"/>
                </a:cubicBezTo>
              </a:path>
            </a:pathLst>
          </a:custGeom>
          <a:noFill/>
          <a:ln w="28440">
            <a:solidFill>
              <a:srgbClr val="66b6b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7811640" y="3068280"/>
            <a:ext cx="289080" cy="64764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524720" y="3716280"/>
            <a:ext cx="129708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cc33"/>
                </a:solidFill>
                <a:latin typeface="Arial Narrow"/>
              </a:rPr>
              <a:t>При налич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cc33"/>
                </a:solidFill>
                <a:latin typeface="Arial Narrow"/>
              </a:rPr>
              <a:t>  </a:t>
            </a:r>
            <a:r>
              <a:rPr b="1" lang="en-US" sz="1600" spc="-1" strike="noStrike">
                <a:solidFill>
                  <a:srgbClr val="33cc33"/>
                </a:solidFill>
                <a:latin typeface="Arial Narrow"/>
              </a:rPr>
              <a:t>упруг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cc33"/>
                </a:solidFill>
                <a:latin typeface="Arial Narrow"/>
              </a:rPr>
              <a:t>  </a:t>
            </a:r>
            <a:r>
              <a:rPr b="1" lang="en-US" sz="1600" spc="-1" strike="noStrike">
                <a:solidFill>
                  <a:srgbClr val="33cc33"/>
                </a:solidFill>
                <a:latin typeface="Arial Narrow"/>
              </a:rPr>
              <a:t>связ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516720" y="6124680"/>
            <a:ext cx="0" cy="1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391440" y="6302520"/>
            <a:ext cx="252360" cy="7272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394320" y="6302520"/>
            <a:ext cx="252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481800" y="6262560"/>
            <a:ext cx="7128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9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9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9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9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9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9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4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9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2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2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2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2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7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2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2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9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9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9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9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9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9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9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9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9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9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9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9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9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9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9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7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9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9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9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9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9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9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3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9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9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9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9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9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3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9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9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9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9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9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9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9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9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1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9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7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9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9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>
            <a:hlinkClick r:id="" action="ppaction://hlinkshowjump?jump=nextslide"/>
          </p:cNvPr>
          <p:cNvSpPr/>
          <p:nvPr/>
        </p:nvSpPr>
        <p:spPr>
          <a:xfrm>
            <a:off x="311040" y="333360"/>
            <a:ext cx="8498160" cy="5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 Black"/>
              </a:rPr>
              <a:t>ОСОБЕННОСТИ ВЫБОРА ОСНОВНОЙ СИСТЕМЫ М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 Black"/>
              </a:rPr>
              <a:t>для некоторых типов плоских СНС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46000" y="836640"/>
            <a:ext cx="302436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Многопролётные бал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357800" y="861840"/>
            <a:ext cx="338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арианты основной систе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843360" y="882720"/>
            <a:ext cx="576360" cy="216000"/>
          </a:xfrm>
          <a:prstGeom prst="rightArrow">
            <a:avLst>
              <a:gd name="adj1" fmla="val 50000"/>
              <a:gd name="adj2" fmla="val 6670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73440" y="1293840"/>
            <a:ext cx="1222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373800" y="1293840"/>
            <a:ext cx="1366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891040" y="1293840"/>
            <a:ext cx="35892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rot="5400000">
            <a:off x="4395960" y="1256400"/>
            <a:ext cx="287280" cy="73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0" y="1149480"/>
            <a:ext cx="0" cy="288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5008680" y="130464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580000" y="130608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7740720" y="129672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7112160" y="129348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6516720" y="130284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975200" y="1438200"/>
            <a:ext cx="388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541840" y="1438200"/>
            <a:ext cx="901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488280" y="1438200"/>
            <a:ext cx="747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711920" y="1438200"/>
            <a:ext cx="460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570560" y="2328840"/>
            <a:ext cx="1222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370560" y="2328840"/>
            <a:ext cx="1366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905440" y="233352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rot="5400000">
            <a:off x="4393440" y="2291760"/>
            <a:ext cx="287280" cy="72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2184480"/>
            <a:ext cx="0" cy="288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5005440" y="233964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971960" y="2440080"/>
            <a:ext cx="679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80240" y="1882800"/>
            <a:ext cx="460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568760" y="1801800"/>
            <a:ext cx="3171960" cy="525600"/>
          </a:xfrm>
          <a:custGeom>
            <a:avLst/>
            <a:gdLst/>
            <a:ahLst/>
            <a:rect l="l" t="t" r="r" b="b"/>
            <a:pathLst>
              <a:path w="1998" h="331">
                <a:moveTo>
                  <a:pt x="0" y="331"/>
                </a:moveTo>
                <a:cubicBezTo>
                  <a:pt x="8" y="331"/>
                  <a:pt x="31" y="330"/>
                  <a:pt x="48" y="329"/>
                </a:cubicBezTo>
                <a:cubicBezTo>
                  <a:pt x="65" y="328"/>
                  <a:pt x="85" y="328"/>
                  <a:pt x="104" y="327"/>
                </a:cubicBezTo>
                <a:cubicBezTo>
                  <a:pt x="123" y="326"/>
                  <a:pt x="135" y="325"/>
                  <a:pt x="164" y="321"/>
                </a:cubicBezTo>
                <a:cubicBezTo>
                  <a:pt x="193" y="317"/>
                  <a:pt x="124" y="331"/>
                  <a:pt x="276" y="305"/>
                </a:cubicBezTo>
                <a:cubicBezTo>
                  <a:pt x="428" y="279"/>
                  <a:pt x="789" y="214"/>
                  <a:pt x="1076" y="163"/>
                </a:cubicBezTo>
                <a:cubicBezTo>
                  <a:pt x="1363" y="112"/>
                  <a:pt x="1806" y="34"/>
                  <a:pt x="1998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740720" y="18018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112160" y="19033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516720" y="2009880"/>
            <a:ext cx="0" cy="32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580000" y="21812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003640" y="2290680"/>
            <a:ext cx="0" cy="36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72080" y="1989000"/>
            <a:ext cx="460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383080" y="1830240"/>
            <a:ext cx="460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797360" y="1927080"/>
            <a:ext cx="460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573440" y="3068640"/>
            <a:ext cx="1222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373800" y="3068640"/>
            <a:ext cx="1366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891040" y="3068640"/>
            <a:ext cx="35892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5008680" y="307944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5580000" y="308088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7112160" y="306828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6516720" y="307764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462560" y="2617920"/>
            <a:ext cx="388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978440" y="3213000"/>
            <a:ext cx="901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488280" y="3213000"/>
            <a:ext cx="747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083360" y="3213000"/>
            <a:ext cx="460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570560" y="4186080"/>
            <a:ext cx="1222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370560" y="4186080"/>
            <a:ext cx="1366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905440" y="419112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5005440" y="419688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971960" y="4330800"/>
            <a:ext cx="679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061040" y="3846600"/>
            <a:ext cx="460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581360" y="3567240"/>
            <a:ext cx="3140280" cy="610920"/>
          </a:xfrm>
          <a:custGeom>
            <a:avLst/>
            <a:gdLst/>
            <a:ahLst/>
            <a:rect l="l" t="t" r="r" b="b"/>
            <a:pathLst>
              <a:path w="1978" h="385">
                <a:moveTo>
                  <a:pt x="0" y="385"/>
                </a:moveTo>
                <a:cubicBezTo>
                  <a:pt x="23" y="361"/>
                  <a:pt x="86" y="283"/>
                  <a:pt x="138" y="239"/>
                </a:cubicBezTo>
                <a:cubicBezTo>
                  <a:pt x="190" y="195"/>
                  <a:pt x="244" y="154"/>
                  <a:pt x="314" y="119"/>
                </a:cubicBezTo>
                <a:cubicBezTo>
                  <a:pt x="384" y="84"/>
                  <a:pt x="464" y="50"/>
                  <a:pt x="558" y="31"/>
                </a:cubicBezTo>
                <a:cubicBezTo>
                  <a:pt x="652" y="12"/>
                  <a:pt x="761" y="0"/>
                  <a:pt x="878" y="3"/>
                </a:cubicBezTo>
                <a:cubicBezTo>
                  <a:pt x="995" y="6"/>
                  <a:pt x="1130" y="21"/>
                  <a:pt x="1258" y="51"/>
                </a:cubicBezTo>
                <a:cubicBezTo>
                  <a:pt x="1386" y="81"/>
                  <a:pt x="1526" y="130"/>
                  <a:pt x="1646" y="183"/>
                </a:cubicBezTo>
                <a:cubicBezTo>
                  <a:pt x="1766" y="236"/>
                  <a:pt x="1909" y="329"/>
                  <a:pt x="1978" y="36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516720" y="36655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003640" y="37828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112160" y="3827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465960" y="3747960"/>
            <a:ext cx="460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527800" y="3714840"/>
            <a:ext cx="460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962600" y="3809880"/>
            <a:ext cx="460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581360" y="3087720"/>
            <a:ext cx="0" cy="14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427640" y="3068640"/>
            <a:ext cx="14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460760" y="3265560"/>
            <a:ext cx="252360" cy="73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464000" y="326556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551480" y="3225960"/>
            <a:ext cx="712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5400000">
            <a:off x="4221360" y="3021480"/>
            <a:ext cx="287280" cy="73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397400" y="291456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363920" y="3030480"/>
            <a:ext cx="7164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51480" y="3035160"/>
            <a:ext cx="7128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740720" y="30733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620120" y="3289320"/>
            <a:ext cx="252360" cy="730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623000" y="3289320"/>
            <a:ext cx="252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710480" y="3249720"/>
            <a:ext cx="712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702560" y="3035160"/>
            <a:ext cx="7128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 flipV="1" rot="8437800">
            <a:off x="4394160" y="2919240"/>
            <a:ext cx="358200" cy="326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080" y="76"/>
                </a:moveTo>
                <a:arcTo wR="10800" hR="10800" stAng="-4991495" swAng="9945654"/>
                <a:lnTo>
                  <a:pt x="10800" y="10800"/>
                </a:lnTo>
                <a:close/>
              </a:path>
              <a:path fill="none" w="21600" h="21600">
                <a:moveTo>
                  <a:pt x="12080" y="76"/>
                </a:moveTo>
                <a:arcTo wR="10800" hR="10800" stAng="-4991495" swAng="9945654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578480" y="4200480"/>
            <a:ext cx="0" cy="14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424400" y="4181400"/>
            <a:ext cx="14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457880" y="4378320"/>
            <a:ext cx="252360" cy="730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460760" y="437832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548240" y="4338720"/>
            <a:ext cx="712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rot="5400000">
            <a:off x="4218120" y="4134600"/>
            <a:ext cx="287640" cy="730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394160" y="402732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361040" y="4143240"/>
            <a:ext cx="7128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548240" y="4148280"/>
            <a:ext cx="712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750080" y="418140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629480" y="4397400"/>
            <a:ext cx="252360" cy="730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632720" y="439740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719840" y="435780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711920" y="4143240"/>
            <a:ext cx="7164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580000" y="3613320"/>
            <a:ext cx="0" cy="57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481800" y="2368440"/>
            <a:ext cx="1755720" cy="405720"/>
          </a:xfrm>
          <a:prstGeom prst="rect">
            <a:avLst/>
          </a:prstGeom>
          <a:solidFill>
            <a:srgbClr val="e7f4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1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 &gt;&gt; </a:t>
            </a:r>
            <a:r>
              <a:rPr b="1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462720" y="4221000"/>
            <a:ext cx="898560" cy="405720"/>
          </a:xfrm>
          <a:prstGeom prst="rect">
            <a:avLst/>
          </a:prstGeom>
          <a:solidFill>
            <a:srgbClr val="e7f4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928800" y="1295280"/>
            <a:ext cx="1222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28800" y="1295280"/>
            <a:ext cx="1366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246400" y="1295280"/>
            <a:ext cx="35856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748080" y="1248480"/>
            <a:ext cx="287280" cy="730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923760" y="1141560"/>
            <a:ext cx="0" cy="288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095720" y="130032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975120" y="1515960"/>
            <a:ext cx="252360" cy="730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978360" y="151596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065480" y="147636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057560" y="126216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928800" y="2309760"/>
            <a:ext cx="1222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728800" y="2309760"/>
            <a:ext cx="1366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246400" y="2309760"/>
            <a:ext cx="35856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144440" y="1844640"/>
            <a:ext cx="901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622600" y="1844640"/>
            <a:ext cx="747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238560" y="1844640"/>
            <a:ext cx="460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941400" y="2343240"/>
            <a:ext cx="0" cy="14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82640" y="2309760"/>
            <a:ext cx="14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816120" y="2525760"/>
            <a:ext cx="252360" cy="730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819000" y="2525760"/>
            <a:ext cx="252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906480" y="2486160"/>
            <a:ext cx="712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rot="5400000">
            <a:off x="576720" y="2262960"/>
            <a:ext cx="287640" cy="7272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752400" y="215568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19280" y="2271600"/>
            <a:ext cx="7128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906480" y="2276640"/>
            <a:ext cx="712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095720" y="23144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970440" y="2530440"/>
            <a:ext cx="252360" cy="7308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973680" y="253044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060800" y="249084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057560" y="227664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 rot="20817000">
            <a:off x="1087200" y="2174400"/>
            <a:ext cx="231480" cy="25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080" y="76"/>
                </a:moveTo>
                <a:arcTo wR="10800" hR="10800" stAng="-4991495" swAng="9945654"/>
                <a:lnTo>
                  <a:pt x="10800" y="10800"/>
                </a:lnTo>
                <a:close/>
              </a:path>
              <a:path fill="none" w="21600" h="21600">
                <a:moveTo>
                  <a:pt x="12080" y="76"/>
                </a:moveTo>
                <a:arcTo wR="10800" hR="10800" stAng="-4991495" swAng="9945654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459240" y="13510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338640" y="1528920"/>
            <a:ext cx="252360" cy="7272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341520" y="1528920"/>
            <a:ext cx="252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29000" y="1488960"/>
            <a:ext cx="7128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421080" y="1312920"/>
            <a:ext cx="712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59120" y="13510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738520" y="1528920"/>
            <a:ext cx="252360" cy="7272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741760" y="152892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828880" y="1488960"/>
            <a:ext cx="7164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820960" y="131292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932120" y="134928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811160" y="1527120"/>
            <a:ext cx="252720" cy="7308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814400" y="152712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901880" y="1487520"/>
            <a:ext cx="712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893960" y="1311120"/>
            <a:ext cx="7128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360440" y="13510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239840" y="1528920"/>
            <a:ext cx="252360" cy="7272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243080" y="152892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330200" y="1488960"/>
            <a:ext cx="7164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322280" y="131292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370160" y="23144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249200" y="2530440"/>
            <a:ext cx="252720" cy="7308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252440" y="253044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339920" y="2490840"/>
            <a:ext cx="712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332000" y="2276640"/>
            <a:ext cx="712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925640" y="23144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805040" y="2530440"/>
            <a:ext cx="252360" cy="7308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808280" y="253044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895400" y="249084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887480" y="227664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852640" y="23144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732040" y="2530440"/>
            <a:ext cx="252360" cy="7308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735280" y="253044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822400" y="249084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814480" y="227664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459240" y="23144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338640" y="2530440"/>
            <a:ext cx="252360" cy="7308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341520" y="2530440"/>
            <a:ext cx="252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429000" y="2490840"/>
            <a:ext cx="712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421080" y="2276640"/>
            <a:ext cx="712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V="1" rot="20817000">
            <a:off x="1639800" y="2174400"/>
            <a:ext cx="231480" cy="25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080" y="76"/>
                </a:moveTo>
                <a:arcTo wR="10800" hR="10800" stAng="-4991495" swAng="9945654"/>
                <a:lnTo>
                  <a:pt x="10800" y="10800"/>
                </a:lnTo>
                <a:close/>
              </a:path>
              <a:path fill="none" w="21600" h="21600">
                <a:moveTo>
                  <a:pt x="12080" y="76"/>
                </a:moveTo>
                <a:arcTo wR="10800" hR="10800" stAng="-4991495" swAng="9945654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V="1" rot="20817000">
            <a:off x="2565360" y="2174400"/>
            <a:ext cx="231480" cy="25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080" y="76"/>
                </a:moveTo>
                <a:arcTo wR="10800" hR="10800" stAng="-4991495" swAng="9945654"/>
                <a:lnTo>
                  <a:pt x="10800" y="10800"/>
                </a:lnTo>
                <a:close/>
              </a:path>
              <a:path fill="none" w="21600" h="21600">
                <a:moveTo>
                  <a:pt x="12080" y="76"/>
                </a:moveTo>
                <a:arcTo wR="10800" hR="10800" stAng="-4991495" swAng="9945654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V="1" rot="20817000">
            <a:off x="3165120" y="2185560"/>
            <a:ext cx="231480" cy="25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080" y="76"/>
                </a:moveTo>
                <a:arcTo wR="10800" hR="10800" stAng="-4991495" swAng="9945654"/>
                <a:lnTo>
                  <a:pt x="10800" y="10800"/>
                </a:lnTo>
                <a:close/>
              </a:path>
              <a:path fill="none" w="21600" h="21600">
                <a:moveTo>
                  <a:pt x="12080" y="76"/>
                </a:moveTo>
                <a:arcTo wR="10800" hR="10800" stAng="-4991495" swAng="9945654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H="1" flipV="1" rot="844200">
            <a:off x="1419120" y="2175840"/>
            <a:ext cx="243720" cy="253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080" y="76"/>
                </a:moveTo>
                <a:arcTo wR="10800" hR="10800" stAng="-4991495" swAng="9945654"/>
                <a:lnTo>
                  <a:pt x="10800" y="10800"/>
                </a:lnTo>
                <a:close/>
              </a:path>
              <a:path fill="none" w="21600" h="21600">
                <a:moveTo>
                  <a:pt x="12080" y="76"/>
                </a:moveTo>
                <a:arcTo wR="10800" hR="10800" stAng="-4991495" swAng="9945654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H="1" flipV="1" rot="844200">
            <a:off x="1976400" y="2175840"/>
            <a:ext cx="243720" cy="253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080" y="76"/>
                </a:moveTo>
                <a:arcTo wR="10800" hR="10800" stAng="-4991495" swAng="9945654"/>
                <a:lnTo>
                  <a:pt x="10800" y="10800"/>
                </a:lnTo>
                <a:close/>
              </a:path>
              <a:path fill="none" w="21600" h="21600">
                <a:moveTo>
                  <a:pt x="12080" y="76"/>
                </a:moveTo>
                <a:arcTo wR="10800" hR="10800" stAng="-4991495" swAng="9945654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H="1" flipV="1" rot="844200">
            <a:off x="2905560" y="2176560"/>
            <a:ext cx="243720" cy="25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080" y="76"/>
                </a:moveTo>
                <a:arcTo wR="10800" hR="10800" stAng="-4991495" swAng="9945654"/>
                <a:lnTo>
                  <a:pt x="10800" y="10800"/>
                </a:lnTo>
                <a:close/>
              </a:path>
              <a:path fill="none" w="21600" h="21600">
                <a:moveTo>
                  <a:pt x="12080" y="76"/>
                </a:moveTo>
                <a:arcTo wR="10800" hR="10800" stAng="-4991495" swAng="9945654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H="1" flipV="1" rot="844200">
            <a:off x="3511440" y="2183760"/>
            <a:ext cx="243720" cy="253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080" y="76"/>
                </a:moveTo>
                <a:arcTo wR="10800" hR="10800" stAng="-4991495" swAng="9945654"/>
                <a:lnTo>
                  <a:pt x="10800" y="10800"/>
                </a:lnTo>
                <a:close/>
              </a:path>
              <a:path fill="none" w="21600" h="21600">
                <a:moveTo>
                  <a:pt x="12080" y="76"/>
                </a:moveTo>
                <a:arcTo wR="10800" hR="10800" stAng="-4991495" swAng="9945654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H="1" flipV="1" rot="844200">
            <a:off x="993600" y="2175840"/>
            <a:ext cx="243720" cy="253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080" y="76"/>
                </a:moveTo>
                <a:arcTo wR="10800" hR="10800" stAng="-4991495" swAng="9945654"/>
                <a:lnTo>
                  <a:pt x="10800" y="10800"/>
                </a:lnTo>
                <a:close/>
              </a:path>
              <a:path fill="none" w="21600" h="21600">
                <a:moveTo>
                  <a:pt x="12080" y="76"/>
                </a:moveTo>
                <a:arcTo wR="10800" hR="10800" stAng="-4991495" swAng="9945654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741240" y="1844640"/>
            <a:ext cx="460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900000" y="1665360"/>
            <a:ext cx="316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ациональная ОСМ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374840" y="2682720"/>
            <a:ext cx="958680" cy="149400"/>
          </a:xfrm>
          <a:custGeom>
            <a:avLst/>
            <a:gdLst/>
            <a:ahLst/>
            <a:rect l="l" t="t" r="r" b="b"/>
            <a:pathLst>
              <a:path w="604" h="94">
                <a:moveTo>
                  <a:pt x="0" y="0"/>
                </a:moveTo>
                <a:lnTo>
                  <a:pt x="352" y="94"/>
                </a:lnTo>
                <a:lnTo>
                  <a:pt x="604" y="4"/>
                </a:lnTo>
              </a:path>
            </a:pathLst>
          </a:custGeom>
          <a:blipFill rotWithShape="0">
            <a:blip r:embed="rId22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928800" y="2682720"/>
            <a:ext cx="3166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933560" y="3016080"/>
            <a:ext cx="911160" cy="136800"/>
          </a:xfrm>
          <a:custGeom>
            <a:avLst/>
            <a:gdLst/>
            <a:ahLst/>
            <a:rect l="l" t="t" r="r" b="b"/>
            <a:pathLst>
              <a:path w="574" h="86">
                <a:moveTo>
                  <a:pt x="0" y="2"/>
                </a:moveTo>
                <a:lnTo>
                  <a:pt x="258" y="86"/>
                </a:lnTo>
                <a:lnTo>
                  <a:pt x="574" y="0"/>
                </a:lnTo>
              </a:path>
            </a:pathLst>
          </a:custGeom>
          <a:blipFill rotWithShape="0">
            <a:blip r:embed="rId23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928800" y="3016080"/>
            <a:ext cx="3166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49360" y="3351240"/>
            <a:ext cx="1152720" cy="144360"/>
          </a:xfrm>
          <a:custGeom>
            <a:avLst/>
            <a:gdLst/>
            <a:ahLst/>
            <a:rect l="l" t="t" r="r" b="b"/>
            <a:pathLst>
              <a:path w="726" h="91">
                <a:moveTo>
                  <a:pt x="0" y="0"/>
                </a:moveTo>
                <a:lnTo>
                  <a:pt x="317" y="91"/>
                </a:lnTo>
                <a:lnTo>
                  <a:pt x="726" y="0"/>
                </a:lnTo>
              </a:path>
            </a:pathLst>
          </a:custGeom>
          <a:blipFill rotWithShape="0">
            <a:blip r:embed="rId24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938160" y="3351240"/>
            <a:ext cx="316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927080" y="2684520"/>
            <a:ext cx="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343240" y="3011400"/>
            <a:ext cx="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852640" y="3351240"/>
            <a:ext cx="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790640" y="2765520"/>
            <a:ext cx="30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725560" y="3430440"/>
            <a:ext cx="30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209680" y="3087720"/>
            <a:ext cx="30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80880" y="2859120"/>
            <a:ext cx="519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8440" y="2505240"/>
            <a:ext cx="576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ru-RU" sz="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ru-RU" sz="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ru-RU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17520" y="3193920"/>
            <a:ext cx="590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i+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14280" y="3232080"/>
            <a:ext cx="561960" cy="324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11040" y="2884320"/>
            <a:ext cx="561960" cy="324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11040" y="2536920"/>
            <a:ext cx="561960" cy="323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365720" y="13986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356000" y="32749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6" name=""/>
              <p:cNvSpPr txBox="1"/>
              <p:nvPr/>
            </p:nvSpPr>
            <p:spPr>
              <a:xfrm>
                <a:off x="1028880" y="3516480"/>
                <a:ext cx="2676240" cy="11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/>
                            <m:e/>
                            <m:e/>
                            <m:e/>
                            <m:e/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  <m:e/>
                            <m:e/>
                            <m:e/>
                            <m:e/>
                          </m:mr>
                          <m:mr>
                            <m:e/>
                            <m:e>
                              <m:sSub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4</m:t>
                                  </m:r>
                                </m:sub>
                              </m:sSub>
                            </m:e>
                            <m:e/>
                            <m:e/>
                            <m:e/>
                          </m:mr>
                          <m:mr>
                            <m:e/>
                            <m:e/>
                            <m:e/>
                            <m:e/>
                            <m:e/>
                            <m:e/>
                            <m:e/>
                          </m:mr>
                          <m:mr>
                            <m:e/>
                            <m:e/>
                            <m:e>
                              <m:sSub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,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i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,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/>
                            <m:e/>
                          </m:mr>
                          <m:mr>
                            <m:e/>
                            <m:e/>
                            <m:e/>
                            <m:e/>
                            <m:e/>
                            <m:e/>
                            <m:e/>
                          </m:mr>
                          <m:mr>
                            <m:e/>
                            <m:e/>
                            <m:e/>
                            <m:e/>
                            <m:e/>
                            <m:e>
                              <m:sSub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,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07" name=""/>
          <p:cNvSpPr/>
          <p:nvPr/>
        </p:nvSpPr>
        <p:spPr>
          <a:xfrm>
            <a:off x="2936880" y="3645000"/>
            <a:ext cx="30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573200" y="4424400"/>
            <a:ext cx="30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258920" y="418140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. . . . . . . . . . . . . . 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246320" y="387504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. . . . . . . . . . . . . . 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50920" y="4708440"/>
            <a:ext cx="410508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Статически неопределимые ар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427640" y="4714920"/>
            <a:ext cx="432108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Статически неопределимые фер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14360" y="5153040"/>
            <a:ext cx="1728720" cy="291960"/>
          </a:xfrm>
          <a:custGeom>
            <a:avLst/>
            <a:gdLst/>
            <a:ahLst/>
            <a:rect l="l" t="t" r="r" b="b"/>
            <a:pathLst>
              <a:path w="1394" h="277">
                <a:moveTo>
                  <a:pt x="0" y="277"/>
                </a:moveTo>
                <a:cubicBezTo>
                  <a:pt x="35" y="252"/>
                  <a:pt x="137" y="167"/>
                  <a:pt x="212" y="126"/>
                </a:cubicBezTo>
                <a:cubicBezTo>
                  <a:pt x="287" y="85"/>
                  <a:pt x="372" y="51"/>
                  <a:pt x="452" y="30"/>
                </a:cubicBezTo>
                <a:cubicBezTo>
                  <a:pt x="532" y="9"/>
                  <a:pt x="614" y="0"/>
                  <a:pt x="692" y="0"/>
                </a:cubicBezTo>
                <a:cubicBezTo>
                  <a:pt x="770" y="0"/>
                  <a:pt x="842" y="11"/>
                  <a:pt x="922" y="32"/>
                </a:cubicBezTo>
                <a:cubicBezTo>
                  <a:pt x="1002" y="53"/>
                  <a:pt x="1095" y="85"/>
                  <a:pt x="1174" y="124"/>
                </a:cubicBezTo>
                <a:cubicBezTo>
                  <a:pt x="1253" y="163"/>
                  <a:pt x="1348" y="235"/>
                  <a:pt x="1394" y="26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482920" y="5129280"/>
            <a:ext cx="1728720" cy="291960"/>
          </a:xfrm>
          <a:custGeom>
            <a:avLst/>
            <a:gdLst/>
            <a:ahLst/>
            <a:rect l="l" t="t" r="r" b="b"/>
            <a:pathLst>
              <a:path w="1394" h="277">
                <a:moveTo>
                  <a:pt x="0" y="277"/>
                </a:moveTo>
                <a:cubicBezTo>
                  <a:pt x="35" y="252"/>
                  <a:pt x="137" y="167"/>
                  <a:pt x="212" y="126"/>
                </a:cubicBezTo>
                <a:cubicBezTo>
                  <a:pt x="287" y="85"/>
                  <a:pt x="372" y="51"/>
                  <a:pt x="452" y="30"/>
                </a:cubicBezTo>
                <a:cubicBezTo>
                  <a:pt x="532" y="9"/>
                  <a:pt x="614" y="0"/>
                  <a:pt x="692" y="0"/>
                </a:cubicBezTo>
                <a:cubicBezTo>
                  <a:pt x="770" y="0"/>
                  <a:pt x="842" y="11"/>
                  <a:pt x="922" y="32"/>
                </a:cubicBezTo>
                <a:cubicBezTo>
                  <a:pt x="1002" y="53"/>
                  <a:pt x="1095" y="85"/>
                  <a:pt x="1174" y="124"/>
                </a:cubicBezTo>
                <a:cubicBezTo>
                  <a:pt x="1253" y="163"/>
                  <a:pt x="1348" y="235"/>
                  <a:pt x="1394" y="26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482920" y="5435640"/>
            <a:ext cx="172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495520" y="5425920"/>
            <a:ext cx="0" cy="14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378160" y="5430960"/>
            <a:ext cx="14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389320" y="5575320"/>
            <a:ext cx="215640" cy="7308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392200" y="557532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465280" y="553572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rot="5400000">
            <a:off x="2218680" y="5391000"/>
            <a:ext cx="216000" cy="7308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359080" y="531972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325600" y="539748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465280" y="539280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32160" y="5430960"/>
            <a:ext cx="0" cy="14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121280" y="5580000"/>
            <a:ext cx="215640" cy="7308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197240" y="539748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121280" y="557532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197240" y="554040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rot="3336600">
            <a:off x="280440" y="5430600"/>
            <a:ext cx="216000" cy="7308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H="1" flipV="1">
            <a:off x="351000" y="5357880"/>
            <a:ext cx="125280" cy="17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rot="7393800">
            <a:off x="2047320" y="5411160"/>
            <a:ext cx="216000" cy="7308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2066040" y="5347800"/>
            <a:ext cx="119160" cy="163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rot="3336600">
            <a:off x="612720" y="5589000"/>
            <a:ext cx="179640" cy="53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flipH="1" flipV="1">
            <a:off x="674280" y="5527440"/>
            <a:ext cx="9684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719280" y="5468760"/>
            <a:ext cx="880920" cy="130320"/>
          </a:xfrm>
          <a:custGeom>
            <a:avLst/>
            <a:gdLst/>
            <a:ahLst/>
            <a:rect l="l" t="t" r="r" b="b"/>
            <a:pathLst>
              <a:path w="1394" h="277">
                <a:moveTo>
                  <a:pt x="0" y="277"/>
                </a:moveTo>
                <a:cubicBezTo>
                  <a:pt x="35" y="252"/>
                  <a:pt x="137" y="167"/>
                  <a:pt x="212" y="126"/>
                </a:cubicBezTo>
                <a:cubicBezTo>
                  <a:pt x="287" y="85"/>
                  <a:pt x="372" y="51"/>
                  <a:pt x="452" y="30"/>
                </a:cubicBezTo>
                <a:cubicBezTo>
                  <a:pt x="532" y="9"/>
                  <a:pt x="614" y="0"/>
                  <a:pt x="692" y="0"/>
                </a:cubicBezTo>
                <a:cubicBezTo>
                  <a:pt x="770" y="0"/>
                  <a:pt x="842" y="11"/>
                  <a:pt x="922" y="32"/>
                </a:cubicBezTo>
                <a:cubicBezTo>
                  <a:pt x="1002" y="53"/>
                  <a:pt x="1095" y="85"/>
                  <a:pt x="1174" y="124"/>
                </a:cubicBezTo>
                <a:cubicBezTo>
                  <a:pt x="1253" y="163"/>
                  <a:pt x="1348" y="235"/>
                  <a:pt x="1394" y="26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69800" y="6026040"/>
            <a:ext cx="0" cy="14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52440" y="6031080"/>
            <a:ext cx="14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96720" y="6175440"/>
            <a:ext cx="144720" cy="4284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95280" y="6175440"/>
            <a:ext cx="14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39560" y="6135840"/>
            <a:ext cx="54000" cy="54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rot="5400000">
            <a:off x="242280" y="6006960"/>
            <a:ext cx="144720" cy="428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38040" y="5956200"/>
            <a:ext cx="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68360" y="5902200"/>
            <a:ext cx="880920" cy="130320"/>
          </a:xfrm>
          <a:custGeom>
            <a:avLst/>
            <a:gdLst/>
            <a:ahLst/>
            <a:rect l="l" t="t" r="r" b="b"/>
            <a:pathLst>
              <a:path w="1394" h="277">
                <a:moveTo>
                  <a:pt x="0" y="277"/>
                </a:moveTo>
                <a:cubicBezTo>
                  <a:pt x="35" y="252"/>
                  <a:pt x="137" y="167"/>
                  <a:pt x="212" y="126"/>
                </a:cubicBezTo>
                <a:cubicBezTo>
                  <a:pt x="287" y="85"/>
                  <a:pt x="372" y="51"/>
                  <a:pt x="452" y="30"/>
                </a:cubicBezTo>
                <a:cubicBezTo>
                  <a:pt x="532" y="9"/>
                  <a:pt x="614" y="0"/>
                  <a:pt x="692" y="0"/>
                </a:cubicBezTo>
                <a:cubicBezTo>
                  <a:pt x="770" y="0"/>
                  <a:pt x="842" y="11"/>
                  <a:pt x="922" y="32"/>
                </a:cubicBezTo>
                <a:cubicBezTo>
                  <a:pt x="1002" y="53"/>
                  <a:pt x="1095" y="85"/>
                  <a:pt x="1174" y="124"/>
                </a:cubicBezTo>
                <a:cubicBezTo>
                  <a:pt x="1253" y="163"/>
                  <a:pt x="1348" y="235"/>
                  <a:pt x="1394" y="26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09600" y="5999040"/>
            <a:ext cx="54000" cy="54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42800" y="6004080"/>
            <a:ext cx="54000" cy="54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336680" y="6026040"/>
            <a:ext cx="0" cy="14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263600" y="6175440"/>
            <a:ext cx="144360" cy="428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262160" y="6175440"/>
            <a:ext cx="14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306440" y="6135840"/>
            <a:ext cx="54000" cy="54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309680" y="6004080"/>
            <a:ext cx="54000" cy="54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252440" y="6313320"/>
            <a:ext cx="881280" cy="144720"/>
          </a:xfrm>
          <a:custGeom>
            <a:avLst/>
            <a:gdLst/>
            <a:ahLst/>
            <a:rect l="l" t="t" r="r" b="b"/>
            <a:pathLst>
              <a:path w="1394" h="277">
                <a:moveTo>
                  <a:pt x="0" y="277"/>
                </a:moveTo>
                <a:cubicBezTo>
                  <a:pt x="35" y="252"/>
                  <a:pt x="137" y="167"/>
                  <a:pt x="212" y="126"/>
                </a:cubicBezTo>
                <a:cubicBezTo>
                  <a:pt x="287" y="85"/>
                  <a:pt x="372" y="51"/>
                  <a:pt x="452" y="30"/>
                </a:cubicBezTo>
                <a:cubicBezTo>
                  <a:pt x="532" y="9"/>
                  <a:pt x="614" y="0"/>
                  <a:pt x="692" y="0"/>
                </a:cubicBezTo>
                <a:cubicBezTo>
                  <a:pt x="770" y="0"/>
                  <a:pt x="842" y="11"/>
                  <a:pt x="922" y="32"/>
                </a:cubicBezTo>
                <a:cubicBezTo>
                  <a:pt x="1002" y="53"/>
                  <a:pt x="1095" y="85"/>
                  <a:pt x="1174" y="124"/>
                </a:cubicBezTo>
                <a:cubicBezTo>
                  <a:pt x="1253" y="163"/>
                  <a:pt x="1348" y="235"/>
                  <a:pt x="1394" y="26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84400" y="6477120"/>
            <a:ext cx="144360" cy="4284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182600" y="6477120"/>
            <a:ext cx="14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227240" y="6437160"/>
            <a:ext cx="54000" cy="54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079720" y="6478560"/>
            <a:ext cx="144360" cy="4284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077920" y="6478560"/>
            <a:ext cx="14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122560" y="6438960"/>
            <a:ext cx="54000" cy="54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671480" y="6284880"/>
            <a:ext cx="54000" cy="54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554200" y="5862600"/>
            <a:ext cx="0" cy="14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436840" y="5867280"/>
            <a:ext cx="14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481120" y="6012000"/>
            <a:ext cx="144720" cy="428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479680" y="6012000"/>
            <a:ext cx="14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523960" y="5972040"/>
            <a:ext cx="54000" cy="54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rot="5400000">
            <a:off x="2327040" y="5843520"/>
            <a:ext cx="144360" cy="4284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422440" y="5792760"/>
            <a:ext cx="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552760" y="5738760"/>
            <a:ext cx="880920" cy="130320"/>
          </a:xfrm>
          <a:custGeom>
            <a:avLst/>
            <a:gdLst/>
            <a:ahLst/>
            <a:rect l="l" t="t" r="r" b="b"/>
            <a:pathLst>
              <a:path w="1394" h="277">
                <a:moveTo>
                  <a:pt x="0" y="277"/>
                </a:moveTo>
                <a:cubicBezTo>
                  <a:pt x="35" y="252"/>
                  <a:pt x="137" y="167"/>
                  <a:pt x="212" y="126"/>
                </a:cubicBezTo>
                <a:cubicBezTo>
                  <a:pt x="287" y="85"/>
                  <a:pt x="372" y="51"/>
                  <a:pt x="452" y="30"/>
                </a:cubicBezTo>
                <a:cubicBezTo>
                  <a:pt x="532" y="9"/>
                  <a:pt x="614" y="0"/>
                  <a:pt x="692" y="0"/>
                </a:cubicBezTo>
                <a:cubicBezTo>
                  <a:pt x="770" y="0"/>
                  <a:pt x="842" y="11"/>
                  <a:pt x="922" y="32"/>
                </a:cubicBezTo>
                <a:cubicBezTo>
                  <a:pt x="1002" y="53"/>
                  <a:pt x="1095" y="85"/>
                  <a:pt x="1174" y="124"/>
                </a:cubicBezTo>
                <a:cubicBezTo>
                  <a:pt x="1253" y="163"/>
                  <a:pt x="1348" y="235"/>
                  <a:pt x="1394" y="26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394000" y="5835600"/>
            <a:ext cx="54000" cy="54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27200" y="5840280"/>
            <a:ext cx="54000" cy="54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421080" y="5862600"/>
            <a:ext cx="0" cy="14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348000" y="6012000"/>
            <a:ext cx="144360" cy="428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346560" y="6012000"/>
            <a:ext cx="14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390840" y="5972040"/>
            <a:ext cx="54000" cy="54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394080" y="5840280"/>
            <a:ext cx="54000" cy="54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330720" y="6361200"/>
            <a:ext cx="0" cy="14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213000" y="6365880"/>
            <a:ext cx="14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257640" y="6510240"/>
            <a:ext cx="144360" cy="428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255840" y="6510240"/>
            <a:ext cx="14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300480" y="6470640"/>
            <a:ext cx="54000" cy="54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rot="5400000">
            <a:off x="3103200" y="6342120"/>
            <a:ext cx="144360" cy="4284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198960" y="6291360"/>
            <a:ext cx="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328920" y="6237360"/>
            <a:ext cx="881280" cy="129960"/>
          </a:xfrm>
          <a:custGeom>
            <a:avLst/>
            <a:gdLst/>
            <a:ahLst/>
            <a:rect l="l" t="t" r="r" b="b"/>
            <a:pathLst>
              <a:path w="1394" h="277">
                <a:moveTo>
                  <a:pt x="0" y="277"/>
                </a:moveTo>
                <a:cubicBezTo>
                  <a:pt x="35" y="252"/>
                  <a:pt x="137" y="167"/>
                  <a:pt x="212" y="126"/>
                </a:cubicBezTo>
                <a:cubicBezTo>
                  <a:pt x="287" y="85"/>
                  <a:pt x="372" y="51"/>
                  <a:pt x="452" y="30"/>
                </a:cubicBezTo>
                <a:cubicBezTo>
                  <a:pt x="532" y="9"/>
                  <a:pt x="614" y="0"/>
                  <a:pt x="692" y="0"/>
                </a:cubicBezTo>
                <a:cubicBezTo>
                  <a:pt x="770" y="0"/>
                  <a:pt x="842" y="11"/>
                  <a:pt x="922" y="32"/>
                </a:cubicBezTo>
                <a:cubicBezTo>
                  <a:pt x="1002" y="53"/>
                  <a:pt x="1095" y="85"/>
                  <a:pt x="1174" y="124"/>
                </a:cubicBezTo>
                <a:cubicBezTo>
                  <a:pt x="1253" y="163"/>
                  <a:pt x="1348" y="235"/>
                  <a:pt x="1394" y="26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170160" y="6334200"/>
            <a:ext cx="54000" cy="54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303720" y="6338880"/>
            <a:ext cx="54000" cy="54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197240" y="6361200"/>
            <a:ext cx="0" cy="14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124160" y="6510240"/>
            <a:ext cx="144720" cy="4284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122720" y="6510240"/>
            <a:ext cx="14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167360" y="6470640"/>
            <a:ext cx="53640" cy="54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170240" y="6338880"/>
            <a:ext cx="54000" cy="54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351240" y="6367320"/>
            <a:ext cx="826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749760" y="6211800"/>
            <a:ext cx="54000" cy="54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827440" y="5686560"/>
            <a:ext cx="2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577960" y="5869080"/>
            <a:ext cx="3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000240" y="5867280"/>
            <a:ext cx="39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1600200" y="55990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 flipH="1">
            <a:off x="1614240" y="558972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1365120" y="602928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2989440" y="5867280"/>
            <a:ext cx="17928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803680" y="5867280"/>
            <a:ext cx="17928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flipH="1" flipV="1" rot="20544000">
            <a:off x="492480" y="5880600"/>
            <a:ext cx="170640" cy="18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080" y="76"/>
                </a:moveTo>
                <a:arcTo wR="10800" hR="10800" stAng="-4991495" swAng="9945654"/>
                <a:lnTo>
                  <a:pt x="10800" y="10800"/>
                </a:lnTo>
                <a:close/>
              </a:path>
              <a:path fill="none" w="21600" h="21600">
                <a:moveTo>
                  <a:pt x="12080" y="76"/>
                </a:moveTo>
                <a:arcTo wR="10800" hR="10800" stAng="-4991495" swAng="9945654"/>
              </a:path>
            </a:pathLst>
          </a:custGeom>
          <a:noFill/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 flipV="1" rot="20544000">
            <a:off x="1260000" y="6278400"/>
            <a:ext cx="170640" cy="179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080" y="76"/>
                </a:moveTo>
                <a:arcTo wR="10800" hR="10800" stAng="-4991495" swAng="9945654"/>
                <a:lnTo>
                  <a:pt x="10800" y="10800"/>
                </a:lnTo>
                <a:close/>
              </a:path>
              <a:path fill="none" w="21600" h="21600">
                <a:moveTo>
                  <a:pt x="12080" y="76"/>
                </a:moveTo>
                <a:arcTo wR="10800" hR="10800" stAng="-4991495" swAng="9945654"/>
              </a:path>
            </a:pathLst>
          </a:custGeom>
          <a:noFill/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flipH="1" flipV="1" rot="911400">
            <a:off x="1737000" y="6233400"/>
            <a:ext cx="170640" cy="179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080" y="76"/>
                </a:moveTo>
                <a:arcTo wR="10800" hR="10800" stAng="-4991495" swAng="9945654"/>
                <a:lnTo>
                  <a:pt x="10800" y="10800"/>
                </a:lnTo>
                <a:close/>
              </a:path>
              <a:path fill="none" w="21600" h="21600">
                <a:moveTo>
                  <a:pt x="12080" y="76"/>
                </a:moveTo>
                <a:arcTo wR="10800" hR="10800" stAng="-4991495" swAng="9945654"/>
              </a:path>
            </a:pathLst>
          </a:custGeom>
          <a:noFill/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flipV="1" rot="1100400">
            <a:off x="1960920" y="6280920"/>
            <a:ext cx="168120" cy="1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080" y="76"/>
                </a:moveTo>
                <a:arcTo wR="10800" hR="10800" stAng="-4991495" swAng="9945654"/>
                <a:lnTo>
                  <a:pt x="10800" y="10800"/>
                </a:lnTo>
                <a:close/>
              </a:path>
              <a:path fill="none" w="21600" h="21600">
                <a:moveTo>
                  <a:pt x="12080" y="76"/>
                </a:moveTo>
                <a:arcTo wR="10800" hR="10800" stAng="-4991495" swAng="9945654"/>
              </a:path>
            </a:pathLst>
          </a:custGeom>
          <a:noFill/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V="1" rot="1100400">
            <a:off x="1149840" y="5871240"/>
            <a:ext cx="168120" cy="18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080" y="76"/>
                </a:moveTo>
                <a:arcTo wR="10800" hR="10800" stAng="-4991495" swAng="9945654"/>
                <a:lnTo>
                  <a:pt x="10800" y="10800"/>
                </a:lnTo>
                <a:close/>
              </a:path>
              <a:path fill="none" w="21600" h="21600">
                <a:moveTo>
                  <a:pt x="12080" y="76"/>
                </a:moveTo>
                <a:arcTo wR="10800" hR="10800" stAng="-4991495" swAng="9945654"/>
              </a:path>
            </a:pathLst>
          </a:custGeom>
          <a:noFill/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V="1" rot="19500600">
            <a:off x="1568880" y="5499000"/>
            <a:ext cx="168120" cy="18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936" y="2462"/>
                </a:moveTo>
                <a:arcTo wR="10800" hR="10800" stAng="-7767767" swAng="12721925"/>
                <a:lnTo>
                  <a:pt x="10800" y="10800"/>
                </a:lnTo>
                <a:close/>
              </a:path>
              <a:path fill="none" w="21600" h="21600">
                <a:moveTo>
                  <a:pt x="3936" y="2462"/>
                </a:moveTo>
                <a:arcTo wR="10800" hR="10800" stAng="-7767767" swAng="12721925"/>
              </a:path>
            </a:pathLst>
          </a:custGeom>
          <a:noFill/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flipV="1" rot="20926800">
            <a:off x="1489320" y="6228000"/>
            <a:ext cx="168120" cy="18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080" y="76"/>
                </a:moveTo>
                <a:arcTo wR="10800" hR="10800" stAng="-4991495" swAng="9945654"/>
                <a:lnTo>
                  <a:pt x="10800" y="10800"/>
                </a:lnTo>
                <a:close/>
              </a:path>
              <a:path fill="none" w="21600" h="21600">
                <a:moveTo>
                  <a:pt x="12080" y="76"/>
                </a:moveTo>
                <a:arcTo wR="10800" hR="10800" stAng="-4991495" swAng="9945654"/>
              </a:path>
            </a:pathLst>
          </a:custGeom>
          <a:noFill/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flipH="1" flipV="1" rot="911400">
            <a:off x="3818160" y="6152400"/>
            <a:ext cx="170640" cy="1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080" y="76"/>
                </a:moveTo>
                <a:arcTo wR="10800" hR="10800" stAng="-4991495" swAng="9945654"/>
                <a:lnTo>
                  <a:pt x="10800" y="10800"/>
                </a:lnTo>
                <a:close/>
              </a:path>
              <a:path fill="none" w="21600" h="21600">
                <a:moveTo>
                  <a:pt x="12080" y="76"/>
                </a:moveTo>
                <a:arcTo wR="10800" hR="10800" stAng="-4991495" swAng="9945654"/>
              </a:path>
            </a:pathLst>
          </a:custGeom>
          <a:noFill/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V="1" rot="20926800">
            <a:off x="3570480" y="6147000"/>
            <a:ext cx="168120" cy="18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080" y="76"/>
                </a:moveTo>
                <a:arcTo wR="10800" hR="10800" stAng="-4991495" swAng="9945654"/>
                <a:lnTo>
                  <a:pt x="10800" y="10800"/>
                </a:lnTo>
                <a:close/>
              </a:path>
              <a:path fill="none" w="21600" h="21600">
                <a:moveTo>
                  <a:pt x="12080" y="76"/>
                </a:moveTo>
                <a:arcTo wR="10800" hR="10800" stAng="-4991495" swAng="9945654"/>
              </a:path>
            </a:pathLst>
          </a:custGeom>
          <a:noFill/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824200" y="5838840"/>
            <a:ext cx="460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554280" y="5877000"/>
            <a:ext cx="460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66840" y="5637240"/>
            <a:ext cx="460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952560" y="6157800"/>
            <a:ext cx="460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509840" y="5230800"/>
            <a:ext cx="460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735200" y="5425920"/>
            <a:ext cx="460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984240" y="5635800"/>
            <a:ext cx="460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523880" y="6318360"/>
            <a:ext cx="460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535040" y="5667480"/>
            <a:ext cx="460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486080" y="5880240"/>
            <a:ext cx="460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081160" y="6183360"/>
            <a:ext cx="460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268360" y="5654520"/>
            <a:ext cx="1295640" cy="505080"/>
          </a:xfrm>
          <a:prstGeom prst="rect">
            <a:avLst/>
          </a:prstGeom>
          <a:solidFill>
            <a:srgbClr val="ffffcc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50920" y="5300640"/>
            <a:ext cx="1800000" cy="1008000"/>
          </a:xfrm>
          <a:custGeom>
            <a:avLst/>
            <a:gdLst/>
            <a:ahLst/>
            <a:rect l="l" t="t" r="r" b="b"/>
            <a:pathLst>
              <a:path w="1134" h="635">
                <a:moveTo>
                  <a:pt x="0" y="635"/>
                </a:moveTo>
                <a:lnTo>
                  <a:pt x="0" y="227"/>
                </a:lnTo>
                <a:lnTo>
                  <a:pt x="227" y="227"/>
                </a:lnTo>
                <a:lnTo>
                  <a:pt x="227" y="91"/>
                </a:lnTo>
                <a:lnTo>
                  <a:pt x="908" y="0"/>
                </a:lnTo>
                <a:lnTo>
                  <a:pt x="1089" y="91"/>
                </a:lnTo>
                <a:lnTo>
                  <a:pt x="1134" y="273"/>
                </a:lnTo>
                <a:lnTo>
                  <a:pt x="998" y="545"/>
                </a:lnTo>
                <a:lnTo>
                  <a:pt x="772" y="545"/>
                </a:lnTo>
                <a:lnTo>
                  <a:pt x="772" y="590"/>
                </a:lnTo>
                <a:lnTo>
                  <a:pt x="635" y="590"/>
                </a:lnTo>
                <a:lnTo>
                  <a:pt x="454" y="545"/>
                </a:lnTo>
                <a:lnTo>
                  <a:pt x="0" y="635"/>
                </a:lnTo>
                <a:close/>
              </a:path>
            </a:pathLst>
          </a:custGeom>
          <a:solidFill>
            <a:srgbClr val="ffff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4932360" y="5084640"/>
            <a:ext cx="3024360" cy="432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443640" y="5084640"/>
            <a:ext cx="0" cy="43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432400" y="5084640"/>
            <a:ext cx="0" cy="43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940360" y="5084640"/>
            <a:ext cx="0" cy="43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6948360" y="5084640"/>
            <a:ext cx="0" cy="43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450200" y="5084640"/>
            <a:ext cx="0" cy="43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932360" y="5084640"/>
            <a:ext cx="3024360" cy="432000"/>
          </a:xfrm>
          <a:custGeom>
            <a:avLst/>
            <a:gdLst/>
            <a:ahLst/>
            <a:rect l="l" t="t" r="r" b="b"/>
            <a:pathLst>
              <a:path w="1905" h="272">
                <a:moveTo>
                  <a:pt x="0" y="0"/>
                </a:moveTo>
                <a:lnTo>
                  <a:pt x="317" y="272"/>
                </a:lnTo>
                <a:lnTo>
                  <a:pt x="635" y="0"/>
                </a:lnTo>
                <a:lnTo>
                  <a:pt x="952" y="272"/>
                </a:lnTo>
                <a:lnTo>
                  <a:pt x="1270" y="0"/>
                </a:lnTo>
                <a:lnTo>
                  <a:pt x="1587" y="272"/>
                </a:lnTo>
                <a:lnTo>
                  <a:pt x="1905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929120" y="5533920"/>
            <a:ext cx="0" cy="14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775040" y="5514840"/>
            <a:ext cx="14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808520" y="5711760"/>
            <a:ext cx="252360" cy="7308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811760" y="571176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898880" y="567216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rot="5400000">
            <a:off x="4569120" y="5468040"/>
            <a:ext cx="287280" cy="7308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745160" y="5361120"/>
            <a:ext cx="0" cy="288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711680" y="5477040"/>
            <a:ext cx="712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898880" y="548172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959600" y="550872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7839000" y="5724360"/>
            <a:ext cx="252360" cy="7308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7842240" y="572436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7929720" y="5684760"/>
            <a:ext cx="7128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7921800" y="5470560"/>
            <a:ext cx="712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446880" y="55148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326280" y="5730840"/>
            <a:ext cx="252360" cy="7308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329520" y="573084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416640" y="569124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408720" y="5477040"/>
            <a:ext cx="712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894200" y="504684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5396040" y="5046840"/>
            <a:ext cx="712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396040" y="5477040"/>
            <a:ext cx="712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7412040" y="5046840"/>
            <a:ext cx="712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7916760" y="5045040"/>
            <a:ext cx="7164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900760" y="5477040"/>
            <a:ext cx="712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904000" y="5045040"/>
            <a:ext cx="7128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404040" y="5046840"/>
            <a:ext cx="712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908760" y="547704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910560" y="5046840"/>
            <a:ext cx="712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7415280" y="5477040"/>
            <a:ext cx="712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4237200" y="1112760"/>
            <a:ext cx="4248000" cy="3527640"/>
          </a:xfrm>
          <a:prstGeom prst="rect">
            <a:avLst/>
          </a:prstGeom>
          <a:solidFill>
            <a:srgbClr val="ffffcc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699080" y="6026040"/>
            <a:ext cx="1728720" cy="252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700520" y="6021360"/>
            <a:ext cx="1724040" cy="255600"/>
          </a:xfrm>
          <a:custGeom>
            <a:avLst/>
            <a:gdLst/>
            <a:ahLst/>
            <a:rect l="l" t="t" r="r" b="b"/>
            <a:pathLst>
              <a:path w="1086" h="161">
                <a:moveTo>
                  <a:pt x="0" y="2"/>
                </a:moveTo>
                <a:lnTo>
                  <a:pt x="186" y="158"/>
                </a:lnTo>
                <a:lnTo>
                  <a:pt x="373" y="0"/>
                </a:lnTo>
                <a:lnTo>
                  <a:pt x="552" y="161"/>
                </a:lnTo>
                <a:lnTo>
                  <a:pt x="729" y="2"/>
                </a:lnTo>
                <a:lnTo>
                  <a:pt x="903" y="161"/>
                </a:lnTo>
                <a:lnTo>
                  <a:pt x="1086" y="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994280" y="6021360"/>
            <a:ext cx="0" cy="25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5292720" y="6021360"/>
            <a:ext cx="0" cy="25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132600" y="6021360"/>
            <a:ext cx="0" cy="25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5580000" y="6021360"/>
            <a:ext cx="0" cy="25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853240" y="6021360"/>
            <a:ext cx="0" cy="25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702320" y="6273720"/>
            <a:ext cx="0" cy="14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584600" y="6278400"/>
            <a:ext cx="14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629240" y="6423120"/>
            <a:ext cx="144360" cy="4284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627440" y="6423120"/>
            <a:ext cx="14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72080" y="6383160"/>
            <a:ext cx="54000" cy="54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rot="5400000">
            <a:off x="4474800" y="6254640"/>
            <a:ext cx="144360" cy="4284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570560" y="6203880"/>
            <a:ext cx="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541760" y="6246720"/>
            <a:ext cx="54000" cy="54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675320" y="6251400"/>
            <a:ext cx="54000" cy="54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426360" y="6273720"/>
            <a:ext cx="0" cy="14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353280" y="6423120"/>
            <a:ext cx="144360" cy="428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351480" y="6423120"/>
            <a:ext cx="14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396120" y="6383160"/>
            <a:ext cx="54000" cy="54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6399360" y="6251400"/>
            <a:ext cx="54000" cy="54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672080" y="6002280"/>
            <a:ext cx="54000" cy="54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103800" y="6002280"/>
            <a:ext cx="54000" cy="54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399360" y="5997600"/>
            <a:ext cx="54000" cy="54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262480" y="6002280"/>
            <a:ext cx="54000" cy="54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549760" y="6002280"/>
            <a:ext cx="54000" cy="54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827680" y="6002280"/>
            <a:ext cx="54000" cy="54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964040" y="6002280"/>
            <a:ext cx="54000" cy="54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965840" y="6249960"/>
            <a:ext cx="54000" cy="54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6107040" y="6251400"/>
            <a:ext cx="54000" cy="54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5262480" y="6251400"/>
            <a:ext cx="54000" cy="54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5823000" y="6251400"/>
            <a:ext cx="54000" cy="54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5556240" y="6251400"/>
            <a:ext cx="54000" cy="54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5580000" y="63086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546880" y="6307200"/>
            <a:ext cx="460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727680" y="6031080"/>
            <a:ext cx="1729080" cy="252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729480" y="6026040"/>
            <a:ext cx="1724040" cy="255600"/>
          </a:xfrm>
          <a:custGeom>
            <a:avLst/>
            <a:gdLst/>
            <a:ahLst/>
            <a:rect l="l" t="t" r="r" b="b"/>
            <a:pathLst>
              <a:path w="1086" h="161">
                <a:moveTo>
                  <a:pt x="0" y="2"/>
                </a:moveTo>
                <a:lnTo>
                  <a:pt x="186" y="158"/>
                </a:lnTo>
                <a:lnTo>
                  <a:pt x="373" y="0"/>
                </a:lnTo>
                <a:lnTo>
                  <a:pt x="552" y="161"/>
                </a:lnTo>
                <a:lnTo>
                  <a:pt x="729" y="2"/>
                </a:lnTo>
                <a:lnTo>
                  <a:pt x="903" y="161"/>
                </a:lnTo>
                <a:lnTo>
                  <a:pt x="1086" y="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7023240" y="6026040"/>
            <a:ext cx="0" cy="25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7321680" y="6026040"/>
            <a:ext cx="0" cy="25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8161200" y="6026040"/>
            <a:ext cx="0" cy="25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7608960" y="6026040"/>
            <a:ext cx="0" cy="25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7881840" y="6026040"/>
            <a:ext cx="0" cy="25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730920" y="6278400"/>
            <a:ext cx="0" cy="14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6613560" y="6283440"/>
            <a:ext cx="14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657840" y="6427800"/>
            <a:ext cx="144720" cy="42840"/>
          </a:xfrm>
          <a:prstGeom prst="rect">
            <a:avLst/>
          </a:prstGeom>
          <a:blipFill rotWithShape="0">
            <a:blip r:embed="rId4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656400" y="6427800"/>
            <a:ext cx="14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6700680" y="6388200"/>
            <a:ext cx="54000" cy="54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 rot="5400000">
            <a:off x="6503400" y="6259320"/>
            <a:ext cx="144720" cy="42840"/>
          </a:xfrm>
          <a:prstGeom prst="rect">
            <a:avLst/>
          </a:prstGeom>
          <a:blipFill rotWithShape="0">
            <a:blip r:embed="rId5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6599160" y="6208560"/>
            <a:ext cx="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6570720" y="6251400"/>
            <a:ext cx="54000" cy="54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6703920" y="6256440"/>
            <a:ext cx="54000" cy="54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8454960" y="6278400"/>
            <a:ext cx="0" cy="14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8381880" y="6427800"/>
            <a:ext cx="144720" cy="42840"/>
          </a:xfrm>
          <a:prstGeom prst="rect">
            <a:avLst/>
          </a:prstGeom>
          <a:blipFill rotWithShape="0">
            <a:blip r:embed="rId5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8380440" y="6427800"/>
            <a:ext cx="14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8424720" y="6388200"/>
            <a:ext cx="54000" cy="54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8427960" y="6256440"/>
            <a:ext cx="54000" cy="54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6700680" y="6006960"/>
            <a:ext cx="54000" cy="54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8132760" y="6006960"/>
            <a:ext cx="54000" cy="54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8427960" y="6002280"/>
            <a:ext cx="54000" cy="54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7856640" y="6006960"/>
            <a:ext cx="54000" cy="54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993000" y="6006960"/>
            <a:ext cx="54000" cy="54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6994440" y="6254640"/>
            <a:ext cx="54000" cy="54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8136000" y="6256440"/>
            <a:ext cx="54000" cy="54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7291440" y="6256440"/>
            <a:ext cx="54000" cy="54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7851600" y="6256440"/>
            <a:ext cx="54000" cy="54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7327800" y="5721480"/>
            <a:ext cx="460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7615080" y="6259680"/>
            <a:ext cx="0" cy="14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7542360" y="6408720"/>
            <a:ext cx="144360" cy="42840"/>
          </a:xfrm>
          <a:prstGeom prst="rect">
            <a:avLst/>
          </a:prstGeom>
          <a:blipFill rotWithShape="0">
            <a:blip r:embed="rId5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7540560" y="6408720"/>
            <a:ext cx="14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7585200" y="6369120"/>
            <a:ext cx="54000" cy="54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7585200" y="6256440"/>
            <a:ext cx="54000" cy="54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7456320" y="6002280"/>
            <a:ext cx="36720" cy="71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7418520" y="6002280"/>
            <a:ext cx="107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7419960" y="6060960"/>
            <a:ext cx="10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 flipH="1">
            <a:off x="7459560" y="6032520"/>
            <a:ext cx="14472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7578720" y="6006960"/>
            <a:ext cx="54000" cy="54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7327800" y="6027840"/>
            <a:ext cx="14472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7291440" y="6006960"/>
            <a:ext cx="54000" cy="54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4427640" y="5950080"/>
            <a:ext cx="2089080" cy="647640"/>
          </a:xfrm>
          <a:prstGeom prst="rect">
            <a:avLst/>
          </a:prstGeom>
          <a:solidFill>
            <a:srgbClr val="ffffcc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0" dur="indefinite" restart="never" nodeType="tmRoot">
          <p:childTnLst>
            <p:seq>
              <p:cTn id="901" dur="indefinite" nodeType="mainSeq">
                <p:childTnLst>
                  <p:par>
                    <p:cTn id="902" fill="hold">
                      <p:stCondLst>
                        <p:cond delay="0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6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7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8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5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0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5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0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5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0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5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0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5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0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5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0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5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0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3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5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0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5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0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3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5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0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5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0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5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0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3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5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0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5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8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0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5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8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0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3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5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9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9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9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9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9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8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9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9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0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9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6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9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9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8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9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9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9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9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2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3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9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0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9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6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7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9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2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9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8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9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9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4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9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9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6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7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9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2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9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8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9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9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4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9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0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1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9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7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9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2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3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9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8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9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4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5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9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0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1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9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6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7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9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9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9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5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9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1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9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7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8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9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3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4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9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9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0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9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5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6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9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1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2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9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7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8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9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3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4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9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9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9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5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6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9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1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2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9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7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8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9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3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9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9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0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9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5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6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9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1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2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9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7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8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9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3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4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9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9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0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9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5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6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9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1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9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7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8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9" dur="9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3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9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9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9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5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6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9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3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4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9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9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0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9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5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6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7" dur="9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1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2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9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7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8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9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3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4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5" dur="9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9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0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9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5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6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9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1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3" dur="9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7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8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9" dur="9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3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4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9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9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1" dur="9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5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6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7" dur="9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1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2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3" dur="9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7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8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9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3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4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9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9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9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5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7" dur="9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1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3" dur="9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7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8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9" dur="9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3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4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5" dur="9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9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0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9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5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6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9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1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2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3" dur="9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7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8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9" dur="9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3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4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9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9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0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9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5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6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7" dur="9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9" fill="hold">
                      <p:stCondLst>
                        <p:cond delay="indefinite"/>
                      </p:stCondLst>
                      <p:childTnLst>
                        <p:par>
                          <p:cTn id="1610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4" fill="hold">
                      <p:stCondLst>
                        <p:cond delay="indefinite"/>
                      </p:stCondLst>
                      <p:childTnLst>
                        <p:par>
                          <p:cTn id="1615" fill="hold">
                            <p:stCondLst>
                              <p:cond delay="0"/>
                            </p:stCondLst>
                            <p:childTnLst>
                              <p:par>
                                <p:cTn id="16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8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9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9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4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5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9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1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2" dur="9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6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7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9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2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3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4" dur="9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8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9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0" dur="9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4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6" dur="9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0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1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2" dur="9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6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7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8" dur="9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2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3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4" dur="9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8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9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9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4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5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6" dur="9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0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1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9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6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7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8" dur="9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2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3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4" dur="9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8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9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9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4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6" dur="9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0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2" dur="9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6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7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8" dur="9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2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4" dur="9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9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0" dur="9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4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5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6" dur="9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0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1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2" dur="9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6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7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8" dur="9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2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3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9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8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9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0" dur="9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5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6" dur="9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0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1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2" dur="9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6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7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8" dur="9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2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3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4" dur="9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8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9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0" dur="9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4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5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6" dur="9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0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1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2" dur="9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6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7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8" dur="9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2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3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4" dur="9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8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9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0" dur="9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4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5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6" dur="9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0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1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2" dur="9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6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7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8" dur="9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2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3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4" dur="9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8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9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0" dur="9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4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5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6" dur="9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0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1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2" dur="9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6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7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8" dur="9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2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3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4" dur="9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8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9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0" dur="9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4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5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6" dur="9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0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1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2" dur="9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7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8" dur="9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2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3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4" dur="9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8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9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0" dur="9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2" fill="hold">
                      <p:stCondLst>
                        <p:cond delay="indefinite"/>
                      </p:stCondLst>
                      <p:childTnLst>
                        <p:par>
                          <p:cTn id="1923" fill="hold">
                            <p:stCondLst>
                              <p:cond delay="0"/>
                            </p:stCondLst>
                            <p:childTnLst>
                              <p:par>
                                <p:cTn id="19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6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7" fill="hold">
                      <p:stCondLst>
                        <p:cond delay="indefinite"/>
                      </p:stCondLst>
                      <p:childTnLst>
                        <p:par>
                          <p:cTn id="1928" fill="hold">
                            <p:stCondLst>
                              <p:cond delay="0"/>
                            </p:stCondLst>
                            <p:childTnLst>
                              <p:par>
                                <p:cTn id="19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1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2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3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6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7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8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1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2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3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6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7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8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1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2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53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6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7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58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9" fill="hold">
                      <p:stCondLst>
                        <p:cond delay="indefinite"/>
                      </p:stCondLst>
                      <p:childTnLst>
                        <p:par>
                          <p:cTn id="1960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3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4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5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8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9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70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3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4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75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8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9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0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3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4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5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8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9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0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1" fill="hold">
                      <p:stCondLst>
                        <p:cond delay="indefinite"/>
                      </p:stCondLst>
                      <p:childTnLst>
                        <p:par>
                          <p:cTn id="1992" fill="hold">
                            <p:stCondLst>
                              <p:cond delay="0"/>
                            </p:stCondLst>
                            <p:childTnLst>
                              <p:par>
                                <p:cTn id="19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5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6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7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0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1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02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5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6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07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0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1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2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5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6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7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0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1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22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3" fill="hold">
                      <p:stCondLst>
                        <p:cond delay="indefinite"/>
                      </p:stCondLst>
                      <p:childTnLst>
                        <p:par>
                          <p:cTn id="2024" fill="hold">
                            <p:stCondLst>
                              <p:cond delay="0"/>
                            </p:stCondLst>
                            <p:childTnLst>
                              <p:par>
                                <p:cTn id="20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7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8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9" dur="9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3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4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5" dur="9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9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0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1" dur="9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5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6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7" dur="9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1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2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3" dur="9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5" fill="hold">
                      <p:stCondLst>
                        <p:cond delay="indefinite"/>
                      </p:stCondLst>
                      <p:childTnLst>
                        <p:par>
                          <p:cTn id="2056" fill="hold">
                            <p:stCondLst>
                              <p:cond delay="0"/>
                            </p:stCondLst>
                            <p:childTnLst>
                              <p:par>
                                <p:cTn id="20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9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0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1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2" fill="hold">
                      <p:stCondLst>
                        <p:cond delay="indefinite"/>
                      </p:stCondLst>
                      <p:childTnLst>
                        <p:par>
                          <p:cTn id="2063" fill="hold">
                            <p:stCondLst>
                              <p:cond delay="0"/>
                            </p:stCondLst>
                            <p:childTnLst>
                              <p:par>
                                <p:cTn id="20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6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7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8" dur="9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2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3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4" dur="9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8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9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0" dur="9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4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5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6" dur="9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0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1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2" dur="9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4" fill="hold">
                      <p:stCondLst>
                        <p:cond delay="indefinite"/>
                      </p:stCondLst>
                      <p:childTnLst>
                        <p:par>
                          <p:cTn id="2095" fill="hold">
                            <p:stCondLst>
                              <p:cond delay="0"/>
                            </p:stCondLst>
                            <p:childTnLst>
                              <p:par>
                                <p:cTn id="20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8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9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0" dur="9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4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5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6" dur="9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0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1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2" dur="9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6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7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8" dur="9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2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3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4" dur="9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8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9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0" dur="9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4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5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6" dur="9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0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1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2" dur="9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6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7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8" dur="9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2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3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4" dur="9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8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9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0" dur="9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4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5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6" dur="9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0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1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2" dur="9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6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7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8" dur="9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2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3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4" dur="9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8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9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0" dur="9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2" fill="hold">
                      <p:stCondLst>
                        <p:cond delay="indefinite"/>
                      </p:stCondLst>
                      <p:childTnLst>
                        <p:par>
                          <p:cTn id="2193" fill="hold">
                            <p:stCondLst>
                              <p:cond delay="0"/>
                            </p:stCondLst>
                            <p:childTnLst>
                              <p:par>
                                <p:cTn id="2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6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9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2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5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8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1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4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0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1" fill="hold">
                      <p:stCondLst>
                        <p:cond delay="indefinite"/>
                      </p:stCondLst>
                      <p:childTnLst>
                        <p:par>
                          <p:cTn id="2222" fill="hold">
                            <p:stCondLst>
                              <p:cond delay="0"/>
                            </p:stCondLst>
                            <p:childTnLst>
                              <p:par>
                                <p:cTn id="2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5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8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1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4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0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3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6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9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8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1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4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0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3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6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9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2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5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6" fill="hold">
                      <p:stCondLst>
                        <p:cond delay="indefinite"/>
                      </p:stCondLst>
                      <p:childTnLst>
                        <p:par>
                          <p:cTn id="2287" fill="hold">
                            <p:stCondLst>
                              <p:cond delay="0"/>
                            </p:stCondLst>
                            <p:childTnLst>
                              <p:par>
                                <p:cTn id="2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0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3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6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5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8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1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4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7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0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3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6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9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2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5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8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9" fill="hold">
                      <p:stCondLst>
                        <p:cond delay="indefinite"/>
                      </p:stCondLst>
                      <p:childTnLst>
                        <p:par>
                          <p:cTn id="2340" fill="hold">
                            <p:stCondLst>
                              <p:cond delay="0"/>
                            </p:stCondLst>
                            <p:childTnLst>
                              <p:par>
                                <p:cTn id="23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3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4" fill="hold">
                      <p:stCondLst>
                        <p:cond delay="indefinite"/>
                      </p:stCondLst>
                      <p:childTnLst>
                        <p:par>
                          <p:cTn id="2345" fill="hold">
                            <p:stCondLst>
                              <p:cond delay="0"/>
                            </p:stCondLst>
                            <p:childTnLst>
                              <p:par>
                                <p:cTn id="23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8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1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4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7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0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3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6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2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5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8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1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4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7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0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3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6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9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2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5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8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9" fill="hold">
                      <p:stCondLst>
                        <p:cond delay="indefinite"/>
                      </p:stCondLst>
                      <p:childTnLst>
                        <p:par>
                          <p:cTn id="2410" fill="hold">
                            <p:stCondLst>
                              <p:cond delay="0"/>
                            </p:stCondLst>
                            <p:childTnLst>
                              <p:par>
                                <p:cTn id="24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3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6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9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2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5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8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1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4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7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0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3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6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9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2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5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8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1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4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0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1" fill="hold">
                      <p:stCondLst>
                        <p:cond delay="indefinite"/>
                      </p:stCondLst>
                      <p:childTnLst>
                        <p:par>
                          <p:cTn id="2472" fill="hold">
                            <p:stCondLst>
                              <p:cond delay="0"/>
                            </p:stCondLst>
                            <p:childTnLst>
                              <p:par>
                                <p:cTn id="24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5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6" fill="hold">
                      <p:stCondLst>
                        <p:cond delay="indefinite"/>
                      </p:stCondLst>
                      <p:childTnLst>
                        <p:par>
                          <p:cTn id="2477" fill="hold">
                            <p:stCondLst>
                              <p:cond delay="0"/>
                            </p:stCondLst>
                            <p:childTnLst>
                              <p:par>
                                <p:cTn id="24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0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1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2" dur="9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6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7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8" dur="9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2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3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4" dur="9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8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9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0" dur="9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4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5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6" dur="9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0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1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2" dur="9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6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7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8" dur="9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2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3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4" dur="9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8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9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0" dur="9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4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5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6" dur="9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0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1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2" dur="9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6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7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8" dur="9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2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3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4" dur="9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8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9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0" dur="9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4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5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6" dur="9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0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1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2" dur="9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6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7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8" dur="9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2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3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4" dur="9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8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9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0" dur="9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4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5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6" dur="9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1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2" dur="9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6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7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8" dur="9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2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4" dur="9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8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9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0" dur="9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4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6" dur="9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0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1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2" dur="9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6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7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8" dur="9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2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3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4" dur="9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8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9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0" dur="9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4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5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6" dur="9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0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1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2" dur="9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6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7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8" dur="9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2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3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4" dur="9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8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9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0" dur="9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4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5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6" dur="9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0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1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2" dur="9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6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7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8" dur="9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2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3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4" dur="9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6" fill="hold">
                      <p:stCondLst>
                        <p:cond delay="indefinite"/>
                      </p:stCondLst>
                      <p:childTnLst>
                        <p:par>
                          <p:cTn id="2707" fill="hold">
                            <p:stCondLst>
                              <p:cond delay="0"/>
                            </p:stCondLst>
                            <p:childTnLst>
                              <p:par>
                                <p:cTn id="27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0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3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6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9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2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8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1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7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0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3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6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9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2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5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8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1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4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7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0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3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6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9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2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5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8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1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4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7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0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3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6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9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2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3" fill="hold">
                      <p:stCondLst>
                        <p:cond delay="indefinite"/>
                      </p:stCondLst>
                      <p:childTnLst>
                        <p:par>
                          <p:cTn id="2814" fill="hold">
                            <p:stCondLst>
                              <p:cond delay="0"/>
                            </p:stCondLst>
                            <p:childTnLst>
                              <p:par>
                                <p:cTn id="28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7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0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3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9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2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5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8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1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4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7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0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3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6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9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5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1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4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0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3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6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9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2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5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8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1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4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7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0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3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6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9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5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8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1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4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7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0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3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4" fill="hold">
                      <p:stCondLst>
                        <p:cond delay="indefinite"/>
                      </p:stCondLst>
                      <p:childTnLst>
                        <p:par>
                          <p:cTn id="2945" fill="hold">
                            <p:stCondLst>
                              <p:cond delay="0"/>
                            </p:stCondLst>
                            <p:childTnLst>
                              <p:par>
                                <p:cTn id="29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8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>
            <a:hlinkClick r:id="" action="ppaction://hlinkshowjump?jump=nextslide"/>
          </p:cNvPr>
          <p:cNvSpPr/>
          <p:nvPr/>
        </p:nvSpPr>
        <p:spPr>
          <a:xfrm>
            <a:off x="324000" y="260280"/>
            <a:ext cx="8497800" cy="8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 Black"/>
              </a:rPr>
              <a:t>ИСПОЛЬЗОВАНИЕ ГРУППОВЫХ ОСНОВНЫХ НЕИЗВЕСТ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 Black"/>
              </a:rPr>
              <a:t>(ЛИНЕЙНЫХ ПРЕОБРАЗОВАНИЙ НЕИЗВЕСТНЫХ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 Black"/>
              </a:rPr>
              <a:t>В РАСЧЁТАХ СНС МЕТОДОМ СИЛ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24000" y="1052640"/>
            <a:ext cx="8496000" cy="810000"/>
          </a:xfrm>
          <a:prstGeom prst="rect">
            <a:avLst/>
          </a:prstGeom>
          <a:solidFill>
            <a:srgbClr val="c9f5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Групповыми основными неизвестными метода сил называют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линейные комбинации реакций лишних связей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– группы силовых фактор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(сил и моментов) по направлениям удалённых лишних связей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314280" y="189072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Вариативность ОСМ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2556000" y="1981080"/>
            <a:ext cx="433440" cy="216000"/>
          </a:xfrm>
          <a:prstGeom prst="rightArrow">
            <a:avLst>
              <a:gd name="adj1" fmla="val 50000"/>
              <a:gd name="adj2" fmla="val 501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2928960" y="1890720"/>
            <a:ext cx="27097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Разные вариан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основных неизвестных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638680" y="1989000"/>
            <a:ext cx="433440" cy="216000"/>
          </a:xfrm>
          <a:prstGeom prst="rightArrow">
            <a:avLst>
              <a:gd name="adj1" fmla="val 50000"/>
              <a:gd name="adj2" fmla="val 501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049800" y="1897200"/>
            <a:ext cx="2808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Разные матрицы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упруг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податливости ОСМ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928800" y="2617920"/>
            <a:ext cx="1222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2728800" y="2617920"/>
            <a:ext cx="1366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246400" y="2617920"/>
            <a:ext cx="35856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4095720" y="262260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3975120" y="2838600"/>
            <a:ext cx="252360" cy="72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3978360" y="283860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4065480" y="2798640"/>
            <a:ext cx="7164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057560" y="258444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3459240" y="26733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338640" y="2851200"/>
            <a:ext cx="252360" cy="73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341520" y="2851200"/>
            <a:ext cx="252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3429000" y="2811600"/>
            <a:ext cx="712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421080" y="2635200"/>
            <a:ext cx="7128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2859120" y="26733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2738520" y="2851200"/>
            <a:ext cx="252360" cy="73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2741760" y="285120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2828880" y="281160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2820960" y="2635200"/>
            <a:ext cx="7164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1932120" y="267192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811160" y="2849400"/>
            <a:ext cx="252720" cy="73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1814400" y="284940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901880" y="2809800"/>
            <a:ext cx="7128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1893960" y="2633760"/>
            <a:ext cx="712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1360440" y="26733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1239840" y="2851200"/>
            <a:ext cx="252360" cy="730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243080" y="285120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330200" y="281160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322280" y="2635200"/>
            <a:ext cx="7164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4941720" y="2612880"/>
            <a:ext cx="1222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6742080" y="2612880"/>
            <a:ext cx="1366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6259680" y="2612880"/>
            <a:ext cx="35856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 flipV="1">
            <a:off x="5376960" y="262368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 flipV="1">
            <a:off x="5948280" y="262548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 flipV="1">
            <a:off x="7480440" y="261252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 flipV="1">
            <a:off x="6885000" y="262224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4950000" y="2631960"/>
            <a:ext cx="0" cy="14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795920" y="2612880"/>
            <a:ext cx="14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4829040" y="2809800"/>
            <a:ext cx="252720" cy="730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4832280" y="280980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4919760" y="2770200"/>
            <a:ext cx="712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 rot="5400000">
            <a:off x="4589640" y="2566080"/>
            <a:ext cx="287280" cy="730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4765680" y="2459160"/>
            <a:ext cx="0" cy="288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4732200" y="257508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4919760" y="2579760"/>
            <a:ext cx="712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8109000" y="261792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7988400" y="2833560"/>
            <a:ext cx="252360" cy="730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7991640" y="283356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8078760" y="2793960"/>
            <a:ext cx="7164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8070840" y="2579760"/>
            <a:ext cx="712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5915160" y="2793960"/>
            <a:ext cx="663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6851520" y="2793960"/>
            <a:ext cx="747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7454880" y="2793960"/>
            <a:ext cx="460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5318280" y="2793960"/>
            <a:ext cx="460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898560" y="2639880"/>
            <a:ext cx="0" cy="14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744480" y="2620800"/>
            <a:ext cx="14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777960" y="2817720"/>
            <a:ext cx="252360" cy="730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781200" y="281772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868320" y="277812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 rot="5400000">
            <a:off x="538560" y="2574000"/>
            <a:ext cx="287280" cy="730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714240" y="2467080"/>
            <a:ext cx="0" cy="288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681120" y="2583000"/>
            <a:ext cx="712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868320" y="258768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4500720" y="3068640"/>
            <a:ext cx="39589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Основная система с исходными основными неизвестными 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ru-RU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ru-RU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]</a:t>
            </a:r>
            <a:r>
              <a:rPr b="1" lang="ru-RU" sz="1600" spc="-1" strike="noStrike" baseline="30000">
                <a:solidFill>
                  <a:srgbClr val="000000"/>
                </a:solidFill>
                <a:latin typeface="Times New Roman"/>
              </a:rPr>
              <a:t>т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2676600" y="4394160"/>
            <a:ext cx="18000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–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матрица линейн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преобраз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неизвест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500720" y="3633840"/>
            <a:ext cx="395892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Arial Narrow"/>
              </a:rPr>
              <a:t>Новые (групповые) основные неизвестны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4935600" y="4135320"/>
            <a:ext cx="1222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6735600" y="4135320"/>
            <a:ext cx="1366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6253200" y="4135320"/>
            <a:ext cx="35856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5370480" y="414612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5942160" y="414792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7473960" y="413496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6878520" y="414468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4943520" y="4154400"/>
            <a:ext cx="0" cy="14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4789440" y="4135320"/>
            <a:ext cx="14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4822920" y="4332240"/>
            <a:ext cx="252360" cy="730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4826160" y="433224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4913280" y="429264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 rot="5400000">
            <a:off x="4583520" y="4088520"/>
            <a:ext cx="287280" cy="7308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759200" y="3981600"/>
            <a:ext cx="0" cy="288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726080" y="4097160"/>
            <a:ext cx="7128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4913280" y="410220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8102520" y="414036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7981920" y="4356000"/>
            <a:ext cx="252360" cy="7308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7985160" y="435600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8072280" y="431640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8064360" y="410220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5025960" y="4386240"/>
            <a:ext cx="792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1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8317080" y="3933720"/>
            <a:ext cx="431640" cy="432000"/>
          </a:xfrm>
          <a:prstGeom prst="rect">
            <a:avLst/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6" name=""/>
              <p:cNvSpPr txBox="1"/>
              <p:nvPr/>
            </p:nvSpPr>
            <p:spPr>
              <a:xfrm>
                <a:off x="8356680" y="3921120"/>
                <a:ext cx="4176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37" name=""/>
          <p:cNvSpPr/>
          <p:nvPr/>
        </p:nvSpPr>
        <p:spPr>
          <a:xfrm>
            <a:off x="5651640" y="4378320"/>
            <a:ext cx="792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2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6550200" y="4386240"/>
            <a:ext cx="792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7176960" y="4378320"/>
            <a:ext cx="792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834080" y="460692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  .  .  .  .  .  .  .  .  .  .  .  .  .  .  .  .  . 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4935600" y="5073480"/>
            <a:ext cx="1222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6735600" y="5073480"/>
            <a:ext cx="1366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6253200" y="5073480"/>
            <a:ext cx="35856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5370480" y="508428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5942160" y="508608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 flipV="1">
            <a:off x="7473960" y="507312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6878520" y="508284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4943520" y="5092560"/>
            <a:ext cx="0" cy="14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4789440" y="5073480"/>
            <a:ext cx="14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4822920" y="5270400"/>
            <a:ext cx="252360" cy="7308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4826160" y="527040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913280" y="523080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 rot="5400000">
            <a:off x="4583520" y="5026680"/>
            <a:ext cx="287280" cy="7308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59200" y="4919760"/>
            <a:ext cx="0" cy="288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726080" y="5035680"/>
            <a:ext cx="712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913280" y="504036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8102520" y="507852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7981920" y="5294160"/>
            <a:ext cx="252360" cy="7308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7985160" y="529416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8072280" y="5254560"/>
            <a:ext cx="7164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8064360" y="504036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5025960" y="5324400"/>
            <a:ext cx="792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8317080" y="4871880"/>
            <a:ext cx="431640" cy="432000"/>
          </a:xfrm>
          <a:prstGeom prst="rect">
            <a:avLst/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4" name=""/>
              <p:cNvSpPr txBox="1"/>
              <p:nvPr/>
            </p:nvSpPr>
            <p:spPr>
              <a:xfrm>
                <a:off x="8345520" y="4848120"/>
                <a:ext cx="441360" cy="4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65" name=""/>
          <p:cNvSpPr/>
          <p:nvPr/>
        </p:nvSpPr>
        <p:spPr>
          <a:xfrm>
            <a:off x="5651640" y="5316480"/>
            <a:ext cx="792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6550200" y="5324400"/>
            <a:ext cx="792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n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7176960" y="5316480"/>
            <a:ext cx="792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n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531720" y="2949480"/>
            <a:ext cx="395928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Переход  от исходных неизвестных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к  новым (групповым) неизвестным    </a:t>
            </a: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9" name=""/>
              <p:cNvSpPr txBox="1"/>
              <p:nvPr/>
            </p:nvSpPr>
            <p:spPr>
              <a:xfrm>
                <a:off x="3998880" y="3187800"/>
                <a:ext cx="30024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0" name=""/>
              <p:cNvSpPr txBox="1"/>
              <p:nvPr/>
            </p:nvSpPr>
            <p:spPr>
              <a:xfrm>
                <a:off x="900000" y="3503520"/>
                <a:ext cx="309564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т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η</m:t>
                    </m:r>
                    <m:r>
                      <m:t xml:space="preserve">⋅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1" name=""/>
              <p:cNvSpPr txBox="1"/>
              <p:nvPr/>
            </p:nvSpPr>
            <p:spPr>
              <a:xfrm>
                <a:off x="793800" y="3933720"/>
                <a:ext cx="201600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η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η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η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η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η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η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η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η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…</m:t>
                              </m:r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r>
                                <m:t xml:space="preserve">…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η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η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η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k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η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…</m:t>
                              </m:r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r>
                                <m:t xml:space="preserve">…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η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η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η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n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η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9" dur="indefinite" restart="never" nodeType="tmRoot">
          <p:childTnLst>
            <p:seq>
              <p:cTn id="2950" dur="indefinite" nodeType="mainSeq">
                <p:childTnLst>
                  <p:par>
                    <p:cTn id="2951" fill="hold">
                      <p:stCondLst>
                        <p:cond delay="0"/>
                      </p:stCondLst>
                      <p:childTnLst>
                        <p:par>
                          <p:cTn id="2952" fill="hold">
                            <p:stCondLst>
                              <p:cond delay="0"/>
                            </p:stCondLst>
                            <p:childTnLst>
                              <p:par>
                                <p:cTn id="29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55" dur="80"/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56" dur="80"/>
                                        <p:tgtEl>
                                          <p:spTgt spid="6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7" dur="80"/>
                                        <p:tgtEl>
                                          <p:spTgt spid="6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8" fill="hold">
                      <p:stCondLst>
                        <p:cond delay="indefinite"/>
                      </p:stCondLst>
                      <p:childTnLst>
                        <p:par>
                          <p:cTn id="2959" fill="hold">
                            <p:stCondLst>
                              <p:cond delay="0"/>
                            </p:stCondLst>
                            <p:childTnLst>
                              <p:par>
                                <p:cTn id="29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2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3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4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5" fill="hold">
                      <p:stCondLst>
                        <p:cond delay="indefinite"/>
                      </p:stCondLst>
                      <p:childTnLst>
                        <p:par>
                          <p:cTn id="2966" fill="hold">
                            <p:stCondLst>
                              <p:cond delay="0"/>
                            </p:stCondLst>
                            <p:childTnLst>
                              <p:par>
                                <p:cTn id="29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9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0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71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2" fill="hold">
                      <p:stCondLst>
                        <p:cond delay="indefinite"/>
                      </p:stCondLst>
                      <p:childTnLst>
                        <p:par>
                          <p:cTn id="2973" fill="hold">
                            <p:stCondLst>
                              <p:cond delay="0"/>
                            </p:stCondLst>
                            <p:childTnLst>
                              <p:par>
                                <p:cTn id="29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6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7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78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1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2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83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4" fill="hold">
                      <p:stCondLst>
                        <p:cond delay="indefinite"/>
                      </p:stCondLst>
                      <p:childTnLst>
                        <p:par>
                          <p:cTn id="2985" fill="hold">
                            <p:stCondLst>
                              <p:cond delay="0"/>
                            </p:stCondLst>
                            <p:childTnLst>
                              <p:par>
                                <p:cTn id="29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8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9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90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3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4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95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6" fill="hold">
                      <p:stCondLst>
                        <p:cond delay="indefinite"/>
                      </p:stCondLst>
                      <p:childTnLst>
                        <p:par>
                          <p:cTn id="2997" fill="hold">
                            <p:stCondLst>
                              <p:cond delay="0"/>
                            </p:stCondLst>
                            <p:childTnLst>
                              <p:par>
                                <p:cTn id="29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0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6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2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5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8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1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7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0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3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6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2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5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8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1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7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0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3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6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2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5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8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1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4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7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0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3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6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9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2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5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8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9" fill="hold">
                      <p:stCondLst>
                        <p:cond delay="indefinite"/>
                      </p:stCondLst>
                      <p:childTnLst>
                        <p:par>
                          <p:cTn id="3110" fill="hold">
                            <p:stCondLst>
                              <p:cond delay="0"/>
                            </p:stCondLst>
                            <p:childTnLst>
                              <p:par>
                                <p:cTn id="3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3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6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9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2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5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8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1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4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7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0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3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6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9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2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5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8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1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4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7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0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3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6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9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2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5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6" fill="hold">
                      <p:stCondLst>
                        <p:cond delay="indefinite"/>
                      </p:stCondLst>
                      <p:childTnLst>
                        <p:par>
                          <p:cTn id="3187" fill="hold">
                            <p:stCondLst>
                              <p:cond delay="0"/>
                            </p:stCondLst>
                            <p:childTnLst>
                              <p:par>
                                <p:cTn id="31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0" dur="1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1" dur="1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2" dur="1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3" fill="hold">
                      <p:stCondLst>
                        <p:cond delay="indefinite"/>
                      </p:stCondLst>
                      <p:childTnLst>
                        <p:par>
                          <p:cTn id="3194" fill="hold">
                            <p:stCondLst>
                              <p:cond delay="0"/>
                            </p:stCondLst>
                            <p:childTnLst>
                              <p:par>
                                <p:cTn id="31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7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8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9" dur="1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2" dur="1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3" dur="1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4" dur="1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5" fill="hold">
                      <p:stCondLst>
                        <p:cond delay="indefinite"/>
                      </p:stCondLst>
                      <p:childTnLst>
                        <p:par>
                          <p:cTn id="3206" fill="hold">
                            <p:stCondLst>
                              <p:cond delay="0"/>
                            </p:stCondLst>
                            <p:childTnLst>
                              <p:par>
                                <p:cTn id="32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9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0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1" dur="1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2" fill="hold">
                      <p:stCondLst>
                        <p:cond delay="indefinite"/>
                      </p:stCondLst>
                      <p:childTnLst>
                        <p:par>
                          <p:cTn id="3213" fill="hold">
                            <p:stCondLst>
                              <p:cond delay="0"/>
                            </p:stCondLst>
                            <p:childTnLst>
                              <p:par>
                                <p:cTn id="32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6" dur="1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7" dur="1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18" dur="10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1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2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23" dur="1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4" fill="hold">
                      <p:stCondLst>
                        <p:cond delay="indefinite"/>
                      </p:stCondLst>
                      <p:childTnLst>
                        <p:par>
                          <p:cTn id="3225" fill="hold">
                            <p:stCondLst>
                              <p:cond delay="0"/>
                            </p:stCondLst>
                            <p:childTnLst>
                              <p:par>
                                <p:cTn id="32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8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9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0" dur="1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1" fill="hold">
                      <p:stCondLst>
                        <p:cond delay="indefinite"/>
                      </p:stCondLst>
                      <p:childTnLst>
                        <p:par>
                          <p:cTn id="3232" fill="hold">
                            <p:stCondLst>
                              <p:cond delay="0"/>
                            </p:stCondLst>
                            <p:childTnLst>
                              <p:par>
                                <p:cTn id="32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5" dur="1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6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7" dur="9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1" dur="1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2" dur="1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3" dur="9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7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8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9" dur="9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3" dur="1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4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5" dur="9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9" dur="1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0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1" dur="9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5" dur="1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6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7" dur="9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1" dur="1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2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3" dur="9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7" dur="1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8" dur="1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9" dur="9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3" dur="1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4" dur="1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5" dur="9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9" dur="1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0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1" dur="9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5" dur="1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6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7" dur="9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1" dur="1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2" dur="1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3" dur="9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7" dur="1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8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9" dur="9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3" dur="1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4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5" dur="9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9" dur="1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0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1" dur="9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5" dur="1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6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7" dur="9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1" dur="1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2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3" dur="9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7" dur="1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8" dur="1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9" dur="9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3" dur="1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4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5" dur="9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9" dur="1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0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1" dur="9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5" dur="1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6" dur="1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7" dur="9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1" dur="1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2" dur="1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3" dur="9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7" dur="1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8" dur="1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9" dur="9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3" dur="1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4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5" dur="9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9" dur="1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0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1" dur="9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5" dur="1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6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7" dur="9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1" dur="1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2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3" dur="9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5" fill="hold">
                      <p:stCondLst>
                        <p:cond delay="indefinite"/>
                      </p:stCondLst>
                      <p:childTnLst>
                        <p:par>
                          <p:cTn id="3396" fill="hold">
                            <p:stCondLst>
                              <p:cond delay="0"/>
                            </p:stCondLst>
                            <p:childTnLst>
                              <p:par>
                                <p:cTn id="33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9" dur="1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0" dur="1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1" dur="9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3" fill="hold">
                      <p:stCondLst>
                        <p:cond delay="indefinite"/>
                      </p:stCondLst>
                      <p:childTnLst>
                        <p:par>
                          <p:cTn id="3404" fill="hold">
                            <p:stCondLst>
                              <p:cond delay="0"/>
                            </p:stCondLst>
                            <p:childTnLst>
                              <p:par>
                                <p:cTn id="34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7" dur="1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8" dur="10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9" dur="9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3" dur="1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4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5" dur="9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9" dur="1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0" dur="1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1" dur="9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5" dur="10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6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7" dur="9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1" dur="1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2" dur="1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3" dur="9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7" dur="1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8" dur="1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9" dur="9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3" dur="1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4" dur="1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5" dur="9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9" dur="1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0" dur="1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1" dur="9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5" dur="10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6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7" dur="9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1" dur="1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2" dur="1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3" dur="9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7" dur="1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8" dur="1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9" dur="9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3" dur="10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4" dur="1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5" dur="9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9" dur="1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0" dur="10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1" dur="9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5" dur="1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6" dur="1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7" dur="9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1" dur="1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2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3" dur="9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7" dur="1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8" dur="1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9" dur="9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3" dur="1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4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5" dur="9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9" dur="1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0" dur="1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1" dur="9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5" dur="1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6" dur="1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7" dur="9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1" dur="1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2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3" dur="9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7" dur="1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8" dur="1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9" dur="9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3" dur="1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4" dur="1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5" dur="9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9" dur="1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0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1" dur="9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5" dur="1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6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7" dur="9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1" dur="10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2" dur="10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3" dur="9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7" dur="1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8" dur="1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9" dur="9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3" dur="1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4" dur="1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5" dur="9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">
            <a:hlinkClick r:id="" action="ppaction://hlinkshowjump?jump=nextslide"/>
          </p:cNvPr>
          <p:cNvSpPr/>
          <p:nvPr/>
        </p:nvSpPr>
        <p:spPr>
          <a:xfrm>
            <a:off x="324000" y="260280"/>
            <a:ext cx="8497800" cy="8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 Black"/>
              </a:rPr>
              <a:t>ИСПОЛЬЗОВАНИЕ ГРУППОВЫХ ОСНОВНЫХ НЕИЗВЕСТ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 Black"/>
              </a:rPr>
              <a:t>(ЛИНЕЙНЫХ ПРЕОБРАЗОВАНИЙ НЕИЗВЕСТНЫХ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 Black"/>
              </a:rPr>
              <a:t>В РАСЧЁТАХ СНС МЕТОДОМ СИЛ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324000" y="1052640"/>
            <a:ext cx="8496000" cy="810000"/>
          </a:xfrm>
          <a:prstGeom prst="rect">
            <a:avLst/>
          </a:prstGeom>
          <a:solidFill>
            <a:srgbClr val="c9f5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Групповыми основными неизвестными метода сил называют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линейные комбинации реакций лишних связей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– группы силовых фактор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(сил и моментов) по направлениям удалённых лишних связей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314280" y="189072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Вариативность ОСМ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2556000" y="1981080"/>
            <a:ext cx="433440" cy="216000"/>
          </a:xfrm>
          <a:prstGeom prst="rightArrow">
            <a:avLst>
              <a:gd name="adj1" fmla="val 50000"/>
              <a:gd name="adj2" fmla="val 501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2928960" y="1890720"/>
            <a:ext cx="27097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Разные вариан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основных неизвестных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5638680" y="1989000"/>
            <a:ext cx="433440" cy="216000"/>
          </a:xfrm>
          <a:prstGeom prst="rightArrow">
            <a:avLst>
              <a:gd name="adj1" fmla="val 50000"/>
              <a:gd name="adj2" fmla="val 501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6049800" y="1897200"/>
            <a:ext cx="2808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Разные матрицы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упруг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податливости ОСМ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928800" y="2617920"/>
            <a:ext cx="1222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728800" y="2617920"/>
            <a:ext cx="1366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246400" y="2617920"/>
            <a:ext cx="35856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4095720" y="262260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3975120" y="2838600"/>
            <a:ext cx="252360" cy="72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3978360" y="283860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4065480" y="2798640"/>
            <a:ext cx="7164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4057560" y="258444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459240" y="26733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3338640" y="2851200"/>
            <a:ext cx="252360" cy="73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3341520" y="2851200"/>
            <a:ext cx="252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3429000" y="2811600"/>
            <a:ext cx="712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3421080" y="2635200"/>
            <a:ext cx="7128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2859120" y="26733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2738520" y="2851200"/>
            <a:ext cx="252360" cy="73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741760" y="285120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2828880" y="281160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2820960" y="2635200"/>
            <a:ext cx="7164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932120" y="267192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1811160" y="2849400"/>
            <a:ext cx="252720" cy="73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1814400" y="284940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1901880" y="2809800"/>
            <a:ext cx="7128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1893960" y="2633760"/>
            <a:ext cx="712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1360440" y="26733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1239840" y="2851200"/>
            <a:ext cx="252360" cy="730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1243080" y="285120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1330200" y="281160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1322280" y="2635200"/>
            <a:ext cx="7164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4941720" y="2612880"/>
            <a:ext cx="1222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6742080" y="2612880"/>
            <a:ext cx="1366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6259680" y="2612880"/>
            <a:ext cx="35856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 flipV="1">
            <a:off x="5376960" y="262368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 flipV="1">
            <a:off x="5948280" y="262548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 flipV="1">
            <a:off x="7480440" y="261252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 flipV="1">
            <a:off x="6885000" y="262224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4950000" y="2631960"/>
            <a:ext cx="0" cy="14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4795920" y="2612880"/>
            <a:ext cx="14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4829040" y="2809800"/>
            <a:ext cx="252720" cy="730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4832280" y="280980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4919760" y="2770200"/>
            <a:ext cx="712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 rot="5400000">
            <a:off x="4589640" y="2566080"/>
            <a:ext cx="287280" cy="730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4765680" y="2459160"/>
            <a:ext cx="0" cy="288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4732200" y="257508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4919760" y="2579760"/>
            <a:ext cx="712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8109000" y="261792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7988400" y="2833560"/>
            <a:ext cx="252360" cy="730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7991640" y="283356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8078760" y="2793960"/>
            <a:ext cx="7164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8070840" y="2579760"/>
            <a:ext cx="712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5915160" y="2793960"/>
            <a:ext cx="663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6851520" y="2793960"/>
            <a:ext cx="747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7454880" y="2793960"/>
            <a:ext cx="460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5318280" y="2793960"/>
            <a:ext cx="460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898560" y="2639880"/>
            <a:ext cx="0" cy="14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744480" y="2620800"/>
            <a:ext cx="14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777960" y="2817720"/>
            <a:ext cx="252360" cy="730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781200" y="281772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868320" y="277812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 rot="5400000">
            <a:off x="538560" y="2574000"/>
            <a:ext cx="287280" cy="730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714240" y="2467080"/>
            <a:ext cx="0" cy="288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681120" y="2583000"/>
            <a:ext cx="712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868320" y="258768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4500720" y="3068640"/>
            <a:ext cx="39589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Основная система с исходными основными неизвестными 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ru-RU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ru-RU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]</a:t>
            </a:r>
            <a:r>
              <a:rPr b="1" lang="ru-RU" sz="1600" spc="-1" strike="noStrike" baseline="30000">
                <a:solidFill>
                  <a:srgbClr val="000000"/>
                </a:solidFill>
                <a:latin typeface="Times New Roman"/>
              </a:rPr>
              <a:t>т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531720" y="2949480"/>
            <a:ext cx="395928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Переход  от исходных неизвестных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к  новым (групповым) неизвестным    </a:t>
            </a: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4" name=""/>
              <p:cNvSpPr txBox="1"/>
              <p:nvPr/>
            </p:nvSpPr>
            <p:spPr>
              <a:xfrm>
                <a:off x="3998880" y="3187800"/>
                <a:ext cx="30024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5" name=""/>
              <p:cNvSpPr txBox="1"/>
              <p:nvPr/>
            </p:nvSpPr>
            <p:spPr>
              <a:xfrm>
                <a:off x="900000" y="3503520"/>
                <a:ext cx="309564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т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η</m:t>
                    </m:r>
                    <m:r>
                      <m:t xml:space="preserve">⋅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6" name=""/>
              <p:cNvSpPr txBox="1"/>
              <p:nvPr/>
            </p:nvSpPr>
            <p:spPr>
              <a:xfrm>
                <a:off x="793800" y="3933720"/>
                <a:ext cx="201600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η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η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η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η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η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η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η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η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…</m:t>
                              </m:r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r>
                                <m:t xml:space="preserve">…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η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η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η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k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η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…</m:t>
                              </m:r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r>
                                <m:t xml:space="preserve">…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η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η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η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n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η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47" name=""/>
          <p:cNvSpPr/>
          <p:nvPr/>
        </p:nvSpPr>
        <p:spPr>
          <a:xfrm>
            <a:off x="2676600" y="4394160"/>
            <a:ext cx="18000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–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матрица линейн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преобраз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неизвест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4500720" y="3633840"/>
            <a:ext cx="395892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Arial Narrow"/>
              </a:rPr>
              <a:t>Новые (групповые) основные неизвестны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4935600" y="4135320"/>
            <a:ext cx="1222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6735600" y="4135320"/>
            <a:ext cx="1366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6253200" y="4135320"/>
            <a:ext cx="35856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 flipV="1">
            <a:off x="5370480" y="414612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 flipV="1">
            <a:off x="5942160" y="414792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 flipV="1">
            <a:off x="7473960" y="413496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 flipV="1">
            <a:off x="6878520" y="414468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4943520" y="4154400"/>
            <a:ext cx="0" cy="14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4789440" y="4135320"/>
            <a:ext cx="14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4822920" y="4332240"/>
            <a:ext cx="252360" cy="730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4826160" y="433224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4913280" y="429264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 rot="5400000">
            <a:off x="4583520" y="4088520"/>
            <a:ext cx="287280" cy="7308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4759200" y="3981600"/>
            <a:ext cx="0" cy="288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4726080" y="4097160"/>
            <a:ext cx="7128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4913280" y="410220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8102520" y="414036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7981920" y="4356000"/>
            <a:ext cx="252360" cy="7308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985160" y="435600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8072280" y="431640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8064360" y="410220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8317080" y="3933720"/>
            <a:ext cx="431640" cy="432000"/>
          </a:xfrm>
          <a:prstGeom prst="rect">
            <a:avLst/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2" name=""/>
              <p:cNvSpPr txBox="1"/>
              <p:nvPr/>
            </p:nvSpPr>
            <p:spPr>
              <a:xfrm>
                <a:off x="8356680" y="3921120"/>
                <a:ext cx="4176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73" name=""/>
          <p:cNvSpPr/>
          <p:nvPr/>
        </p:nvSpPr>
        <p:spPr>
          <a:xfrm>
            <a:off x="4834080" y="460692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  .  .  .  .  .  .  .  .  .  .  .  .  .  .  .  .  . 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4935600" y="5073480"/>
            <a:ext cx="1222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6735600" y="5073480"/>
            <a:ext cx="1366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6253200" y="5073480"/>
            <a:ext cx="35856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 flipV="1">
            <a:off x="5370480" y="508428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 flipV="1">
            <a:off x="5942160" y="508608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 flipV="1">
            <a:off x="7473960" y="507312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V="1">
            <a:off x="6878520" y="508284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4943520" y="5092560"/>
            <a:ext cx="0" cy="14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4789440" y="5073480"/>
            <a:ext cx="14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4822920" y="5270400"/>
            <a:ext cx="252360" cy="7308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4826160" y="527040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4913280" y="523080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 rot="5400000">
            <a:off x="4583520" y="5026680"/>
            <a:ext cx="287280" cy="7308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4759200" y="4919760"/>
            <a:ext cx="0" cy="288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4726080" y="5035680"/>
            <a:ext cx="712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4913280" y="504036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8102520" y="507852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981920" y="5294160"/>
            <a:ext cx="252360" cy="7308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7985160" y="529416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8072280" y="5254560"/>
            <a:ext cx="7164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8064360" y="504036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8317080" y="4871880"/>
            <a:ext cx="431640" cy="432000"/>
          </a:xfrm>
          <a:prstGeom prst="rect">
            <a:avLst/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6" name=""/>
              <p:cNvSpPr txBox="1"/>
              <p:nvPr/>
            </p:nvSpPr>
            <p:spPr>
              <a:xfrm>
                <a:off x="8345520" y="4848120"/>
                <a:ext cx="441360" cy="4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7" name=""/>
              <p:cNvSpPr txBox="1"/>
              <p:nvPr/>
            </p:nvSpPr>
            <p:spPr>
              <a:xfrm>
                <a:off x="5122800" y="5330880"/>
                <a:ext cx="5763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  <m:r>
                          <m:t xml:space="preserve">n</m:t>
                        </m:r>
                      </m:sub>
                    </m:sSub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8" name=""/>
              <p:cNvSpPr txBox="1"/>
              <p:nvPr/>
            </p:nvSpPr>
            <p:spPr>
              <a:xfrm>
                <a:off x="5716440" y="5335560"/>
                <a:ext cx="59400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  <m:r>
                          <m:t xml:space="preserve">n</m:t>
                        </m:r>
                      </m:sub>
                    </m:sSub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9" name=""/>
              <p:cNvSpPr txBox="1"/>
              <p:nvPr/>
            </p:nvSpPr>
            <p:spPr>
              <a:xfrm>
                <a:off x="6634080" y="5338800"/>
                <a:ext cx="5763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b>
                    </m:sSub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0" name=""/>
              <p:cNvSpPr txBox="1"/>
              <p:nvPr/>
            </p:nvSpPr>
            <p:spPr>
              <a:xfrm>
                <a:off x="7227720" y="5335560"/>
                <a:ext cx="59400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n</m:t>
                        </m:r>
                      </m:sub>
                    </m:sSub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1" name=""/>
              <p:cNvSpPr txBox="1"/>
              <p:nvPr/>
            </p:nvSpPr>
            <p:spPr>
              <a:xfrm>
                <a:off x="5127480" y="4375080"/>
                <a:ext cx="541440" cy="3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2" name=""/>
              <p:cNvSpPr txBox="1"/>
              <p:nvPr/>
            </p:nvSpPr>
            <p:spPr>
              <a:xfrm>
                <a:off x="5703840" y="4378320"/>
                <a:ext cx="558720" cy="3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3" name=""/>
              <p:cNvSpPr txBox="1"/>
              <p:nvPr/>
            </p:nvSpPr>
            <p:spPr>
              <a:xfrm>
                <a:off x="6638760" y="4370400"/>
                <a:ext cx="55908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4" name=""/>
              <p:cNvSpPr txBox="1"/>
              <p:nvPr/>
            </p:nvSpPr>
            <p:spPr>
              <a:xfrm>
                <a:off x="7232760" y="4365720"/>
                <a:ext cx="5587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</m:e>
                      <m:sub>
                        <m:r>
                          <m:t xml:space="preserve">n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5" name=""/>
              <p:cNvSpPr txBox="1"/>
              <p:nvPr/>
            </p:nvSpPr>
            <p:spPr>
              <a:xfrm>
                <a:off x="706320" y="5157720"/>
                <a:ext cx="255132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η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~"/>
                                    </m:accPr>
                                    <m:e>
                                      <m:r>
                                        <m:t xml:space="preserve">η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acc>
                                    <m:accPr>
                                      <m:chr m:val="~"/>
                                    </m:accPr>
                                    <m:e>
                                      <m:r>
                                        <m:t xml:space="preserve">η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sSub>
                                <m:e>
                                  <m:acc>
                                    <m:accPr>
                                      <m:chr m:val="~"/>
                                    </m:accPr>
                                    <m:e>
                                      <m:r>
                                        <m:t xml:space="preserve">η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sSub>
                                <m:e>
                                  <m:acc>
                                    <m:accPr>
                                      <m:chr m:val="~"/>
                                    </m:accPr>
                                    <m:e>
                                      <m:r>
                                        <m:t xml:space="preserve">η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~"/>
                                    </m:accPr>
                                    <m:e>
                                      <m:r>
                                        <m:t xml:space="preserve">η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acc>
                                    <m:accPr>
                                      <m:chr m:val="~"/>
                                    </m:accPr>
                                    <m:e>
                                      <m:r>
                                        <m:t xml:space="preserve">η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sSub>
                                <m:e>
                                  <m:acc>
                                    <m:accPr>
                                      <m:chr m:val="~"/>
                                    </m:accPr>
                                    <m:e>
                                      <m:r>
                                        <m:t xml:space="preserve">η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sSub>
                                <m:e>
                                  <m:acc>
                                    <m:accPr>
                                      <m:chr m:val="~"/>
                                    </m:accPr>
                                    <m:e>
                                      <m:r>
                                        <m:t xml:space="preserve">η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…</m:t>
                              </m:r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r>
                                <m:t xml:space="preserve">…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~"/>
                                    </m:accPr>
                                    <m:e>
                                      <m:r>
                                        <m:t xml:space="preserve">η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acc>
                                    <m:accPr>
                                      <m:chr m:val="~"/>
                                    </m:accPr>
                                    <m:e>
                                      <m:r>
                                        <m:t xml:space="preserve">η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sSub>
                                <m:e>
                                  <m:acc>
                                    <m:accPr>
                                      <m:chr m:val="~"/>
                                    </m:accPr>
                                    <m:e>
                                      <m:r>
                                        <m:t xml:space="preserve">η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k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sSub>
                                <m:e>
                                  <m:acc>
                                    <m:accPr>
                                      <m:chr m:val="~"/>
                                    </m:accPr>
                                    <m:e>
                                      <m:r>
                                        <m:t xml:space="preserve">η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…</m:t>
                              </m:r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r>
                                <m:t xml:space="preserve">…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~"/>
                                    </m:accPr>
                                    <m:e>
                                      <m:r>
                                        <m:t xml:space="preserve">η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acc>
                                    <m:accPr>
                                      <m:chr m:val="~"/>
                                    </m:accPr>
                                    <m:e>
                                      <m:r>
                                        <m:t xml:space="preserve">η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sSub>
                                <m:e>
                                  <m:acc>
                                    <m:accPr>
                                      <m:chr m:val="~"/>
                                    </m:accPr>
                                    <m:e>
                                      <m:r>
                                        <m:t xml:space="preserve">η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n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sSub>
                                <m:e>
                                  <m:acc>
                                    <m:accPr>
                                      <m:chr m:val="~"/>
                                    </m:accPr>
                                    <m:e>
                                      <m:r>
                                        <m:t xml:space="preserve">η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η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6" name=""/>
              <p:cNvSpPr txBox="1"/>
              <p:nvPr/>
            </p:nvSpPr>
            <p:spPr>
              <a:xfrm>
                <a:off x="4716360" y="5711760"/>
                <a:ext cx="410364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η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η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η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η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n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η</m:t>
                                </m:r>
                              </m:e>
                            </m:acc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η</m:t>
                                </m:r>
                              </m:e>
                            </m:acc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η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k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η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n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07" name=""/>
          <p:cNvSpPr/>
          <p:nvPr/>
        </p:nvSpPr>
        <p:spPr>
          <a:xfrm rot="16200000">
            <a:off x="4228920" y="6076800"/>
            <a:ext cx="720720" cy="177480"/>
          </a:xfrm>
          <a:prstGeom prst="triangle">
            <a:avLst>
              <a:gd name="adj" fmla="val 50000"/>
            </a:avLst>
          </a:prstGeom>
          <a:solidFill>
            <a:srgbClr val="8fcc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3238560" y="5975280"/>
            <a:ext cx="1249200" cy="439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3241800" y="5576760"/>
            <a:ext cx="1224000" cy="37944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0" name=""/>
              <p:cNvSpPr txBox="1"/>
              <p:nvPr/>
            </p:nvSpPr>
            <p:spPr>
              <a:xfrm>
                <a:off x="3263760" y="5622840"/>
                <a:ext cx="115092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η </m:t>
                    </m:r>
                    <m:r>
                      <m:t xml:space="preserve">)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1" name=""/>
              <p:cNvSpPr txBox="1"/>
              <p:nvPr/>
            </p:nvSpPr>
            <p:spPr>
              <a:xfrm>
                <a:off x="3314880" y="5996160"/>
                <a:ext cx="115092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η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7" dur="indefinite" restart="never" nodeType="tmRoot">
          <p:childTnLst>
            <p:seq>
              <p:cTn id="3568" dur="indefinite" nodeType="mainSeq">
                <p:childTnLst>
                  <p:par>
                    <p:cTn id="3569" fill="hold">
                      <p:stCondLst>
                        <p:cond delay="indefinite"/>
                      </p:stCondLst>
                      <p:childTnLst>
                        <p:par>
                          <p:cTn id="3570" fill="hold">
                            <p:stCondLst>
                              <p:cond delay="0"/>
                            </p:stCondLst>
                            <p:childTnLst>
                              <p:par>
                                <p:cTn id="35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3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6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9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2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3" fill="hold">
                      <p:stCondLst>
                        <p:cond delay="indefinite"/>
                      </p:stCondLst>
                      <p:childTnLst>
                        <p:par>
                          <p:cTn id="3584" fill="hold">
                            <p:stCondLst>
                              <p:cond delay="0"/>
                            </p:stCondLst>
                            <p:childTnLst>
                              <p:par>
                                <p:cTn id="35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7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0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3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7" fill="hold">
                      <p:stCondLst>
                        <p:cond delay="indefinite"/>
                      </p:stCondLst>
                      <p:childTnLst>
                        <p:par>
                          <p:cTn id="3598" fill="hold">
                            <p:stCondLst>
                              <p:cond delay="0"/>
                            </p:stCondLst>
                            <p:childTnLst>
                              <p:par>
                                <p:cTn id="35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1" dur="10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2" dur="10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3" dur="9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5" fill="hold">
                      <p:stCondLst>
                        <p:cond delay="indefinite"/>
                      </p:stCondLst>
                      <p:childTnLst>
                        <p:par>
                          <p:cTn id="3606" fill="hold">
                            <p:stCondLst>
                              <p:cond delay="0"/>
                            </p:stCondLst>
                            <p:childTnLst>
                              <p:par>
                                <p:cTn id="36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9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2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3" fill="hold">
                      <p:stCondLst>
                        <p:cond delay="indefinite"/>
                      </p:stCondLst>
                      <p:childTnLst>
                        <p:par>
                          <p:cTn id="3614" fill="hold">
                            <p:stCondLst>
                              <p:cond delay="0"/>
                            </p:stCondLst>
                            <p:childTnLst>
                              <p:par>
                                <p:cTn id="36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7" dur="10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8" dur="1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9" dur="9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1" fill="hold">
                      <p:stCondLst>
                        <p:cond delay="indefinite"/>
                      </p:stCondLst>
                      <p:childTnLst>
                        <p:par>
                          <p:cTn id="3622" fill="hold">
                            <p:stCondLst>
                              <p:cond delay="0"/>
                            </p:stCondLst>
                            <p:childTnLst>
                              <p:par>
                                <p:cTn id="36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5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8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1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">
            <a:hlinkClick r:id="" action="ppaction://hlinkshowjump?jump=nextslide"/>
          </p:cNvPr>
          <p:cNvSpPr/>
          <p:nvPr/>
        </p:nvSpPr>
        <p:spPr>
          <a:xfrm>
            <a:off x="324000" y="260280"/>
            <a:ext cx="8497800" cy="5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 Black"/>
              </a:rPr>
              <a:t>ИСПОЛЬЗОВАНИЕ ГРУППОВЫХ ОСНОВНЫХ НЕИЗВЕСТ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928800" y="2617920"/>
            <a:ext cx="1222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2728800" y="2617920"/>
            <a:ext cx="1366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2246400" y="2617920"/>
            <a:ext cx="35856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4095720" y="262260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3975120" y="2838600"/>
            <a:ext cx="252360" cy="72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3978360" y="283860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4065480" y="2798640"/>
            <a:ext cx="7164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4057560" y="258444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3459240" y="26733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3338640" y="2851200"/>
            <a:ext cx="252360" cy="73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3341520" y="2851200"/>
            <a:ext cx="252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3429000" y="2811600"/>
            <a:ext cx="712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3421080" y="2635200"/>
            <a:ext cx="7128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2859120" y="26733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2738520" y="2851200"/>
            <a:ext cx="252360" cy="73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2741760" y="285120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2828880" y="281160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2820960" y="2635200"/>
            <a:ext cx="7164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1932120" y="267192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1811160" y="2849400"/>
            <a:ext cx="252720" cy="73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1814400" y="284940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1901880" y="2809800"/>
            <a:ext cx="7128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1893960" y="2633760"/>
            <a:ext cx="712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1360440" y="26733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1239840" y="2851200"/>
            <a:ext cx="252360" cy="730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1243080" y="285120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1330200" y="281160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1322280" y="2635200"/>
            <a:ext cx="7164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4941720" y="2612880"/>
            <a:ext cx="1222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6742080" y="2612880"/>
            <a:ext cx="1366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6259680" y="2612880"/>
            <a:ext cx="35856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 flipV="1">
            <a:off x="5376960" y="262368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 flipV="1">
            <a:off x="5948280" y="262548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 flipV="1">
            <a:off x="7480440" y="261252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 flipV="1">
            <a:off x="6885000" y="262224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4950000" y="2631960"/>
            <a:ext cx="0" cy="14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4795920" y="2612880"/>
            <a:ext cx="14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4829040" y="2809800"/>
            <a:ext cx="252720" cy="730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4832280" y="280980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4919760" y="2770200"/>
            <a:ext cx="712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 rot="5400000">
            <a:off x="4589640" y="2566080"/>
            <a:ext cx="287280" cy="730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4765680" y="2459160"/>
            <a:ext cx="0" cy="288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4732200" y="257508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4919760" y="2579760"/>
            <a:ext cx="712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8109000" y="261792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7988400" y="2833560"/>
            <a:ext cx="252360" cy="730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7991640" y="283356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8078760" y="2793960"/>
            <a:ext cx="7164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8070840" y="2579760"/>
            <a:ext cx="712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5915160" y="2793960"/>
            <a:ext cx="663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6851520" y="2793960"/>
            <a:ext cx="747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7454880" y="2793960"/>
            <a:ext cx="460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5318280" y="2793960"/>
            <a:ext cx="460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898560" y="2639880"/>
            <a:ext cx="0" cy="14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744480" y="2620800"/>
            <a:ext cx="14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777960" y="2817720"/>
            <a:ext cx="252360" cy="730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781200" y="281772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868320" y="277812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 rot="5400000">
            <a:off x="538560" y="2574000"/>
            <a:ext cx="287280" cy="730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714240" y="2467080"/>
            <a:ext cx="0" cy="288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681120" y="2583000"/>
            <a:ext cx="712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868320" y="258768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4500720" y="3068640"/>
            <a:ext cx="39589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Основная система с исходными основными неизвестными 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ru-RU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ru-RU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]</a:t>
            </a:r>
            <a:r>
              <a:rPr b="1" lang="ru-RU" sz="1600" spc="-1" strike="noStrike" baseline="30000">
                <a:solidFill>
                  <a:srgbClr val="000000"/>
                </a:solidFill>
                <a:latin typeface="Times New Roman"/>
              </a:rPr>
              <a:t>т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531720" y="2949480"/>
            <a:ext cx="395928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Переход  от исходных неизвестных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к  новым (групповым) неизвестным    </a:t>
            </a: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8" name=""/>
              <p:cNvSpPr txBox="1"/>
              <p:nvPr/>
            </p:nvSpPr>
            <p:spPr>
              <a:xfrm>
                <a:off x="3998880" y="3187800"/>
                <a:ext cx="30024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9" name=""/>
              <p:cNvSpPr txBox="1"/>
              <p:nvPr/>
            </p:nvSpPr>
            <p:spPr>
              <a:xfrm>
                <a:off x="900000" y="3503520"/>
                <a:ext cx="309564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т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η</m:t>
                    </m:r>
                    <m:r>
                      <m:t xml:space="preserve">⋅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0" name=""/>
              <p:cNvSpPr txBox="1"/>
              <p:nvPr/>
            </p:nvSpPr>
            <p:spPr>
              <a:xfrm>
                <a:off x="793800" y="3933720"/>
                <a:ext cx="201600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η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η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η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η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η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η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η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η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…</m:t>
                              </m:r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r>
                                <m:t xml:space="preserve">…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η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η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η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k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η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…</m:t>
                              </m:r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r>
                                <m:t xml:space="preserve">…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η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η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η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n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η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81" name=""/>
          <p:cNvSpPr/>
          <p:nvPr/>
        </p:nvSpPr>
        <p:spPr>
          <a:xfrm>
            <a:off x="2676600" y="4394160"/>
            <a:ext cx="18000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–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матрица линейн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преобраз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неизвест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4500720" y="3633840"/>
            <a:ext cx="395892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Arial Narrow"/>
              </a:rPr>
              <a:t>Новые (групповые) основные неизвестны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4935600" y="4135320"/>
            <a:ext cx="1222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6735600" y="4135320"/>
            <a:ext cx="1366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6253200" y="4135320"/>
            <a:ext cx="35856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 flipV="1">
            <a:off x="5370480" y="414612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 flipV="1">
            <a:off x="5942160" y="414792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 flipV="1">
            <a:off x="7473960" y="413496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 flipV="1">
            <a:off x="6878520" y="414468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4943520" y="4154400"/>
            <a:ext cx="0" cy="14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4789440" y="4135320"/>
            <a:ext cx="14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4822920" y="4332240"/>
            <a:ext cx="252360" cy="730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4826160" y="433224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4913280" y="429264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 rot="5400000">
            <a:off x="4583520" y="4088520"/>
            <a:ext cx="287280" cy="7308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4759200" y="3981600"/>
            <a:ext cx="0" cy="288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4726080" y="4097160"/>
            <a:ext cx="7128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4913280" y="410220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8102520" y="414036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7981920" y="4356000"/>
            <a:ext cx="252360" cy="7308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7985160" y="435600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8072280" y="431640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8064360" y="410220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8317080" y="3933720"/>
            <a:ext cx="431640" cy="432000"/>
          </a:xfrm>
          <a:prstGeom prst="rect">
            <a:avLst/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6" name=""/>
              <p:cNvSpPr txBox="1"/>
              <p:nvPr/>
            </p:nvSpPr>
            <p:spPr>
              <a:xfrm>
                <a:off x="8356680" y="3921120"/>
                <a:ext cx="4176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07" name=""/>
          <p:cNvSpPr/>
          <p:nvPr/>
        </p:nvSpPr>
        <p:spPr>
          <a:xfrm>
            <a:off x="4834080" y="460692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  .  .  .  .  .  .  .  .  .  .  .  .  .  .  .  .  . 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4935600" y="5073480"/>
            <a:ext cx="1222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6735600" y="5073480"/>
            <a:ext cx="1366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6253200" y="5073480"/>
            <a:ext cx="35856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 flipV="1">
            <a:off x="5370480" y="508428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 flipV="1">
            <a:off x="5942160" y="508608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 flipV="1">
            <a:off x="7473960" y="507312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 flipV="1">
            <a:off x="6878520" y="508284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4943520" y="5092560"/>
            <a:ext cx="0" cy="14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4789440" y="5073480"/>
            <a:ext cx="14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4822920" y="5270400"/>
            <a:ext cx="252360" cy="7308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4826160" y="527040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4913280" y="523080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 rot="5400000">
            <a:off x="4583520" y="5026680"/>
            <a:ext cx="287280" cy="7308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4759200" y="4919760"/>
            <a:ext cx="0" cy="288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4726080" y="5035680"/>
            <a:ext cx="712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4913280" y="504036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8102520" y="507852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7981920" y="5294160"/>
            <a:ext cx="252360" cy="7308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7985160" y="529416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8072280" y="5254560"/>
            <a:ext cx="7164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8064360" y="504036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8317080" y="4871880"/>
            <a:ext cx="431640" cy="432000"/>
          </a:xfrm>
          <a:prstGeom prst="rect">
            <a:avLst/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0" name=""/>
              <p:cNvSpPr txBox="1"/>
              <p:nvPr/>
            </p:nvSpPr>
            <p:spPr>
              <a:xfrm>
                <a:off x="8345520" y="4848120"/>
                <a:ext cx="441360" cy="4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1" name=""/>
              <p:cNvSpPr txBox="1"/>
              <p:nvPr/>
            </p:nvSpPr>
            <p:spPr>
              <a:xfrm>
                <a:off x="5122800" y="5330880"/>
                <a:ext cx="5763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  <m:r>
                          <m:t xml:space="preserve">n</m:t>
                        </m:r>
                      </m:sub>
                    </m:sSub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2" name=""/>
              <p:cNvSpPr txBox="1"/>
              <p:nvPr/>
            </p:nvSpPr>
            <p:spPr>
              <a:xfrm>
                <a:off x="5716440" y="5335560"/>
                <a:ext cx="59400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  <m:r>
                          <m:t xml:space="preserve">n</m:t>
                        </m:r>
                      </m:sub>
                    </m:sSub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3" name=""/>
              <p:cNvSpPr txBox="1"/>
              <p:nvPr/>
            </p:nvSpPr>
            <p:spPr>
              <a:xfrm>
                <a:off x="6634080" y="5338800"/>
                <a:ext cx="5763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b>
                    </m:sSub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4" name=""/>
              <p:cNvSpPr txBox="1"/>
              <p:nvPr/>
            </p:nvSpPr>
            <p:spPr>
              <a:xfrm>
                <a:off x="7227720" y="5335560"/>
                <a:ext cx="59400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n</m:t>
                        </m:r>
                      </m:sub>
                    </m:sSub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5" name=""/>
              <p:cNvSpPr txBox="1"/>
              <p:nvPr/>
            </p:nvSpPr>
            <p:spPr>
              <a:xfrm>
                <a:off x="5127480" y="4375080"/>
                <a:ext cx="541440" cy="3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6" name=""/>
              <p:cNvSpPr txBox="1"/>
              <p:nvPr/>
            </p:nvSpPr>
            <p:spPr>
              <a:xfrm>
                <a:off x="5703840" y="4378320"/>
                <a:ext cx="558720" cy="3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7" name=""/>
              <p:cNvSpPr txBox="1"/>
              <p:nvPr/>
            </p:nvSpPr>
            <p:spPr>
              <a:xfrm>
                <a:off x="6638760" y="4370400"/>
                <a:ext cx="55908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8" name=""/>
              <p:cNvSpPr txBox="1"/>
              <p:nvPr/>
            </p:nvSpPr>
            <p:spPr>
              <a:xfrm>
                <a:off x="7232760" y="4365720"/>
                <a:ext cx="5587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</m:e>
                      <m:sub>
                        <m:r>
                          <m:t xml:space="preserve">n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9" name=""/>
              <p:cNvSpPr txBox="1"/>
              <p:nvPr/>
            </p:nvSpPr>
            <p:spPr>
              <a:xfrm>
                <a:off x="706320" y="5157720"/>
                <a:ext cx="255132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η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~"/>
                                    </m:accPr>
                                    <m:e>
                                      <m:r>
                                        <m:t xml:space="preserve">η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acc>
                                    <m:accPr>
                                      <m:chr m:val="~"/>
                                    </m:accPr>
                                    <m:e>
                                      <m:r>
                                        <m:t xml:space="preserve">η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sSub>
                                <m:e>
                                  <m:acc>
                                    <m:accPr>
                                      <m:chr m:val="~"/>
                                    </m:accPr>
                                    <m:e>
                                      <m:r>
                                        <m:t xml:space="preserve">η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sSub>
                                <m:e>
                                  <m:acc>
                                    <m:accPr>
                                      <m:chr m:val="~"/>
                                    </m:accPr>
                                    <m:e>
                                      <m:r>
                                        <m:t xml:space="preserve">η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~"/>
                                    </m:accPr>
                                    <m:e>
                                      <m:r>
                                        <m:t xml:space="preserve">η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acc>
                                    <m:accPr>
                                      <m:chr m:val="~"/>
                                    </m:accPr>
                                    <m:e>
                                      <m:r>
                                        <m:t xml:space="preserve">η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sSub>
                                <m:e>
                                  <m:acc>
                                    <m:accPr>
                                      <m:chr m:val="~"/>
                                    </m:accPr>
                                    <m:e>
                                      <m:r>
                                        <m:t xml:space="preserve">η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sSub>
                                <m:e>
                                  <m:acc>
                                    <m:accPr>
                                      <m:chr m:val="~"/>
                                    </m:accPr>
                                    <m:e>
                                      <m:r>
                                        <m:t xml:space="preserve">η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…</m:t>
                              </m:r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r>
                                <m:t xml:space="preserve">…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~"/>
                                    </m:accPr>
                                    <m:e>
                                      <m:r>
                                        <m:t xml:space="preserve">η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acc>
                                    <m:accPr>
                                      <m:chr m:val="~"/>
                                    </m:accPr>
                                    <m:e>
                                      <m:r>
                                        <m:t xml:space="preserve">η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sSub>
                                <m:e>
                                  <m:acc>
                                    <m:accPr>
                                      <m:chr m:val="~"/>
                                    </m:accPr>
                                    <m:e>
                                      <m:r>
                                        <m:t xml:space="preserve">η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k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sSub>
                                <m:e>
                                  <m:acc>
                                    <m:accPr>
                                      <m:chr m:val="~"/>
                                    </m:accPr>
                                    <m:e>
                                      <m:r>
                                        <m:t xml:space="preserve">η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…</m:t>
                              </m:r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r>
                                <m:t xml:space="preserve">…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~"/>
                                    </m:accPr>
                                    <m:e>
                                      <m:r>
                                        <m:t xml:space="preserve">η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acc>
                                    <m:accPr>
                                      <m:chr m:val="~"/>
                                    </m:accPr>
                                    <m:e>
                                      <m:r>
                                        <m:t xml:space="preserve">η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sSub>
                                <m:e>
                                  <m:acc>
                                    <m:accPr>
                                      <m:chr m:val="~"/>
                                    </m:accPr>
                                    <m:e>
                                      <m:r>
                                        <m:t xml:space="preserve">η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n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sSub>
                                <m:e>
                                  <m:acc>
                                    <m:accPr>
                                      <m:chr m:val="~"/>
                                    </m:accPr>
                                    <m:e>
                                      <m:r>
                                        <m:t xml:space="preserve">η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η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0" name=""/>
              <p:cNvSpPr txBox="1"/>
              <p:nvPr/>
            </p:nvSpPr>
            <p:spPr>
              <a:xfrm>
                <a:off x="4716360" y="5711760"/>
                <a:ext cx="410364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η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η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η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η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n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η</m:t>
                                </m:r>
                              </m:e>
                            </m:acc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η</m:t>
                                </m:r>
                              </m:e>
                            </m:acc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η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k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η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n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41" name=""/>
          <p:cNvSpPr/>
          <p:nvPr/>
        </p:nvSpPr>
        <p:spPr>
          <a:xfrm rot="16200000">
            <a:off x="4228920" y="6076800"/>
            <a:ext cx="720720" cy="177480"/>
          </a:xfrm>
          <a:prstGeom prst="triangle">
            <a:avLst>
              <a:gd name="adj" fmla="val 50000"/>
            </a:avLst>
          </a:prstGeom>
          <a:solidFill>
            <a:srgbClr val="8fcc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3238560" y="5975280"/>
            <a:ext cx="1249200" cy="439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3241800" y="5576760"/>
            <a:ext cx="1224000" cy="37944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4" name=""/>
              <p:cNvSpPr txBox="1"/>
              <p:nvPr/>
            </p:nvSpPr>
            <p:spPr>
              <a:xfrm>
                <a:off x="3263760" y="5622840"/>
                <a:ext cx="115092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η </m:t>
                    </m:r>
                    <m:r>
                      <m:t xml:space="preserve">)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5" name=""/>
              <p:cNvSpPr txBox="1"/>
              <p:nvPr/>
            </p:nvSpPr>
            <p:spPr>
              <a:xfrm>
                <a:off x="3314880" y="5996160"/>
                <a:ext cx="115092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η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046" name=""/>
          <p:cNvSpPr/>
          <p:nvPr/>
        </p:nvSpPr>
        <p:spPr>
          <a:xfrm>
            <a:off x="1258920" y="56988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анонические уравнени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8" name=""/>
              <p:cNvSpPr txBox="1"/>
              <p:nvPr/>
            </p:nvSpPr>
            <p:spPr>
              <a:xfrm>
                <a:off x="5146560" y="523800"/>
                <a:ext cx="165744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δ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+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Δ</m:t>
                            </m:r>
                          </m:e>
                        </m:acc>
                      </m:e>
                      <m:sub>
                        <m:r>
                          <m:t xml:space="preserve">Σ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9" name=""/>
          <p:cNvSpPr/>
          <p:nvPr/>
        </p:nvSpPr>
        <p:spPr>
          <a:xfrm>
            <a:off x="212760" y="968400"/>
            <a:ext cx="59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эффициенты и свободные члены уравнений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0" name=""/>
              <p:cNvSpPr txBox="1"/>
              <p:nvPr/>
            </p:nvSpPr>
            <p:spPr>
              <a:xfrm>
                <a:off x="6006960" y="919080"/>
                <a:ext cx="274644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δ</m:t>
                            </m:r>
                          </m:e>
                        </m:acc>
                        <m:r>
                          <m:t xml:space="preserve">=</m:t>
                        </m:r>
                        <m:s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L</m:t>
                                </m:r>
                              </m:e>
                            </m:acc>
                          </m:e>
                          <m:sup>
                            <m:r>
                              <m:t xml:space="preserve">т</m:t>
                            </m:r>
                          </m:sup>
                        </m:sSup>
                        <m:r>
                          <m:t xml:space="preserve">B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Δ</m:t>
                            </m:r>
                          </m:e>
                        </m:acc>
                      </m:e>
                      <m:sub>
                        <m:r>
                          <m:t xml:space="preserve">Σ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т</m:t>
                        </m:r>
                      </m:sup>
                    </m:sSubSup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Σ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1" name=""/>
          <p:cNvSpPr/>
          <p:nvPr/>
        </p:nvSpPr>
        <p:spPr>
          <a:xfrm>
            <a:off x="379440" y="136836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рупповые основные неизвестные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3" name=""/>
              <p:cNvSpPr txBox="1"/>
              <p:nvPr/>
            </p:nvSpPr>
            <p:spPr>
              <a:xfrm>
                <a:off x="4805280" y="1325520"/>
                <a:ext cx="391500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δ</m:t>
                            </m:r>
                          </m:e>
                        </m:acc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Δ</m:t>
                            </m:r>
                          </m:e>
                        </m:acc>
                      </m:e>
                      <m:sub>
                        <m:r>
                          <m:t xml:space="preserve">Σ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s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</m:e>
                      <m:sup>
                        <m:r>
                          <m:t xml:space="preserve">т</m:t>
                        </m:r>
                      </m:sup>
                    </m:sSup>
                    <m:r>
                      <m:t xml:space="preserve">B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L</m:t>
                        </m:r>
                      </m:e>
                    </m:acc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⋅</m:t>
                    </m:r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т</m:t>
                        </m:r>
                      </m:sup>
                    </m:sSubSup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Σ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4" name=""/>
          <p:cNvSpPr/>
          <p:nvPr/>
        </p:nvSpPr>
        <p:spPr>
          <a:xfrm>
            <a:off x="900000" y="175248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скомые усили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6" name=""/>
              <p:cNvSpPr txBox="1"/>
              <p:nvPr/>
            </p:nvSpPr>
            <p:spPr>
              <a:xfrm>
                <a:off x="3298680" y="1711440"/>
                <a:ext cx="470556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L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+</m:t>
                    </m:r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Σ</m:t>
                        </m:r>
                      </m:sub>
                      <m:sup/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Σ</m:t>
                        </m:r>
                      </m:sub>
                      <m:sup/>
                    </m:sSubSup>
                    <m:r>
                      <m:t xml:space="preserve">−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L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(</m:t>
                    </m:r>
                    <m:s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</m:e>
                      <m:sup>
                        <m:r>
                          <m:t xml:space="preserve">т</m:t>
                        </m:r>
                      </m:sup>
                    </m:sSup>
                    <m:r>
                      <m:t xml:space="preserve">B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L</m:t>
                        </m:r>
                      </m:e>
                    </m:acc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⋅</m:t>
                    </m:r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т</m:t>
                        </m:r>
                      </m:sup>
                    </m:sSubSup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Σ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7" name=""/>
          <p:cNvSpPr/>
          <p:nvPr/>
        </p:nvSpPr>
        <p:spPr>
          <a:xfrm>
            <a:off x="1187280" y="213840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инематическая проверк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9" name=""/>
              <p:cNvSpPr txBox="1"/>
              <p:nvPr/>
            </p:nvSpPr>
            <p:spPr>
              <a:xfrm>
                <a:off x="4500720" y="2133720"/>
                <a:ext cx="323820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Δ</m:t>
                            </m:r>
                          </m:e>
                        </m:acc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el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</m:e>
                      <m:sup>
                        <m:r>
                          <m:t xml:space="preserve">т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BS 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?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(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Δ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Δ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2" dur="indefinite" restart="never" nodeType="tmRoot">
          <p:childTnLst>
            <p:seq>
              <p:cTn id="3633" dur="indefinite" nodeType="mainSeq">
                <p:childTnLst>
                  <p:par>
                    <p:cTn id="3634" fill="hold">
                      <p:stCondLst>
                        <p:cond delay="0"/>
                      </p:stCondLst>
                      <p:childTnLst>
                        <p:par>
                          <p:cTn id="3635" fill="hold">
                            <p:stCondLst>
                              <p:cond delay="0"/>
                            </p:stCondLst>
                            <p:childTnLst>
                              <p:par>
                                <p:cTn id="363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8" dur="1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9" dur="1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40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3" dur="1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4" dur="1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45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6" fill="hold">
                      <p:stCondLst>
                        <p:cond delay="indefinite"/>
                      </p:stCondLst>
                      <p:childTnLst>
                        <p:par>
                          <p:cTn id="3647" fill="hold">
                            <p:stCondLst>
                              <p:cond delay="0"/>
                            </p:stCondLst>
                            <p:childTnLst>
                              <p:par>
                                <p:cTn id="36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0" dur="10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1" dur="10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52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5" dur="1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6" dur="1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57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8" fill="hold">
                      <p:stCondLst>
                        <p:cond delay="indefinite"/>
                      </p:stCondLst>
                      <p:childTnLst>
                        <p:par>
                          <p:cTn id="3659" fill="hold">
                            <p:stCondLst>
                              <p:cond delay="0"/>
                            </p:stCondLst>
                            <p:childTnLst>
                              <p:par>
                                <p:cTn id="36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2" dur="10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3" dur="10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64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7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8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69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0" fill="hold">
                      <p:stCondLst>
                        <p:cond delay="indefinite"/>
                      </p:stCondLst>
                      <p:childTnLst>
                        <p:par>
                          <p:cTn id="3671" fill="hold">
                            <p:stCondLst>
                              <p:cond delay="0"/>
                            </p:stCondLst>
                            <p:childTnLst>
                              <p:par>
                                <p:cTn id="36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4" dur="10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5" dur="10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76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9" dur="10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0" dur="10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81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2" fill="hold">
                      <p:stCondLst>
                        <p:cond delay="indefinite"/>
                      </p:stCondLst>
                      <p:childTnLst>
                        <p:par>
                          <p:cTn id="3683" fill="hold">
                            <p:stCondLst>
                              <p:cond delay="0"/>
                            </p:stCondLst>
                            <p:childTnLst>
                              <p:par>
                                <p:cTn id="36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6" dur="10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7" dur="10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88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1" dur="10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2" dur="10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93" dur="1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">
            <a:hlinkClick r:id="" action="ppaction://hlinkshowjump?jump=nextslide"/>
          </p:cNvPr>
          <p:cNvSpPr/>
          <p:nvPr/>
        </p:nvSpPr>
        <p:spPr>
          <a:xfrm>
            <a:off x="324000" y="260280"/>
            <a:ext cx="8497800" cy="5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 Black"/>
              </a:rPr>
              <a:t>ИСПОЛЬЗОВАНИЕ ГРУППОВЫХ ОСНОВНЫХ НЕИЗВЕСТ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 Black"/>
              </a:rPr>
              <a:t>В РАСЧЁТАХ СИММЕТРИЧНЫХ СН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900000" y="2173320"/>
            <a:ext cx="273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684360" y="2173320"/>
            <a:ext cx="35856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1020600" y="222408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900000" y="2401920"/>
            <a:ext cx="252360" cy="73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903240" y="240192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990720" y="2362320"/>
            <a:ext cx="712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982800" y="2185920"/>
            <a:ext cx="7128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3429000" y="22114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3308400" y="2389320"/>
            <a:ext cx="252360" cy="72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3311640" y="238932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3398760" y="2349360"/>
            <a:ext cx="7164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3390840" y="217332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3492360" y="2173320"/>
            <a:ext cx="35892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4356000" y="803160"/>
            <a:ext cx="431964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Основная система с исходными основными неизвестными 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ru-RU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ru-RU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]</a:t>
            </a:r>
            <a:r>
              <a:rPr b="1" lang="ru-RU" sz="1600" spc="-1" strike="noStrike" baseline="30000">
                <a:solidFill>
                  <a:srgbClr val="000000"/>
                </a:solidFill>
                <a:latin typeface="Times New Roman"/>
              </a:rPr>
              <a:t>т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1662120" y="1787400"/>
            <a:ext cx="0" cy="93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2843280" y="1812960"/>
            <a:ext cx="0" cy="93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1663560" y="159876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2843280" y="159876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1663560" y="268776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2843280" y="270828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2233440" y="1454040"/>
            <a:ext cx="0" cy="144000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2181240" y="1389240"/>
            <a:ext cx="108000" cy="252360"/>
          </a:xfrm>
          <a:custGeom>
            <a:avLst/>
            <a:gdLst/>
            <a:ahLst/>
            <a:rect l="l" t="t" r="r" b="b"/>
            <a:pathLst>
              <a:path w="91" h="136">
                <a:moveTo>
                  <a:pt x="0" y="136"/>
                </a:moveTo>
                <a:lnTo>
                  <a:pt x="46" y="0"/>
                </a:lnTo>
                <a:lnTo>
                  <a:pt x="91" y="13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2050920" y="132732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5221440" y="2173320"/>
            <a:ext cx="273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5005440" y="2173320"/>
            <a:ext cx="35856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5342040" y="222408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5221440" y="2401920"/>
            <a:ext cx="252360" cy="73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5224320" y="2401920"/>
            <a:ext cx="252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5311800" y="2362320"/>
            <a:ext cx="712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5303880" y="2185920"/>
            <a:ext cx="7128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7750080" y="22114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7629480" y="2389320"/>
            <a:ext cx="252360" cy="72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7632720" y="238932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7719840" y="2349360"/>
            <a:ext cx="7164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7711920" y="217332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7813800" y="2173320"/>
            <a:ext cx="35856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5983200" y="1787400"/>
            <a:ext cx="0" cy="93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7164360" y="1812960"/>
            <a:ext cx="0" cy="93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5985000" y="159876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7164360" y="159876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5985000" y="268776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7164360" y="270828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6554880" y="1454040"/>
            <a:ext cx="0" cy="144000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6502320" y="1389240"/>
            <a:ext cx="108000" cy="252360"/>
          </a:xfrm>
          <a:custGeom>
            <a:avLst/>
            <a:gdLst/>
            <a:ahLst/>
            <a:rect l="l" t="t" r="r" b="b"/>
            <a:pathLst>
              <a:path w="91" h="136">
                <a:moveTo>
                  <a:pt x="0" y="136"/>
                </a:moveTo>
                <a:lnTo>
                  <a:pt x="46" y="0"/>
                </a:lnTo>
                <a:lnTo>
                  <a:pt x="91" y="13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6372360" y="132732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4" dur="indefinite" restart="never" nodeType="tmRoot">
          <p:childTnLst>
            <p:seq>
              <p:cTn id="3695" dur="indefinite" nodeType="mainSeq">
                <p:childTnLst>
                  <p:par>
                    <p:cTn id="3696" fill="hold">
                      <p:stCondLst>
                        <p:cond delay="0"/>
                      </p:stCondLst>
                      <p:childTnLst>
                        <p:par>
                          <p:cTn id="3697" fill="hold">
                            <p:stCondLst>
                              <p:cond delay="0"/>
                            </p:stCondLst>
                            <p:childTnLst>
                              <p:par>
                                <p:cTn id="36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00" dur="80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01" dur="80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02" dur="80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3" fill="hold">
                      <p:stCondLst>
                        <p:cond delay="indefinite"/>
                      </p:stCondLst>
                      <p:childTnLst>
                        <p:par>
                          <p:cTn id="3704" fill="hold">
                            <p:stCondLst>
                              <p:cond delay="0"/>
                            </p:stCondLst>
                            <p:childTnLst>
                              <p:par>
                                <p:cTn id="37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7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0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3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6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9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2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5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8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1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4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7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0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3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6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9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2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5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8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1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4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7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0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1" fill="hold">
                      <p:stCondLst>
                        <p:cond delay="indefinite"/>
                      </p:stCondLst>
                      <p:childTnLst>
                        <p:par>
                          <p:cTn id="3772" fill="hold">
                            <p:stCondLst>
                              <p:cond delay="0"/>
                            </p:stCondLst>
                            <p:childTnLst>
                              <p:par>
                                <p:cTn id="37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5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8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1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4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7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90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93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96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99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02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05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08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11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14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17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0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3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6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9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32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35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38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41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6T06:55:03Z</dcterms:created>
  <dc:creator>User</dc:creator>
  <dc:description/>
  <dc:language>en-US</dc:language>
  <cp:lastModifiedBy>Владимир Себешев</cp:lastModifiedBy>
  <dcterms:modified xsi:type="dcterms:W3CDTF">2011-02-11T04:22:23Z</dcterms:modified>
  <cp:revision>94</cp:revision>
  <dc:subject/>
  <dc:title>Слайд 1</dc:title>
</cp:coreProperties>
</file>